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C98-63CA-45AC-B7B8-70F66688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22A-80BE-4D09-85C8-7ECE34E7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91F-EB9C-4D9C-A73A-727A67FC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308-F654-4CC3-A66B-4000C0A4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8083-F181-4C7C-B1FF-F9489A25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6F6-1630-41CB-8A19-9C508AD3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E19-CD3B-47E7-92A5-C5714A08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32B-6BC1-4E18-8554-D9DC25B9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EC7-62D8-4DB7-8649-85ED5CC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5CB2-32AD-45B6-8BA4-28676CE9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64A-8EE5-43D4-80B7-1D93F62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C56F-6637-4531-B6F6-F597F9C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F7FC-102F-4A14-ABED-0952D840681E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785880" y="0"/>
          <a:ext cx="7072200" cy="6858000"/>
        </p:xfrm>
        <a:graphic>
          <a:graphicData uri="http://schemas.openxmlformats.org/drawingml/2006/table">
            <a:tbl>
              <a:tblPr/>
              <a:tblGrid>
                <a:gridCol w="3178080"/>
                <a:gridCol w="963720"/>
                <a:gridCol w="976320"/>
                <a:gridCol w="977760"/>
                <a:gridCol w="976320"/>
              </a:tblGrid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or ve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operacion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ante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(1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dad después de impue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l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 del ejercicio a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5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resid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peración capital de trabaj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jo no operac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lujo de c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1:19:21Z</dcterms:created>
  <dc:creator>Siegfried Cobian Musso</dc:creator>
  <dc:description/>
  <dc:language>en-US</dc:language>
  <cp:lastModifiedBy>Catalina</cp:lastModifiedBy>
  <dcterms:modified xsi:type="dcterms:W3CDTF">2009-09-06T22:50:28Z</dcterms:modified>
  <cp:revision>2</cp:revision>
  <dc:subject/>
  <dc:title>Diapositiva 1</dc:title>
</cp:coreProperties>
</file>