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4F2-3D21-4F97-884E-659F4667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94C-562E-4000-BB05-D4942F8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A10-E187-4668-8A0D-06A13A2B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387-9765-4CD1-AB3A-50BB886F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DC8-27D7-4AD8-B877-4A2B711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C5F-6EC2-44A6-8D97-C31DA66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0E5-31ED-4399-B2C4-827850FA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AD5-A7AB-4EC6-B18E-DCD3DF48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D95-9C8F-4510-97E9-A55E84A3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9E2-1BB7-4015-BA10-A983CD0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082-8E3E-429E-99E0-9F0E4ED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6D4-2783-4220-99B1-9651BE6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FD3-BE66-4AB0-89FC-64F6984C52F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40:10Z</dcterms:created>
  <dc:creator>Siegfried Cobian Musso</dc:creator>
  <dc:description/>
  <dc:language>en-US</dc:language>
  <cp:lastModifiedBy>Catalina</cp:lastModifiedBy>
  <dcterms:modified xsi:type="dcterms:W3CDTF">2009-09-06T22:52:47Z</dcterms:modified>
  <cp:revision>3</cp:revision>
  <dc:subject/>
  <dc:title>Diapositiva 1</dc:title>
</cp:coreProperties>
</file>