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03A-4CAF-4C83-9FCB-A9E5B90E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554-D111-4B4C-9023-3926D43D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DEC-AD6C-4200-A5D2-909F3452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CF4-F3C4-4D82-922B-9E8FE30A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6CD-73BC-42D0-AF0C-BF63A202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3F7-E086-46D9-814C-8D080277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186-4C49-4367-95BF-217BD70C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945-23BB-4B44-84BA-76FEDDB6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807-4E3D-4E38-BF0E-A79FFED4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6BA-0A58-483F-A6F6-247E4B32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791-7E9C-4486-9D50-2DBF6FD1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2E7-80CC-49B5-AFA7-ED80CC5C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8546-9C7B-46C6-9C46-785A7C4EAFD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1:40:10Z</dcterms:created>
  <dc:creator>Siegfried Cobian Musso</dc:creator>
  <dc:description/>
  <dc:language>en-US</dc:language>
  <cp:lastModifiedBy>Catalina</cp:lastModifiedBy>
  <dcterms:modified xsi:type="dcterms:W3CDTF">2009-09-06T22:52:47Z</dcterms:modified>
  <cp:revision>3</cp:revision>
  <dc:subject/>
  <dc:title>Diapositiva 1</dc:title>
</cp:coreProperties>
</file>