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9589-3628-4F7D-9720-CA772A42C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2DD6-67F9-4664-B235-F7F5C2E84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CE63-2E20-4A31-BCFF-5BECDC337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9FB7-FC63-4ACF-9ADB-D8A3749FE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8584-5307-491A-84FF-4AB7D7F58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982F-D34D-4157-BB67-0B87C8136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AFFB-B747-4287-B686-38C7377A7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5019-2F0E-4DCD-A711-BF8EC8C80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D68D-7B76-4031-A504-F43550756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A2FF-2F6E-412E-9DFB-5729BC5A8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2250-25F1-4A00-AE54-BADE0FA61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947F-A393-434A-9179-1D3CD8E97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44D8F-352C-4003-BC31-C9DA840C5769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42920" y="642960"/>
          <a:ext cx="8929800" cy="4500720"/>
        </p:xfrm>
        <a:graphic>
          <a:graphicData uri="http://schemas.openxmlformats.org/drawingml/2006/table">
            <a:tbl>
              <a:tblPr/>
              <a:tblGrid>
                <a:gridCol w="2235240"/>
                <a:gridCol w="609480"/>
                <a:gridCol w="608040"/>
                <a:gridCol w="608040"/>
                <a:gridCol w="609480"/>
                <a:gridCol w="608040"/>
                <a:gridCol w="608040"/>
                <a:gridCol w="609480"/>
                <a:gridCol w="608040"/>
                <a:gridCol w="608040"/>
                <a:gridCol w="609840"/>
                <a:gridCol w="608040"/>
              </a:tblGrid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Ganancia (pérdida) de c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yor cos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sahucio personal man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enor depreci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yor (menor) utilidad bru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mpues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yor (menor) utilidad ne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Ganancia) pérdida de c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enor depreci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Valor resid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142920" y="642960"/>
          <a:ext cx="8929800" cy="4500720"/>
        </p:xfrm>
        <a:graphic>
          <a:graphicData uri="http://schemas.openxmlformats.org/drawingml/2006/table">
            <a:tbl>
              <a:tblPr/>
              <a:tblGrid>
                <a:gridCol w="2235240"/>
                <a:gridCol w="609480"/>
                <a:gridCol w="608040"/>
                <a:gridCol w="608040"/>
                <a:gridCol w="609480"/>
                <a:gridCol w="608040"/>
                <a:gridCol w="608040"/>
                <a:gridCol w="609480"/>
                <a:gridCol w="608040"/>
                <a:gridCol w="608040"/>
                <a:gridCol w="609840"/>
                <a:gridCol w="608040"/>
              </a:tblGrid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Ganancia (pérdida) de c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yor cos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sahucio personal man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enor depreci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yor (menor) utilidad bru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mpues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yor (menor) utilidad ne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Ganancia) pérdida de c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enor depreci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Valor resid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42920" y="642960"/>
          <a:ext cx="8929800" cy="4500720"/>
        </p:xfrm>
        <a:graphic>
          <a:graphicData uri="http://schemas.openxmlformats.org/drawingml/2006/table">
            <a:tbl>
              <a:tblPr/>
              <a:tblGrid>
                <a:gridCol w="2235240"/>
                <a:gridCol w="609480"/>
                <a:gridCol w="608040"/>
                <a:gridCol w="608040"/>
                <a:gridCol w="609480"/>
                <a:gridCol w="608040"/>
                <a:gridCol w="608040"/>
                <a:gridCol w="609480"/>
                <a:gridCol w="608040"/>
                <a:gridCol w="608040"/>
                <a:gridCol w="609840"/>
                <a:gridCol w="608040"/>
              </a:tblGrid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Ganancia (pérdida) de c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yor cos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sahucio personal man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enor depreci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yor (menor) utilidad bru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mpues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yor (menor) utilidad ne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Ganancia) pérdida de c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enor depreci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Valor resid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142920" y="642960"/>
          <a:ext cx="8929800" cy="4500720"/>
        </p:xfrm>
        <a:graphic>
          <a:graphicData uri="http://schemas.openxmlformats.org/drawingml/2006/table">
            <a:tbl>
              <a:tblPr/>
              <a:tblGrid>
                <a:gridCol w="2235240"/>
                <a:gridCol w="609480"/>
                <a:gridCol w="608040"/>
                <a:gridCol w="608040"/>
                <a:gridCol w="609480"/>
                <a:gridCol w="608040"/>
                <a:gridCol w="608040"/>
                <a:gridCol w="609480"/>
                <a:gridCol w="608040"/>
                <a:gridCol w="608040"/>
                <a:gridCol w="609840"/>
                <a:gridCol w="608040"/>
              </a:tblGrid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Ganancia (pérdida) de c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yor cos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sahucio personal man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enor depreci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yor (menor) utilidad bru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mpues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yor (menor) utilidad ne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Ganancia) pérdida de c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enor depreci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Valor resid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42920" y="642960"/>
          <a:ext cx="8929800" cy="4500720"/>
        </p:xfrm>
        <a:graphic>
          <a:graphicData uri="http://schemas.openxmlformats.org/drawingml/2006/table">
            <a:tbl>
              <a:tblPr/>
              <a:tblGrid>
                <a:gridCol w="2235240"/>
                <a:gridCol w="609480"/>
                <a:gridCol w="608040"/>
                <a:gridCol w="608040"/>
                <a:gridCol w="609480"/>
                <a:gridCol w="608040"/>
                <a:gridCol w="608040"/>
                <a:gridCol w="609480"/>
                <a:gridCol w="608040"/>
                <a:gridCol w="608040"/>
                <a:gridCol w="609840"/>
                <a:gridCol w="608040"/>
              </a:tblGrid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Ganancia (pérdida) de c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yor cos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sahucio personal man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enor depreci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yor (menor) utilidad bru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mpues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,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yor (menor) utilidad ne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5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8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8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8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8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8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9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9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9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9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90,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Ganancia) pérdida de c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enor depreci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Valor resid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42920" y="642960"/>
          <a:ext cx="8929800" cy="4500720"/>
        </p:xfrm>
        <a:graphic>
          <a:graphicData uri="http://schemas.openxmlformats.org/drawingml/2006/table">
            <a:tbl>
              <a:tblPr/>
              <a:tblGrid>
                <a:gridCol w="2235240"/>
                <a:gridCol w="609480"/>
                <a:gridCol w="608040"/>
                <a:gridCol w="608040"/>
                <a:gridCol w="609480"/>
                <a:gridCol w="608040"/>
                <a:gridCol w="608040"/>
                <a:gridCol w="609480"/>
                <a:gridCol w="608040"/>
                <a:gridCol w="608040"/>
                <a:gridCol w="609840"/>
                <a:gridCol w="608040"/>
              </a:tblGrid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Ganancia (pérdida) de c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yor cos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sahucio personal man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enor depreci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yor (menor) utilidad bru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mpues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,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yor (menor) utilidad ne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5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8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8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8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8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8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9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9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9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9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90,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Ganancia) pérdida de c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enor depreci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Valor resid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LUJO DE CA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55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6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6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6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6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6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9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9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9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9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70,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1T11:40:10Z</dcterms:created>
  <dc:creator>Siegfried Cobian Musso</dc:creator>
  <dc:description/>
  <dc:language>en-US</dc:language>
  <cp:lastModifiedBy>Catalina</cp:lastModifiedBy>
  <dcterms:modified xsi:type="dcterms:W3CDTF">2009-09-06T22:52:47Z</dcterms:modified>
  <cp:revision>3</cp:revision>
  <dc:subject/>
  <dc:title>Diapositiva 1</dc:title>
</cp:coreProperties>
</file>