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BF9-EDA1-4947-815C-7D5D51B2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49C-FB35-4DE6-A825-E7052672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DD8-4DF3-469F-A308-B95C56B6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5A0-9017-4012-B2AC-F19E1C6E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5E3-99D3-4D08-A0CD-4D2FC12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FED-686F-4075-8E9C-4CBFF8B8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656-439A-445D-8C70-D375F75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1A5-904E-4405-9852-B0A94BF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E70-9EFB-40A2-BAF4-DE5C3FB8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807-A873-4242-9F59-BF30EE6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A44-6DD6-4435-A9EB-5719605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137-5F79-4411-A0D3-12F22F5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C09B-0B26-442F-A487-A97C46D9473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42920" y="642960"/>
          <a:ext cx="8929800" cy="4500720"/>
        </p:xfrm>
        <a:graphic>
          <a:graphicData uri="http://schemas.openxmlformats.org/drawingml/2006/table">
            <a:tbl>
              <a:tblPr/>
              <a:tblGrid>
                <a:gridCol w="2235240"/>
                <a:gridCol w="609480"/>
                <a:gridCol w="608040"/>
                <a:gridCol w="608040"/>
                <a:gridCol w="609480"/>
                <a:gridCol w="608040"/>
                <a:gridCol w="608040"/>
                <a:gridCol w="609480"/>
                <a:gridCol w="608040"/>
                <a:gridCol w="608040"/>
                <a:gridCol w="609840"/>
                <a:gridCol w="608040"/>
              </a:tblGrid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nancia (pérdida)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ahucio personal m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br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or (menor) utilidad n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Ganancia) pérdid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nor depre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40:10Z</dcterms:created>
  <dc:creator>Siegfried Cobian Musso</dc:creator>
  <dc:description/>
  <dc:language>en-US</dc:language>
  <cp:lastModifiedBy>Catalina</cp:lastModifiedBy>
  <dcterms:modified xsi:type="dcterms:W3CDTF">2009-09-06T22:52:47Z</dcterms:modified>
  <cp:revision>3</cp:revision>
  <dc:subject/>
  <dc:title>Diapositiva 1</dc:title>
</cp:coreProperties>
</file>