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F2E9-DB9B-4585-A737-CDE448C40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AE8F-C7D7-49F5-A3DB-A81FDEF63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2995-4F0D-464E-922E-A0B52AE42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DCA9-AD28-4C57-9DD1-F292A99AB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496C-6CE6-4E08-9022-A0B31F5C1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7100-0A44-4606-963B-0AB2ED442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4857-47E3-4281-9772-DBD968280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7328-71BC-4907-B0BC-FEFC1ACE3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9F90-5ECC-4BAD-8F8D-8BBA4A869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73ED-EE1F-45E3-9494-CDCBD162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E48C-7807-4461-A6DC-E133A170D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73E0-B19C-4F77-9A17-9091CFAC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49B58-43CF-44A8-9870-B35E0C96F9E3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85880" y="0"/>
          <a:ext cx="7072200" cy="6858000"/>
        </p:xfrm>
        <a:graphic>
          <a:graphicData uri="http://schemas.openxmlformats.org/drawingml/2006/table">
            <a:tbl>
              <a:tblPr/>
              <a:tblGrid>
                <a:gridCol w="3178080"/>
                <a:gridCol w="963720"/>
                <a:gridCol w="976320"/>
                <a:gridCol w="977760"/>
                <a:gridCol w="976320"/>
              </a:tblGrid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reso por ven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os operacion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tos financier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antes de impues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uesto (15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después de impues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lujo opera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r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resid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ital de trabaj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peración capital de trabaj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ésta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rtiz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no opera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lujo de ca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785880" y="0"/>
          <a:ext cx="7072200" cy="6858000"/>
        </p:xfrm>
        <a:graphic>
          <a:graphicData uri="http://schemas.openxmlformats.org/drawingml/2006/table">
            <a:tbl>
              <a:tblPr/>
              <a:tblGrid>
                <a:gridCol w="3178080"/>
                <a:gridCol w="963720"/>
                <a:gridCol w="976320"/>
                <a:gridCol w="977760"/>
                <a:gridCol w="976320"/>
              </a:tblGrid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reso por ven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os operacion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tos financier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antes de impues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uesto (15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después de impues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lujo opera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r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resid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ital de trabaj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peración capital de trabaj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ésta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rtiz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no opera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lujo de ca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785880" y="0"/>
          <a:ext cx="7072200" cy="6858000"/>
        </p:xfrm>
        <a:graphic>
          <a:graphicData uri="http://schemas.openxmlformats.org/drawingml/2006/table">
            <a:tbl>
              <a:tblPr/>
              <a:tblGrid>
                <a:gridCol w="3178080"/>
                <a:gridCol w="963720"/>
                <a:gridCol w="976320"/>
                <a:gridCol w="977760"/>
                <a:gridCol w="976320"/>
              </a:tblGrid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reso por ven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os operacion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tos financier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antes de impues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uesto (15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después de impues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lujo opera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r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2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resid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ital de trabaj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peración capital de trabaj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ésta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rtiz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no opera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lujo de ca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785880" y="0"/>
          <a:ext cx="7072200" cy="6858000"/>
        </p:xfrm>
        <a:graphic>
          <a:graphicData uri="http://schemas.openxmlformats.org/drawingml/2006/table">
            <a:tbl>
              <a:tblPr/>
              <a:tblGrid>
                <a:gridCol w="3178080"/>
                <a:gridCol w="963720"/>
                <a:gridCol w="976320"/>
                <a:gridCol w="977760"/>
                <a:gridCol w="976320"/>
              </a:tblGrid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reso por ven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os operacion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tos financier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antes de impues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uesto (15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después de impues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lujo opera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r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2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resid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ital de trabaj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peración capital de trabaj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ésta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rtiz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no opera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lujo de ca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785880" y="0"/>
          <a:ext cx="7072200" cy="6858000"/>
        </p:xfrm>
        <a:graphic>
          <a:graphicData uri="http://schemas.openxmlformats.org/drawingml/2006/table">
            <a:tbl>
              <a:tblPr/>
              <a:tblGrid>
                <a:gridCol w="3178080"/>
                <a:gridCol w="963720"/>
                <a:gridCol w="976320"/>
                <a:gridCol w="977760"/>
                <a:gridCol w="976320"/>
              </a:tblGrid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reso por ven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os operacion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tos financier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antes de impues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uesto (15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después de impues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lujo opera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r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2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resid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ital de trabaj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peración capital de trabaj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ésta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rtiz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no opera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lujo de ca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785880" y="0"/>
          <a:ext cx="7072200" cy="6858000"/>
        </p:xfrm>
        <a:graphic>
          <a:graphicData uri="http://schemas.openxmlformats.org/drawingml/2006/table">
            <a:tbl>
              <a:tblPr/>
              <a:tblGrid>
                <a:gridCol w="3178080"/>
                <a:gridCol w="963720"/>
                <a:gridCol w="976320"/>
                <a:gridCol w="977760"/>
                <a:gridCol w="976320"/>
              </a:tblGrid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reso por ven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os operacion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tos financier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antes de impues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uesto (15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6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después de impues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lujo opera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r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2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resid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ital de trabaj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peración capital de trabaj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ésta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rtiz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no opera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lujo de ca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785880" y="0"/>
          <a:ext cx="7072200" cy="6858000"/>
        </p:xfrm>
        <a:graphic>
          <a:graphicData uri="http://schemas.openxmlformats.org/drawingml/2006/table">
            <a:tbl>
              <a:tblPr/>
              <a:tblGrid>
                <a:gridCol w="3178080"/>
                <a:gridCol w="963720"/>
                <a:gridCol w="976320"/>
                <a:gridCol w="977760"/>
                <a:gridCol w="976320"/>
              </a:tblGrid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reso por ven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os operacion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tos financier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antes de impues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uesto (15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6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después de impues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lujo opera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55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r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2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resid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ital de trabaj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peración capital de trabaj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ésta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rtiz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no opera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lujo de ca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785880" y="0"/>
          <a:ext cx="7072200" cy="6858000"/>
        </p:xfrm>
        <a:graphic>
          <a:graphicData uri="http://schemas.openxmlformats.org/drawingml/2006/table">
            <a:tbl>
              <a:tblPr/>
              <a:tblGrid>
                <a:gridCol w="3178080"/>
                <a:gridCol w="963720"/>
                <a:gridCol w="976320"/>
                <a:gridCol w="977760"/>
                <a:gridCol w="976320"/>
              </a:tblGrid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reso por ven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os operacion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tos financier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antes de impues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uesto (15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6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después de impues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lujo opera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55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r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2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resid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ital de trabaj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peración capital de trabaj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ésta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rtiz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no opera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lujo de ca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-1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-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.6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1T11:19:21Z</dcterms:created>
  <dc:creator>Siegfried Cobian Musso</dc:creator>
  <dc:description/>
  <dc:language>en-US</dc:language>
  <cp:lastModifiedBy>Catalina</cp:lastModifiedBy>
  <dcterms:modified xsi:type="dcterms:W3CDTF">2009-09-06T22:50:28Z</dcterms:modified>
  <cp:revision>2</cp:revision>
  <dc:subject/>
  <dc:title>Diapositiva 1</dc:title>
</cp:coreProperties>
</file>