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7BE-6974-4F3C-A36D-F7C22C7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488-FA18-43D6-AFBA-4FA1A3F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371-8842-4FFD-BFB1-0E208CCB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703-9A9B-4678-B509-938A73F3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0BD-1254-483F-A3FE-91BB8DBF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F96-E987-4AC9-BC05-C210AB1F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54B-9918-4DED-8E04-5201B6CA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152-681D-4144-8009-A5CCCE9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639-EB15-423C-9789-18B4FC4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F21-ECA3-4D69-A801-5B9F0B7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FA2-AEE4-40C4-924F-5BF7D7E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622-B837-420D-92C2-335150F5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3FD-D038-4FD1-A7D0-68957C5E2E9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19:21Z</dcterms:created>
  <dc:creator>Siegfried Cobian Musso</dc:creator>
  <dc:description/>
  <dc:language>en-US</dc:language>
  <cp:lastModifiedBy>Catalina</cp:lastModifiedBy>
  <dcterms:modified xsi:type="dcterms:W3CDTF">2009-09-06T22:50:28Z</dcterms:modified>
  <cp:revision>2</cp:revision>
  <dc:subject/>
  <dc:title>Diapositiva 1</dc:title>
</cp:coreProperties>
</file>