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38D-D366-4975-894E-2CEEAD5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B55-F48C-4B2A-8A67-1EE9BB03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A02-2DB2-4F77-BD3B-63DEA99F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DA3-3044-4D91-8658-B7955CBC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B64-297E-4BDC-9930-1987A80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98A-54E4-49EC-8631-2DBBF071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CEB-E7C5-4C57-A3D8-6EABE8F6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083-E121-457D-8F37-E933EB63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88D-8E15-4731-89E3-4FE481A5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B92-8047-4F70-ABF5-E8C219F7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EFB-307E-49D1-86EF-8EC4CBA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FC1-EB36-4249-AAC6-1237B7C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14B4-7A69-47C2-82C2-BE70044A33E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19:21Z</dcterms:created>
  <dc:creator>Siegfried Cobian Musso</dc:creator>
  <dc:description/>
  <dc:language>en-US</dc:language>
  <cp:lastModifiedBy>Catalina</cp:lastModifiedBy>
  <dcterms:modified xsi:type="dcterms:W3CDTF">2009-09-06T22:50:28Z</dcterms:modified>
  <cp:revision>2</cp:revision>
  <dc:subject/>
  <dc:title>Diapositiva 1</dc:title>
</cp:coreProperties>
</file>