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08B2-5426-4652-A26E-74D89BC1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8C7F-8B6F-4C67-AB52-9F78A861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E7E0-1D55-4D1D-9725-3BA3AD7B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16A7-4EE6-4D95-934A-2A6E0B0C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05CD-74E3-40E1-B54A-59342638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0CAB-B118-4BBC-BBB0-33CAD930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7417-9FD8-4D1F-A944-47F9EA9B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D89-E284-4D55-AD93-225DCCA2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E7C2-56AB-4CA5-AD7F-B58CBBCC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0018-177A-42F1-B694-ADF3B320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9B75-C735-4EB1-AD81-33403BE4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AB57-9612-403F-9381-B1F00E51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824E-6C1F-488C-9BA7-87C783D6AEBE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5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5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1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6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1:19:21Z</dcterms:created>
  <dc:creator>Siegfried Cobian Musso</dc:creator>
  <dc:description/>
  <dc:language>en-US</dc:language>
  <cp:lastModifiedBy>Catalina</cp:lastModifiedBy>
  <dcterms:modified xsi:type="dcterms:W3CDTF">2009-09-06T22:50:28Z</dcterms:modified>
  <cp:revision>2</cp:revision>
  <dc:subject/>
  <dc:title>Diapositiva 1</dc:title>
</cp:coreProperties>
</file>