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D9A-D354-4252-ADEB-0911914A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0A1-E043-4053-992B-51755DE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625-203B-445F-950A-E86AEC1A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732-A62D-48F8-9311-5C38E5E3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89E6-ADEF-44F0-8ECF-B0F1F9B7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1628-07CE-4103-A8AC-183E292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711-7A62-4E3D-A512-4AA66B3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70E-D0B5-43E4-AF9E-ABAE795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2385-2581-4AD8-8D56-88CC5F1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AED2-E825-4649-AB9C-2EFD23F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0299-ED86-4ABA-987F-B350DF4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C3E-220A-419A-8357-80AAC70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5471-DDB2-45F4-8470-9D9201F1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051C-3D13-4535-ADEC-FDD18CB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949F-63CE-4B7A-9D90-DB2C00C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0E25-B6D1-4105-B178-9FE8B65E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667F-67CC-4118-BCBA-AEFC09B9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C7B3-C0C2-4B69-A150-F5CE675C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60AC-2202-4CF2-9358-C9F44609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90BD-1889-4347-A6D0-0883A8C3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8217-9F82-4A52-BED3-FE73BA2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0EBF-D175-41E7-9ED2-D17E6E8D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7D9-5231-45B7-9088-73D883A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15BF-3BA6-4BE3-8A76-7A262AA2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8F4F-41C3-4617-9CF7-5CFBB33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DAEF-7139-4D7E-97B6-8425F6E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54E0-1D9F-430E-807E-1CEA92DB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777A-0AEF-4A7A-8C84-A746102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BC6B-5DCC-4671-B79B-6D745358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A2A3-2DB8-44F9-9585-77DA7C94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DC43-0E10-4004-BEB4-C6BB401A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32BE-4056-43B8-93EE-9C1E136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C92B-7886-48E4-B834-E531702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91B-09D0-4B4F-9A33-024C5540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7F1C0-75E9-483A-9357-7CE88BD3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65FF-0FE9-4EB9-A734-6B57F03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D8CC-714C-4B6F-BD9D-7DE129E9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5061-841F-4B13-87E9-3091FFEC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3558-ABE4-44DC-B6C9-6810556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FF97-825F-4792-8CE1-3A341F1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3E46-D793-4246-8AA0-216CB636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DA74-D79A-4384-AD25-0F1467E2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570D-CFF2-45D5-BA70-90E8023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9BDD-A979-4C8D-A3C7-AEF53680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666-4E31-412C-AFB2-6F8A47D4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AA6E-A235-4B25-86B7-9CA6E216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8710-D8F2-4F0A-898F-18938476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D766B-78B4-4F06-801F-6FA2D0D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1124-A991-4423-8D5F-546885CD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377A-5CBD-4567-B7E5-F7115A06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AE70-5C7D-4977-915B-A61F57D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6ECD-D2F0-44FB-83EF-974E8FA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91D8-5552-4A92-9805-B4FDAFB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5C76-180F-4FA3-9AA1-656F782E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1E5F-ECA4-4EA9-8332-ECB57536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79D-0441-454D-B484-F4E779A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7BBC-B366-406D-9969-3965E1D3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FCF2-EA47-4162-AD35-D207FC4D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1D24F-4F28-43B4-9645-F8EDE41C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A071-8F52-449D-B705-8C6B9115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4B286-B7DD-47A5-87FA-A8DF0AE7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DEA49-F794-4FAD-83DF-ECC32E1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2828-9DB6-4298-A58B-1C8C81F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B8EF-AA93-4D82-B8C6-46AE1442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8FD5-1510-4DC2-80F4-B10C989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03EA-55A8-4FDD-9715-0210DA81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5B8-D8A9-4EE4-9A3B-6413EBF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D9605-24C9-41EA-B234-D3AF456E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4B711-2335-4D39-9E5E-09F4126F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9199E-00CE-4B33-9CB1-6DE28533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C6A1-C09A-49E8-99EC-1044734B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73047-1B34-468F-8254-D50B109E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08782-24CE-4A2D-A35C-DD09F648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D393F-AD49-4815-8F21-319F4A3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EF0E-9402-4203-823B-9B68763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BEB0-AD96-4563-B331-5287076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DBCA7-C91A-4FA8-86F3-32D5F31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BD7-94F7-4764-BF73-2789718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2B085-A142-4DCE-8153-E6432DE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729FE-F422-46EB-B28E-BC449CF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AF0F2-AA08-4F9A-AB92-81F7E84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6FAB-03EE-415C-AAD3-1C480D92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58023-908E-4266-AB30-D52C38C5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A3E-FDCF-4170-ABA4-F76BA53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555C-1483-47C0-B116-5FDA7445EB35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F47B-4441-4AAD-841C-4B5121898095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90C2-7714-428A-B9A0-D2D2E5E8C15C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5F2-6923-4957-87C2-30714E71A417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5528-4CD3-48B8-A6CC-3BED790C4AD6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1808-8C52-46D4-A5CD-0694274483C0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4944-1DA5-4446-90E8-CB42E4F06ABB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ES_tradnl" sz="5400" spc="-1" strike="noStrike">
                <a:solidFill>
                  <a:srgbClr val="572314"/>
                </a:solidFill>
                <a:latin typeface="Gill Sans MT"/>
              </a:rPr>
              <a:t>Caso “Galvanizado”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3 CuadroTexto"/>
          <p:cNvSpPr/>
          <p:nvPr/>
        </p:nvSpPr>
        <p:spPr>
          <a:xfrm>
            <a:off x="1000080" y="6357960"/>
            <a:ext cx="88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IN42A – 6  2009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rofesor : Siegfried Cobian Muss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5715000" y="285840"/>
            <a:ext cx="2806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3 Tabla" descr=""/>
          <p:cNvPicPr/>
          <p:nvPr/>
        </p:nvPicPr>
        <p:blipFill>
          <a:blip r:embed="rId1"/>
          <a:stretch/>
        </p:blipFill>
        <p:spPr>
          <a:xfrm>
            <a:off x="1779480" y="1712880"/>
            <a:ext cx="6230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Gill Sans MT"/>
              </a:rPr>
              <a:t>VAN = 15,31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Pregunta</a:t>
            </a: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Gill Sans MT"/>
              </a:rPr>
              <a:t>¿Cual es mas conveniente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460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lternativa 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43000" y="857160"/>
          <a:ext cx="7429680" cy="6000840"/>
        </p:xfrm>
        <a:graphic>
          <a:graphicData uri="http://schemas.openxmlformats.org/drawingml/2006/table">
            <a:tbl>
              <a:tblPr/>
              <a:tblGrid>
                <a:gridCol w="2400480"/>
                <a:gridCol w="1006200"/>
                <a:gridCol w="1005120"/>
                <a:gridCol w="1006200"/>
                <a:gridCol w="1006560"/>
                <a:gridCol w="1005120"/>
              </a:tblGrid>
              <a:tr h="214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 CuadroTexto"/>
          <p:cNvSpPr/>
          <p:nvPr/>
        </p:nvSpPr>
        <p:spPr>
          <a:xfrm>
            <a:off x="1643040" y="1285920"/>
            <a:ext cx="600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uponiendo Perpetuida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VAN = I + F</a:t>
            </a:r>
            <a:r>
              <a:rPr b="0" lang="es-ES_tradnl" sz="1600" spc="-1" strike="noStrike">
                <a:solidFill>
                  <a:srgbClr val="000000"/>
                </a:solidFill>
                <a:latin typeface="Gill Sans MT"/>
              </a:rPr>
              <a:t>2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/ 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VAN = 3,74 + 2,49/0,08 = 34,86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-2142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lternativa 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3000" y="571680"/>
          <a:ext cx="7715160" cy="6286320"/>
        </p:xfrm>
        <a:graphic>
          <a:graphicData uri="http://schemas.openxmlformats.org/drawingml/2006/table">
            <a:tbl>
              <a:tblPr/>
              <a:tblGrid>
                <a:gridCol w="2494080"/>
                <a:gridCol w="1044360"/>
                <a:gridCol w="1042920"/>
                <a:gridCol w="1044720"/>
                <a:gridCol w="1044720"/>
                <a:gridCol w="1044360"/>
              </a:tblGrid>
              <a:tr h="223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071720" y="0"/>
          <a:ext cx="7858080" cy="6858000"/>
        </p:xfrm>
        <a:graphic>
          <a:graphicData uri="http://schemas.openxmlformats.org/drawingml/2006/table">
            <a:tbl>
              <a:tblPr/>
              <a:tblGrid>
                <a:gridCol w="2539800"/>
                <a:gridCol w="1063800"/>
                <a:gridCol w="1063440"/>
                <a:gridCol w="1063800"/>
                <a:gridCol w="1063440"/>
                <a:gridCol w="1063800"/>
              </a:tblGrid>
              <a:tr h="244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7:54:23Z</dcterms:created>
  <dc:creator>Siegfried Cobian Musso</dc:creator>
  <dc:description/>
  <dc:language>en-US</dc:language>
  <cp:lastModifiedBy>Catalina</cp:lastModifiedBy>
  <dcterms:modified xsi:type="dcterms:W3CDTF">2009-09-06T22:37:52Z</dcterms:modified>
  <cp:revision>6</cp:revision>
  <dc:subject/>
  <dc:title>Caso “Galvanizado”</dc:title>
</cp:coreProperties>
</file>