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F069-4285-4B50-8C5C-B3B1DD9BF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6A4D-501F-41AB-ABD0-5600667E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AEA1-57B7-47B5-9054-1BC611218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73E5-AC8F-422C-B8DD-BF52936E6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650B-16EF-4B5A-B65A-651A77612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15E6-F8EA-4A0D-A2C1-C63B89D4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5D93-28FC-4555-AFF3-237F9ED7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01AE-BB38-4426-A60C-2A8B26E7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12DE-13C5-4A71-8E43-B2FCAC55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8496-EDED-4CFE-AA9B-82276822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AB3E-B097-4418-9673-BBFC1910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8CB6-FD77-455E-9092-88D6548B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4BFB-51D7-4833-8D1A-45B1C709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6737-32EB-4DDB-8D55-CE25FABC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63EA-CBFD-41D2-8F33-9661CD9A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BDC3-D25E-4B7D-B818-3ADABE414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5FC7-3DDB-4742-AC15-B20B5C2F6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D4481-EE94-4D06-B42D-D99CDDB0E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13FF9-AC09-48D3-A09C-13D8893C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006A7-E612-4CA2-ABFC-57145DFD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E7AF5-EEB9-4A77-A43F-E3F047B9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DDF6B-F33B-44E4-8DE0-457895A9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026D-88DD-4CCD-A12E-40D06757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258D7-CDF7-4F74-87F2-D5D590C8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A2170-F181-4CCF-B73D-4E4B93F8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161CB-CE24-43E6-8C9D-82393417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DAF42-91CE-4D5D-AE16-4C01E055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18EBB-766F-4145-AD19-D4330D00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3F0FD-E61A-4378-8B31-756F16E9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5FCCD-F7A0-474E-96D1-82B3B1547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D3E25-608C-407E-B899-F55B6EE0C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52AC6-F729-4322-BBA4-79A7A3FB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5359D-73BD-4307-9AB4-1347DD20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8881-CB18-4BDC-9C44-D3472D6C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F9F3B-E1A1-4EAC-A091-F2621009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62A92-389B-49A2-8C54-2D8FC1AF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5BFB3-24AC-44B4-85AF-A2875CB0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3C1DB-67AB-4081-8001-5EBBE878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DDC79-7650-4E31-B1A8-970D0FEE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D9490-D530-457A-9AF6-32E14381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11E3F-81E6-4678-87C9-474B448A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2A89B-4786-45EC-9D0E-D89D6ABBB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669FD-DA3B-4E0B-A044-2F5E5F1A6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738F1-C6D2-4974-A172-BAD6D5A25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69AD-9AD9-4DF5-A496-6476F03D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B4966-488E-4FC0-8473-8DB56337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39333-697E-447B-A16B-49AFD7E7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40F00-BF09-4604-927F-606BDA8A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5202C-08E7-4905-984A-E7A596A2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3EF8E-8854-4F38-80F6-34F96F20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2F111-A1D5-49D1-8470-F430A36D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84DDB-F8F5-4EC8-A076-4682B7A7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22CAB-A6B6-43C5-92AD-7F86D763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8DA58-35C3-4B4B-A433-ACE2FAB1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74669-B455-481E-9E57-789F43AE1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F6D6-3A19-4BE7-AA77-920448C5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2F76F-BD8D-4CB7-9C3B-708240F1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5BE5C-0CAA-48A4-88AB-F22F3F987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33F4A-2F8F-4A3F-9AD7-FB6F7C71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D50D1-3E40-4A6B-BB24-6A55C6D0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C23E6-7A60-4258-B9E3-45B8B44C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9750E-015E-4F38-857D-EE979BA2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61190-61D0-428F-82C4-A5B88134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E98BC-E21D-414D-9D81-FE7043D8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B5CC5-B648-40B0-9D7B-4A83F702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5C1C9-9DDC-42E3-AE74-B61EC685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0D21-0716-4305-8672-92B3867F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8AC1F-17A8-4A23-B9DB-21C0251C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F4CDA-A56F-41F6-BA42-38EE6C07B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0E64C-8136-4AB3-B4C3-3075896DF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092F6-4253-43B7-B2F3-C08F457D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B48AF-C619-4E69-B69A-D093BCF5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0BDC4-6CC3-4973-B1C5-75828FDF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45D20-2200-492D-8E2C-66723603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99BF2-0F98-41C8-A5C0-66475A9D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92D6B-9776-43C9-9EF4-1C89E66D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E20F8-D935-41F9-843D-FE39B6C3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D4E7-7229-451F-89C8-D3DEE28A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FB6E6-CBCB-4C85-BDC2-6F8932BE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715BC-4A34-46F6-8A37-2A4E328C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387A0-299A-47FA-A9FA-A94A8878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7BD23-D596-4AA9-B21C-63DF5C4C7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B112D-FB89-4870-A2D3-73EB5691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8909-16C0-4913-9773-8AF348F1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DC0C-9718-4B9A-8897-ED92D08741C6}" type="slidenum">
              <a:rPr b="0" lang="es-CL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6E17-7646-413C-84B6-3838767598E3}" type="slidenum">
              <a:rPr b="0" lang="es-CL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03F3-11A8-4BDA-AE59-D504901F0A6A}" type="slidenum">
              <a:rPr b="0" lang="es-CL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CB0E-55FE-4C02-857F-79D972C76C81}" type="slidenum">
              <a:rPr b="0" lang="es-CL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CEDB-759A-407C-9713-1CEBC6646CA0}" type="slidenum">
              <a:rPr b="0" lang="es-CL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ED03-236F-490B-9D6E-B4C5ED4D7FFE}" type="slidenum">
              <a:rPr b="0" lang="es-CL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2EEF-FF0E-4152-8502-B8DDEDA818C4}" type="slidenum">
              <a:rPr b="0" lang="es-CL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4280" y="228600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0" lang="es-ES_tradnl" sz="5400" spc="-1" strike="noStrike">
                <a:solidFill>
                  <a:srgbClr val="572314"/>
                </a:solidFill>
                <a:latin typeface="Gill Sans MT"/>
              </a:rPr>
              <a:t>Caso “Galvanizado”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3 CuadroTexto"/>
          <p:cNvSpPr/>
          <p:nvPr/>
        </p:nvSpPr>
        <p:spPr>
          <a:xfrm>
            <a:off x="1000080" y="6357960"/>
            <a:ext cx="88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Gill Sans MT"/>
              </a:rPr>
              <a:t>IN42A – 6  2009</a:t>
            </a:r>
            <a:r>
              <a:rPr b="0" lang="es-ES_tradn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Gill Sans MT"/>
              </a:rPr>
              <a:t>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Gill Sans MT"/>
              </a:rPr>
              <a:t>Profesor : Siegfried Cobian Muss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5715000" y="285840"/>
            <a:ext cx="28065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3 Tabla" descr=""/>
          <p:cNvPicPr/>
          <p:nvPr/>
        </p:nvPicPr>
        <p:blipFill>
          <a:blip r:embed="rId1"/>
          <a:stretch/>
        </p:blipFill>
        <p:spPr>
          <a:xfrm>
            <a:off x="1779480" y="1712880"/>
            <a:ext cx="62308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"/>
          <p:cNvGraphicFramePr/>
          <p:nvPr/>
        </p:nvGraphicFramePr>
        <p:xfrm>
          <a:off x="1071720" y="142920"/>
          <a:ext cx="7929360" cy="6715080"/>
        </p:xfrm>
        <a:graphic>
          <a:graphicData uri="http://schemas.openxmlformats.org/drawingml/2006/table">
            <a:tbl>
              <a:tblPr/>
              <a:tblGrid>
                <a:gridCol w="2562120"/>
                <a:gridCol w="1073160"/>
                <a:gridCol w="1074600"/>
                <a:gridCol w="1073160"/>
                <a:gridCol w="1073160"/>
                <a:gridCol w="1073160"/>
              </a:tblGrid>
              <a:tr h="2397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6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4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3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1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de ca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1071720" y="142920"/>
          <a:ext cx="7929360" cy="6715080"/>
        </p:xfrm>
        <a:graphic>
          <a:graphicData uri="http://schemas.openxmlformats.org/drawingml/2006/table">
            <a:tbl>
              <a:tblPr/>
              <a:tblGrid>
                <a:gridCol w="2562120"/>
                <a:gridCol w="1073160"/>
                <a:gridCol w="1074600"/>
                <a:gridCol w="1073160"/>
                <a:gridCol w="1073160"/>
                <a:gridCol w="1073160"/>
              </a:tblGrid>
              <a:tr h="2397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6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4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3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1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de ca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4" name=""/>
          <p:cNvGraphicFramePr/>
          <p:nvPr/>
        </p:nvGraphicFramePr>
        <p:xfrm>
          <a:off x="1071720" y="142920"/>
          <a:ext cx="7929360" cy="6715080"/>
        </p:xfrm>
        <a:graphic>
          <a:graphicData uri="http://schemas.openxmlformats.org/drawingml/2006/table">
            <a:tbl>
              <a:tblPr/>
              <a:tblGrid>
                <a:gridCol w="2562120"/>
                <a:gridCol w="1073160"/>
                <a:gridCol w="1074600"/>
                <a:gridCol w="1073160"/>
                <a:gridCol w="1073160"/>
                <a:gridCol w="1073160"/>
              </a:tblGrid>
              <a:tr h="2397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6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4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3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1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5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6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8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9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8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8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8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2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7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8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7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0</a:t>
                      </a: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de ca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1071720" y="142920"/>
          <a:ext cx="7929360" cy="6715080"/>
        </p:xfrm>
        <a:graphic>
          <a:graphicData uri="http://schemas.openxmlformats.org/drawingml/2006/table">
            <a:tbl>
              <a:tblPr/>
              <a:tblGrid>
                <a:gridCol w="2562120"/>
                <a:gridCol w="1073160"/>
                <a:gridCol w="1074600"/>
                <a:gridCol w="1073160"/>
                <a:gridCol w="1073160"/>
                <a:gridCol w="1073160"/>
              </a:tblGrid>
              <a:tr h="2397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6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4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3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1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5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6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8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9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8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8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8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2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7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8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7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3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3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2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9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0</a:t>
                      </a: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de ca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6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7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8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9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Gill Sans MT"/>
              </a:rPr>
              <a:t>VAN = 15,31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Pregunta</a:t>
            </a: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Gill Sans MT"/>
              </a:rPr>
              <a:t>¿Cual es mas conveniente?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74600" y="-36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Alternativa 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143000" y="857160"/>
          <a:ext cx="7429680" cy="6000840"/>
        </p:xfrm>
        <a:graphic>
          <a:graphicData uri="http://schemas.openxmlformats.org/drawingml/2006/table">
            <a:tbl>
              <a:tblPr/>
              <a:tblGrid>
                <a:gridCol w="2400480"/>
                <a:gridCol w="1006200"/>
                <a:gridCol w="1005120"/>
                <a:gridCol w="1006200"/>
                <a:gridCol w="1006560"/>
                <a:gridCol w="1005120"/>
              </a:tblGrid>
              <a:tr h="2145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7%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operac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de caj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1143000" y="142920"/>
          <a:ext cx="7643880" cy="6572160"/>
        </p:xfrm>
        <a:graphic>
          <a:graphicData uri="http://schemas.openxmlformats.org/drawingml/2006/table">
            <a:tbl>
              <a:tblPr/>
              <a:tblGrid>
                <a:gridCol w="2470320"/>
                <a:gridCol w="1035000"/>
                <a:gridCol w="1035000"/>
                <a:gridCol w="1033560"/>
                <a:gridCol w="1035000"/>
                <a:gridCol w="1035000"/>
              </a:tblGrid>
              <a:tr h="2350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s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de ca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1143000" y="142920"/>
          <a:ext cx="7643880" cy="6572160"/>
        </p:xfrm>
        <a:graphic>
          <a:graphicData uri="http://schemas.openxmlformats.org/drawingml/2006/table">
            <a:tbl>
              <a:tblPr/>
              <a:tblGrid>
                <a:gridCol w="2470320"/>
                <a:gridCol w="1035000"/>
                <a:gridCol w="1035000"/>
                <a:gridCol w="1033560"/>
                <a:gridCol w="1035000"/>
                <a:gridCol w="1035000"/>
              </a:tblGrid>
              <a:tr h="2350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s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7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7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de ca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7643880" cy="6572160"/>
        </p:xfrm>
        <a:graphic>
          <a:graphicData uri="http://schemas.openxmlformats.org/drawingml/2006/table">
            <a:tbl>
              <a:tblPr/>
              <a:tblGrid>
                <a:gridCol w="2470320"/>
                <a:gridCol w="1035000"/>
                <a:gridCol w="1035000"/>
                <a:gridCol w="1033560"/>
                <a:gridCol w="1035000"/>
                <a:gridCol w="1035000"/>
              </a:tblGrid>
              <a:tr h="2350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s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7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7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de ca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2 CuadroTexto"/>
          <p:cNvSpPr/>
          <p:nvPr/>
        </p:nvSpPr>
        <p:spPr>
          <a:xfrm>
            <a:off x="1643040" y="1285920"/>
            <a:ext cx="6000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Suponiendo Perpetuida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VAN = I + F</a:t>
            </a:r>
            <a:r>
              <a:rPr b="0" lang="es-ES_tradnl" sz="1600" spc="-1" strike="noStrike">
                <a:solidFill>
                  <a:srgbClr val="000000"/>
                </a:solidFill>
                <a:latin typeface="Gill Sans MT"/>
              </a:rPr>
              <a:t>2 </a:t>
            </a: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/ 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ill Sans MT"/>
              </a:rPr>
              <a:t>VAN = 3,74 + 2,49/0,08 = 34,865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2640" y="-21420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572314"/>
                </a:solidFill>
                <a:latin typeface="Gill Sans MT"/>
              </a:rPr>
              <a:t>Alternativa B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143000" y="571680"/>
          <a:ext cx="7715160" cy="6286320"/>
        </p:xfrm>
        <a:graphic>
          <a:graphicData uri="http://schemas.openxmlformats.org/drawingml/2006/table">
            <a:tbl>
              <a:tblPr/>
              <a:tblGrid>
                <a:gridCol w="2494080"/>
                <a:gridCol w="1044360"/>
                <a:gridCol w="1042920"/>
                <a:gridCol w="1044720"/>
                <a:gridCol w="1044720"/>
                <a:gridCol w="1044360"/>
              </a:tblGrid>
              <a:tr h="2235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de ca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"/>
          <p:cNvGraphicFramePr/>
          <p:nvPr/>
        </p:nvGraphicFramePr>
        <p:xfrm>
          <a:off x="1071720" y="0"/>
          <a:ext cx="7858080" cy="6858000"/>
        </p:xfrm>
        <a:graphic>
          <a:graphicData uri="http://schemas.openxmlformats.org/drawingml/2006/table">
            <a:tbl>
              <a:tblPr/>
              <a:tblGrid>
                <a:gridCol w="2539800"/>
                <a:gridCol w="1063800"/>
                <a:gridCol w="1063440"/>
                <a:gridCol w="1063800"/>
                <a:gridCol w="1063440"/>
                <a:gridCol w="1063800"/>
              </a:tblGrid>
              <a:tr h="2444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s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de ca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1071720" y="142920"/>
          <a:ext cx="7929360" cy="6715080"/>
        </p:xfrm>
        <a:graphic>
          <a:graphicData uri="http://schemas.openxmlformats.org/drawingml/2006/table">
            <a:tbl>
              <a:tblPr/>
              <a:tblGrid>
                <a:gridCol w="2562120"/>
                <a:gridCol w="1073160"/>
                <a:gridCol w="1074600"/>
                <a:gridCol w="1073160"/>
                <a:gridCol w="1073160"/>
                <a:gridCol w="1073160"/>
              </a:tblGrid>
              <a:tr h="2397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7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de ca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17:54:23Z</dcterms:created>
  <dc:creator>Siegfried Cobian Musso</dc:creator>
  <dc:description/>
  <dc:language>en-US</dc:language>
  <cp:lastModifiedBy>Catalina</cp:lastModifiedBy>
  <dcterms:modified xsi:type="dcterms:W3CDTF">2009-09-06T22:37:52Z</dcterms:modified>
  <cp:revision>6</cp:revision>
  <dc:subject/>
  <dc:title>Caso “Galvanizado”</dc:title>
</cp:coreProperties>
</file>