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3CB-63BE-4C93-8772-1C93DAF9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28B-35A7-4FE6-9F76-860F6847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313-904E-48B7-8FD1-61CCACD6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695-4AB5-423E-9EAD-0B8963CB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42B5-3ABA-465E-9D0C-4EB2570F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2DB7-22A3-432D-8434-7C403B31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6B35-5AA6-4D10-B84F-720D8296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E2EB-F72F-4EE9-8A5B-EE60315C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3A6A-F0E4-40BA-B45D-A68344D9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4661-E7AB-47BF-B646-18586BF9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5474-9229-41B8-AA3E-83715983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EF4-F9F4-4248-BFB9-9595E1AB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B5CD-4378-4132-97FF-BAF2D2C5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98BD-6C61-4E9D-A9B7-C6B978A4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03A0-4D8B-4C95-ABB4-0A342B3A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6B06-9529-4C95-8C19-1B598053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1119-F33C-4068-926E-5FD78C4A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BB02F-B118-4184-8F55-48A494E7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BD30-141B-4C04-93F2-809D5465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66F1-3256-428B-8584-B5FC4D97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CD51-E2DD-43FA-885B-DFBA45BE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3FE79-1C1A-4C18-BA1F-7D489B24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D4C-7967-418A-8366-32880A2C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D075-B37F-4CF0-8BCF-A8884B3E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FA707-2847-464F-9681-66B2B1F2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B02C-C771-45F0-8001-3D0F2DFA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A9B16-6740-4ACD-B46B-BAA84DDD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A8A7A-CDA3-4B46-B98A-215EA64D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02258-1298-4D0B-99AF-C736F3F4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934ED-23C2-42BA-9EBC-69BDFFA0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72CC6-88E8-4DD0-A777-64804BAE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6B4F-AAF0-425E-B21A-A68520BE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8B40C-2923-46CC-81AF-EA2E3A84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135-FE9F-44C6-98E6-D62AE643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28A5E-DE6D-4622-B180-013EC184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63BDB-0E41-4ABC-8FB7-406EA03F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E8795-2577-4210-85CE-51019AB0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93C0-AFB4-40E8-9C9F-C623ADA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1FCAB-7D31-486B-A855-19151983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19EAA-2281-470C-9275-51DE8829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0FDC4-C488-42FF-BD1A-D7B940F6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A9B41-626B-4562-AFA2-A4401170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B8C01-C4F8-4FEF-939E-7ECB841A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F215C-B6EC-4073-9835-137C5865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C3D-614A-442B-BF16-250279FC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6715F-FADB-477A-A48A-B40D9B45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F6AA0-02EF-4211-81D1-8E4F9B1C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CF9C3-C99A-4B44-9291-13380B3C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EC0B7-28B6-4EE6-8BB8-71561264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CAC6C-DBE9-494B-9057-1F947F07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AF1DD-1948-43C9-B6E8-25B2BD03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F4DBF-9E99-482D-B690-88D60079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F2EC0-4CDB-419B-8586-D8C6CAB5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882AB-F910-401C-B3EA-CB8393A2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1FFC6-503F-40CC-86B7-A08853CE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A6C-23CD-4849-8C60-AF092B89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FB74-CDAB-46F3-98BF-4B12D303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EB638-D090-4E66-9338-EFBA8B4B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D2CBF-D2D3-476B-8643-CFC91EE6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63CC3-7DEA-42AA-917F-563AB050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6A0F7-0B3C-4BF4-A341-01C4CB8C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961A4-6CF0-4F5D-A12B-2365B663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E4F09-D43A-4057-AC9F-10525937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06199-3279-47C1-93BD-730F5633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37FBF-4B46-4D69-98EF-CCE12BF3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2AA50-171A-40D5-AB5D-F126804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D4E-BF28-4549-B785-0A90A2BE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4836-DA7B-4ED0-9D07-CB5FCD85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E554D-C900-4782-94EB-CC0354A0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866E5-A739-44D9-B0CF-BB91F8BC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92CA3-18DD-4373-97C5-E4022406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A27B4-597A-4BBF-BC8A-2C69292F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22E9D-7BEE-4086-8C6D-405B50FA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07685-13BC-4F85-84D4-871A0531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68688-9FEB-47EB-AC16-9BC328DB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7B9F8-99E6-4AA7-89FA-D584C475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EB3A0-7DCE-42E1-B2E9-91A85089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2F5-AB1A-4CB1-89E5-4C3194A4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034C5-E50D-4A22-B8A9-1D055EAE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12D25-7C13-49F4-BBFE-F30D44A3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1A9FB-20B6-4C44-98B5-05244DF1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1531F-FBDE-4631-A5AB-8AB3FD74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5CD26-9DF7-4DE7-B35B-31283819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A21-710F-49C0-A67F-01F7C573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A06B-21F8-4EBC-9BE7-2A2DB78C16C7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AE9E-99D3-45A5-A109-97BB07BD6629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81B6-C226-4EE0-BBF3-5408043EBB0A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3143-AAE2-4B85-89C5-B68E03415DFE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97B0-4DC4-4AD5-A550-8FDB4C1D8BCE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97FD-FAA3-44B2-86FA-120764B36FC6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ACE9-0C51-4FE9-B954-3AA7B1BD2B7F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2286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s-ES_tradnl" sz="5400" spc="-1" strike="noStrike">
                <a:solidFill>
                  <a:srgbClr val="572314"/>
                </a:solidFill>
                <a:latin typeface="Gill Sans MT"/>
              </a:rPr>
              <a:t>Caso “Galvanizado”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3 CuadroTexto"/>
          <p:cNvSpPr/>
          <p:nvPr/>
        </p:nvSpPr>
        <p:spPr>
          <a:xfrm>
            <a:off x="1000080" y="6357960"/>
            <a:ext cx="88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IN42A – 6  2009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Profesor : Siegfried Cobian Muss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5715000" y="285840"/>
            <a:ext cx="28065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3 Tabla" descr=""/>
          <p:cNvPicPr/>
          <p:nvPr/>
        </p:nvPicPr>
        <p:blipFill>
          <a:blip r:embed="rId1"/>
          <a:stretch/>
        </p:blipFill>
        <p:spPr>
          <a:xfrm>
            <a:off x="1779480" y="1712880"/>
            <a:ext cx="6230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8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Gill Sans MT"/>
              </a:rPr>
              <a:t>VAN = 15,31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Pregunta</a:t>
            </a: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Gill Sans MT"/>
              </a:rPr>
              <a:t>¿Cual es mas conveniente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74600" y="-3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Alternativa 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43000" y="857160"/>
          <a:ext cx="7429680" cy="6000840"/>
        </p:xfrm>
        <a:graphic>
          <a:graphicData uri="http://schemas.openxmlformats.org/drawingml/2006/table">
            <a:tbl>
              <a:tblPr/>
              <a:tblGrid>
                <a:gridCol w="2400480"/>
                <a:gridCol w="1006200"/>
                <a:gridCol w="1005120"/>
                <a:gridCol w="1006200"/>
                <a:gridCol w="1006560"/>
                <a:gridCol w="1005120"/>
              </a:tblGrid>
              <a:tr h="214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143000" y="142920"/>
          <a:ext cx="7643880" cy="6572160"/>
        </p:xfrm>
        <a:graphic>
          <a:graphicData uri="http://schemas.openxmlformats.org/drawingml/2006/table">
            <a:tbl>
              <a:tblPr/>
              <a:tblGrid>
                <a:gridCol w="2470320"/>
                <a:gridCol w="1035000"/>
                <a:gridCol w="1035000"/>
                <a:gridCol w="1033560"/>
                <a:gridCol w="1035000"/>
                <a:gridCol w="1035000"/>
              </a:tblGrid>
              <a:tr h="2350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143000" y="142920"/>
          <a:ext cx="7643880" cy="6572160"/>
        </p:xfrm>
        <a:graphic>
          <a:graphicData uri="http://schemas.openxmlformats.org/drawingml/2006/table">
            <a:tbl>
              <a:tblPr/>
              <a:tblGrid>
                <a:gridCol w="2470320"/>
                <a:gridCol w="1035000"/>
                <a:gridCol w="1035000"/>
                <a:gridCol w="1033560"/>
                <a:gridCol w="1035000"/>
                <a:gridCol w="1035000"/>
              </a:tblGrid>
              <a:tr h="2350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7643880" cy="6572160"/>
        </p:xfrm>
        <a:graphic>
          <a:graphicData uri="http://schemas.openxmlformats.org/drawingml/2006/table">
            <a:tbl>
              <a:tblPr/>
              <a:tblGrid>
                <a:gridCol w="2470320"/>
                <a:gridCol w="1035000"/>
                <a:gridCol w="1035000"/>
                <a:gridCol w="1033560"/>
                <a:gridCol w="1035000"/>
                <a:gridCol w="1035000"/>
              </a:tblGrid>
              <a:tr h="2350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2 CuadroTexto"/>
          <p:cNvSpPr/>
          <p:nvPr/>
        </p:nvSpPr>
        <p:spPr>
          <a:xfrm>
            <a:off x="1643040" y="1285920"/>
            <a:ext cx="600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Suponiendo Perpetuida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VAN = I + F</a:t>
            </a:r>
            <a:r>
              <a:rPr b="0" lang="es-ES_tradnl" sz="1600" spc="-1" strike="noStrike">
                <a:solidFill>
                  <a:srgbClr val="000000"/>
                </a:solidFill>
                <a:latin typeface="Gill Sans MT"/>
              </a:rPr>
              <a:t>2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/ 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VAN = 3,74 + 2,49/0,08 = 34,86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-21420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Alternativa B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143000" y="571680"/>
          <a:ext cx="7715160" cy="6286320"/>
        </p:xfrm>
        <a:graphic>
          <a:graphicData uri="http://schemas.openxmlformats.org/drawingml/2006/table">
            <a:tbl>
              <a:tblPr/>
              <a:tblGrid>
                <a:gridCol w="2494080"/>
                <a:gridCol w="1044360"/>
                <a:gridCol w="1042920"/>
                <a:gridCol w="1044720"/>
                <a:gridCol w="1044720"/>
                <a:gridCol w="1044360"/>
              </a:tblGrid>
              <a:tr h="223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1071720" y="0"/>
          <a:ext cx="7858080" cy="6858000"/>
        </p:xfrm>
        <a:graphic>
          <a:graphicData uri="http://schemas.openxmlformats.org/drawingml/2006/table">
            <a:tbl>
              <a:tblPr/>
              <a:tblGrid>
                <a:gridCol w="2539800"/>
                <a:gridCol w="1063800"/>
                <a:gridCol w="1063440"/>
                <a:gridCol w="1063800"/>
                <a:gridCol w="1063440"/>
                <a:gridCol w="1063800"/>
              </a:tblGrid>
              <a:tr h="2444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7:54:23Z</dcterms:created>
  <dc:creator>Siegfried Cobian Musso</dc:creator>
  <dc:description/>
  <dc:language>en-US</dc:language>
  <cp:lastModifiedBy>Catalina</cp:lastModifiedBy>
  <dcterms:modified xsi:type="dcterms:W3CDTF">2009-09-06T22:37:52Z</dcterms:modified>
  <cp:revision>6</cp:revision>
  <dc:subject/>
  <dc:title>Caso “Galvanizado”</dc:title>
</cp:coreProperties>
</file>