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9324-E63B-437F-B525-266DE9C0A569}"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03320" y="728640"/>
            <a:ext cx="4852800" cy="3641760"/>
          </a:xfrm>
          <a:prstGeom prst="rect">
            <a:avLst/>
          </a:prstGeom>
          <a:ln w="0">
            <a:noFill/>
          </a:ln>
        </p:spPr>
      </p:sp>
      <p:sp>
        <p:nvSpPr>
          <p:cNvPr id="46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B87D-D163-486F-A679-E69C418AF0D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38D9-6738-43F2-9216-AA0A0F1DC1A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51D8-3346-45D0-93C6-FE4DBF59121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0D77-73B7-4FCA-B7B9-A616833306A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A62-67DC-445C-92C0-E00B16E11DB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FA97-F566-4262-B070-DDA0514DA70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29F9-A648-4CB1-ABE1-955348DAF59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1D2B-A180-4662-B74B-E0C971177BA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03FC-3864-4D92-B73A-754453E0C50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019A-D34D-44A9-A6A4-1E1A6FDFC0B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4C44-4C32-410C-BC23-77F85ACEB88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03320" y="728640"/>
            <a:ext cx="4852800" cy="3641760"/>
          </a:xfrm>
          <a:prstGeom prst="rect">
            <a:avLst/>
          </a:prstGeom>
          <a:ln w="0">
            <a:noFill/>
          </a:ln>
        </p:spPr>
      </p:sp>
      <p:sp>
        <p:nvSpPr>
          <p:cNvPr id="4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4186-524C-491F-B633-A697D5B30C4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6672-7D04-4247-B62C-27A89306033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23D6-463D-40E3-A3C8-420D9AB547A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4A76-B276-4F8D-BFDD-BD48894C49C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D45E-6E33-4D60-92CB-F4A8C62E2D2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7015-E632-4586-B255-76FB971D8FC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69F0-BFC7-4BD7-8097-F9A858A3B71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27DB-08D7-4869-8AB9-70EC1089C2D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1BB6-C1BA-425F-A045-59D0C3EAE4F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9379-41F4-44B2-8D39-ACEC9CEAD99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5DCF-823C-4A12-96EF-30CBA5E51C3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03320" y="728640"/>
            <a:ext cx="4852800" cy="3641760"/>
          </a:xfrm>
          <a:prstGeom prst="rect">
            <a:avLst/>
          </a:prstGeom>
          <a:ln w="0">
            <a:noFill/>
          </a:ln>
        </p:spPr>
      </p:sp>
      <p:sp>
        <p:nvSpPr>
          <p:cNvPr id="4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0EE8-2CF3-417E-BD9B-DA2F89EF289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E79B-630C-4C81-BC4B-95CE9251020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AF0A-601B-4E62-B4E5-3E43791B51C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11B6-7F07-4CFC-87E9-E7E6A9B010B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9741-5D4A-4F67-A90B-99E98B0CBD1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7E0B-2955-438E-94E7-81AD0AE1D0F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4989-017A-4B37-A467-BD17A4280BE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B14D-D274-4B67-9FF6-78C769C4D4A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597A-FE80-4E4D-9F6E-58E6DB92860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8978-AA37-45CA-A434-FE8EDFEF2A2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32A81-6A15-4662-BB77-656807901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06CE-50B0-46DE-8910-DCDD81E8F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892E3-9B0B-4537-AD33-450BE66C7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9688A-956E-46F5-9E19-924D940A9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C5389-0E18-4D9F-8C2D-6A8B223C6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58AA7-D779-412F-AFD5-187F1BE7A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5218A-1E16-44FD-B486-964EE919B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44A32-2B6F-4811-B7A0-B8031150A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81AE2-D018-4EA9-92FD-C80F97BA9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6E25E-368E-4FA8-B93E-1B4FFFDE7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D4DB-252C-4543-A507-990974E33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1356F-16CD-46AA-9B6C-6F9EB17C6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8E7A-4B30-428A-B956-9026DB4F3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B9DD-00B5-4611-B4B9-C91CAA44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20C1F-FF36-452E-9515-C00FD111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89F97-192B-4326-833A-1D4ED756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6CF41-419F-49AB-A5DE-3BADE8637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C6EDB3-CA5D-4CD7-8A16-2F9666810C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D5E245-DFA7-43C9-8E6E-06FE86991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E32444-ADF8-4124-89C9-29A5A32E4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79D0CF-9E9B-46F4-B66B-CF68C4327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922A19-389E-43BF-8F3C-AF40E2B79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F5DC-3051-4900-83B2-C335B501E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6C8B99-BBB9-4D0E-8226-F82E45D75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9ABA75-8877-4675-B152-674A98B59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179711-B750-4C91-BF2C-6718C8719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A32DB7-3D63-4039-9FC3-04AA22147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DA9F27-7F43-4458-A55E-AE1F42FDA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2859FD-844D-4FA2-A1AC-FD4954872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4DF43B-BF7B-4BA7-9399-8DA869D41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20A124-804B-4A20-8D1E-A67EC88462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7B4CC1-5971-4B39-94E2-8420F07AB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A69244-FE1F-4C81-97EB-7D5F861A2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EC4F-F2E9-4DC2-BFC4-CEBE79DB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F175BA-954B-44E8-9834-F1865CE8D4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87585A-5529-4920-86DB-9ADB6F5CE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FE1322-F986-4102-80FA-6AE6A8D49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1909073-16D3-4B5F-BD23-D38387938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B8EE97-7C68-417E-974E-E3ADF5225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8CD9C1-DCE3-4DBC-94AC-8C02D3F24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2B5B8A-9937-4454-89F2-64B45045F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136B4A8-3D9D-4DC0-AF48-FE7B1F317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7D52F6-03C9-47A8-ABA0-EE9DD94FF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38B018-E210-4385-8F49-A1CAFB2D5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B4BD-8A18-4A49-949E-EEC0EFD7B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333D6B-AE81-459C-A7B4-C513DD41B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600527-6E9D-4B82-BBD0-149F7544C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C8C0F2-8B0E-423F-93DB-1E0BE1D6A3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E91899-389E-4EE0-A401-C8EE6F8AE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15067A-AFFC-42DB-B440-31937FD35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5B7E3D-4E77-430F-AD6C-531CBCF45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54E505-7E9D-4A4E-A786-DD70E79ED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3FCF58-7F83-4A26-BB69-0D5FDA8E4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13FEA9-EED0-4CC9-846D-3EAAE14FA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8137D6-8A80-445E-8CE7-2C7BD7081C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7E3A4-A25F-45E5-BDA8-E188D151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E3BA889-1106-46E1-A72C-4825D7107D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C2A734-5270-4E63-B217-164D0481A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62A2D-1C6C-495A-9492-989218C99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BBC84-BF40-44AF-A683-A5DF0BCCE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55C94-C05E-4A8B-A93E-9C802F51D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58676-EF07-4F49-ACBE-65C8F35B6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4A551-4562-4B9C-89CE-10885DA8F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882AD-E5FD-4EB3-B36A-EA9C653EF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01AC3-3F17-4412-A437-3C3E6DA11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2BAE9-E8C3-48C0-AFB5-E673F5600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91A2-BACF-45E8-A1B9-61C612ADE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9EA63-AD9C-43CF-82DB-834B1F71C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28BA4C-2A7C-41FD-812E-3469E913F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F01E8F-40D1-4073-8E45-05BAD2CF06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DC8A449-2159-4F1B-A3E7-9DBEAE2E3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BA4BC1-1A23-46EB-AAF8-FFC295CFD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525391A-AFF2-4766-8C79-64BF32C5B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3C3196-DFB8-40F3-A610-2EAFC54DF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AC6663-3175-40F4-B11D-A30325733C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81C572-EBBA-4B3F-B9A6-B0D444328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CCF1DA-4144-4FB2-9AAF-90CE914E3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BC3B-AF34-4AF5-A7C8-899EFA6D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ADE9B5-545C-4888-BC2C-103F44560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78BBDE-2299-40AA-819D-D59EDC385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AAAF5F-9E4A-4BBB-8A8D-F4BE9BE28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DEF0E80-91E5-4B2E-8B41-0EA28F8E03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6B279E3-3BF6-42F9-A699-B21A22C3A1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C1C65F-4B5B-4949-B698-609D24C0E4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2EF7A-1088-427F-BEF5-A0F5FCF3B5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2F183F-B978-4534-9D25-E9733ECF4B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1BF61-7525-4B01-B392-79DAC705F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1768D-148A-48C0-9D68-A935C3783A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509D1-6435-434E-BC94-D062876A4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54EC1-28B9-4232-8B95-E63E0DA550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12793-A569-4A9E-A382-6642A0B3B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0CB92-757E-4295-B3E8-224E08436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62AB6-82AD-4E76-B3D8-6D95F5414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45649-8AFF-411E-BF14-0C854F8DA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D0FDF7-4A1B-4E93-A6E1-EA55BCC1C1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89FF49-0612-4E84-B115-DD44CF06A3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247D-44FF-42E4-90DF-E6A379F180F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98C5-ED58-4DFA-B5AC-071963009220}"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039D-06B2-41CA-AF55-BDF2D3EAE1B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E510-0FB8-459D-A033-E15592B7D07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8712-AF6D-4735-AA31-E983BB7A9AB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140F-0CFE-4E34-8AAB-2CF30EE8FA8D}"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D844-E608-4637-90F3-24B11FB15020}"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BCE9-8531-4473-BFE5-805775BBCE4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06"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07"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08"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09"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0"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11"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12" name="23 Conector recto de flecha"/>
          <p:cNvCxnSpPr>
            <a:stCxn id="406"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13" name="28 Conector recto de flecha"/>
          <p:cNvCxnSpPr/>
          <p:nvPr/>
        </p:nvCxnSpPr>
        <p:spPr>
          <a:xfrm flipH="1">
            <a:off x="2712240" y="3714840"/>
            <a:ext cx="2520" cy="396000"/>
          </a:xfrm>
          <a:prstGeom prst="straightConnector1">
            <a:avLst/>
          </a:prstGeom>
          <a:ln w="19080">
            <a:solidFill>
              <a:srgbClr val="a5ab81"/>
            </a:solidFill>
            <a:miter/>
            <a:tailEnd len="med" type="arrow" w="med"/>
          </a:ln>
        </p:spPr>
      </p:cxnSp>
      <p:cxnSp>
        <p:nvCxnSpPr>
          <p:cNvPr id="414" name="29 Conector recto de flecha"/>
          <p:cNvCxnSpPr/>
          <p:nvPr/>
        </p:nvCxnSpPr>
        <p:spPr>
          <a:xfrm flipH="1">
            <a:off x="6713280" y="3714840"/>
            <a:ext cx="2160" cy="396000"/>
          </a:xfrm>
          <a:prstGeom prst="straightConnector1">
            <a:avLst/>
          </a:prstGeom>
          <a:ln w="19080">
            <a:solidFill>
              <a:srgbClr val="a5ab81"/>
            </a:solidFill>
            <a:miter/>
            <a:tailEnd len="med" type="arrow" w="med"/>
          </a:ln>
        </p:spPr>
      </p:cxnSp>
      <p:cxnSp>
        <p:nvCxnSpPr>
          <p:cNvPr id="415" name="30 Conector recto de flecha"/>
          <p:cNvCxnSpPr/>
          <p:nvPr/>
        </p:nvCxnSpPr>
        <p:spPr>
          <a:xfrm flipH="1">
            <a:off x="4642560" y="4711320"/>
            <a:ext cx="2520" cy="361080"/>
          </a:xfrm>
          <a:prstGeom prst="straightConnector1">
            <a:avLst/>
          </a:prstGeom>
          <a:ln w="19080">
            <a:solidFill>
              <a:srgbClr val="dd8047"/>
            </a:solidFill>
            <a:miter/>
            <a:tailEnd len="med" type="arrow" w="med"/>
          </a:ln>
        </p:spPr>
      </p:cxnSp>
      <p:cxnSp>
        <p:nvCxnSpPr>
          <p:cNvPr id="416" name="31 Conector recto de flecha"/>
          <p:cNvCxnSpPr/>
          <p:nvPr/>
        </p:nvCxnSpPr>
        <p:spPr>
          <a:xfrm flipH="1">
            <a:off x="4642560" y="5643360"/>
            <a:ext cx="2520" cy="361080"/>
          </a:xfrm>
          <a:prstGeom prst="straightConnector1">
            <a:avLst/>
          </a:prstGeom>
          <a:ln w="19080">
            <a:solidFill>
              <a:srgbClr val="dd8047"/>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0"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2"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4"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26"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28" name="3 Marcador de contenido" descr=""/>
          <p:cNvPicPr/>
          <p:nvPr/>
        </p:nvPicPr>
        <p:blipFill>
          <a:blip r:embed="rId1"/>
          <a:stretch/>
        </p:blipFill>
        <p:spPr>
          <a:xfrm>
            <a:off x="353880" y="1494000"/>
            <a:ext cx="5364360" cy="5192640"/>
          </a:xfrm>
          <a:prstGeom prst="rect">
            <a:avLst/>
          </a:prstGeom>
          <a:ln w="0">
            <a:noFill/>
          </a:ln>
        </p:spPr>
      </p:pic>
      <p:sp>
        <p:nvSpPr>
          <p:cNvPr id="429"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regunta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Qué es la estrategia de una Empresa? ¿ Por qué deber existir?</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uál es la diferencia entre la misión y la visión de una Empres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ómo una Empresa puede potenciar aquellos recursos o habilidades propias para poder enfrentar mejor una crisis económic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Qué nos quiere decir el modelo de Porter</a:t>
            </a:r>
            <a:r>
              <a:rPr b="0" lang="es-ES" sz="2700" spc="-1" strike="noStrike">
                <a:solidFill>
                  <a:srgbClr val="000000"/>
                </a:solidFill>
                <a:latin typeface="Tw Cen MT"/>
              </a:rPr>
              <a:t>?</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31"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41"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44"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48"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w Cen MT"/>
              </a:rPr>
              <a:t>Análisis Estratégico</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Definiciones previ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Proceso de Planificación Estratégica de Negocios</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Misión del Negocio</a:t>
            </a:r>
            <a:endParaRPr b="0" lang="en-US" sz="23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Externo</a:t>
            </a:r>
            <a:endParaRPr b="0" lang="en-US" sz="2300" spc="-1" strike="noStrike">
              <a:solidFill>
                <a:srgbClr val="000000"/>
              </a:solidFill>
              <a:latin typeface="Tw Cen MT"/>
            </a:endParaRPr>
          </a:p>
          <a:p>
            <a:pPr lvl="3" marL="1371600" indent="-22860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w Cen MT"/>
              </a:rPr>
              <a:t>Modelo de 5 Fuerzas de Porter</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Interno</a:t>
            </a:r>
            <a:endParaRPr b="0" lang="en-US" sz="23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5" name="3 Imagen" descr="j0402778.jpg"/>
          <p:cNvPicPr/>
          <p:nvPr/>
        </p:nvPicPr>
        <p:blipFill>
          <a:blip r:embed="rId1"/>
          <a:stretch/>
        </p:blipFill>
        <p:spPr>
          <a:xfrm>
            <a:off x="6775560" y="4643280"/>
            <a:ext cx="2082600" cy="19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55"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57"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58" name="Picture 2" descr=""/>
          <p:cNvPicPr/>
          <p:nvPr/>
        </p:nvPicPr>
        <p:blipFill>
          <a:blip r:embed="rId1"/>
          <a:stretch/>
        </p:blipFill>
        <p:spPr>
          <a:xfrm>
            <a:off x="6072120" y="6072120"/>
            <a:ext cx="2806920" cy="642960"/>
          </a:xfrm>
          <a:prstGeom prst="rect">
            <a:avLst/>
          </a:prstGeom>
          <a:ln w="0">
            <a:noFill/>
          </a:ln>
        </p:spPr>
      </p:pic>
      <p:pic>
        <p:nvPicPr>
          <p:cNvPr id="459"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69" name="4 Rectángulo"/>
          <p:cNvGrpSpPr/>
          <p:nvPr/>
        </p:nvGrpSpPr>
        <p:grpSpPr>
          <a:xfrm>
            <a:off x="1231920" y="3230640"/>
            <a:ext cx="2243160" cy="682560"/>
            <a:chOff x="1231920" y="3230640"/>
            <a:chExt cx="2243160" cy="682560"/>
          </a:xfrm>
        </p:grpSpPr>
        <p:pic>
          <p:nvPicPr>
            <p:cNvPr id="370" name="4 Rectángulo" descr=""/>
            <p:cNvPicPr/>
            <p:nvPr/>
          </p:nvPicPr>
          <p:blipFill>
            <a:blip r:embed="rId1"/>
            <a:stretch/>
          </p:blipFill>
          <p:spPr>
            <a:xfrm>
              <a:off x="1231920" y="3230640"/>
              <a:ext cx="2243160" cy="682560"/>
            </a:xfrm>
            <a:prstGeom prst="rect">
              <a:avLst/>
            </a:prstGeom>
            <a:ln w="0">
              <a:noFill/>
            </a:ln>
          </p:spPr>
        </p:pic>
        <p:sp>
          <p:nvSpPr>
            <p:cNvPr id="371"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72"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73"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74"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75" name="8 Rectángulo"/>
          <p:cNvGrpSpPr/>
          <p:nvPr/>
        </p:nvGrpSpPr>
        <p:grpSpPr>
          <a:xfrm>
            <a:off x="5943600" y="5089680"/>
            <a:ext cx="2249640" cy="853920"/>
            <a:chOff x="5943600" y="5089680"/>
            <a:chExt cx="2249640" cy="853920"/>
          </a:xfrm>
        </p:grpSpPr>
        <p:pic>
          <p:nvPicPr>
            <p:cNvPr id="376" name="8 Rectángulo" descr=""/>
            <p:cNvPicPr/>
            <p:nvPr/>
          </p:nvPicPr>
          <p:blipFill>
            <a:blip r:embed="rId2"/>
            <a:stretch/>
          </p:blipFill>
          <p:spPr>
            <a:xfrm>
              <a:off x="5943600" y="5089680"/>
              <a:ext cx="2249640" cy="853920"/>
            </a:xfrm>
            <a:prstGeom prst="rect">
              <a:avLst/>
            </a:prstGeom>
            <a:ln w="0">
              <a:noFill/>
            </a:ln>
          </p:spPr>
        </p:pic>
        <p:sp>
          <p:nvSpPr>
            <p:cNvPr id="377"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78" name="9 Flecha derecha"/>
          <p:cNvGrpSpPr/>
          <p:nvPr/>
        </p:nvGrpSpPr>
        <p:grpSpPr>
          <a:xfrm>
            <a:off x="3517920" y="3591000"/>
            <a:ext cx="1103400" cy="274680"/>
            <a:chOff x="3517920" y="3591000"/>
            <a:chExt cx="1103400" cy="274680"/>
          </a:xfrm>
        </p:grpSpPr>
        <p:pic>
          <p:nvPicPr>
            <p:cNvPr id="379" name="9 Flecha derecha" descr=""/>
            <p:cNvPicPr/>
            <p:nvPr/>
          </p:nvPicPr>
          <p:blipFill>
            <a:blip r:embed="rId3"/>
            <a:stretch/>
          </p:blipFill>
          <p:spPr>
            <a:xfrm>
              <a:off x="3517920" y="3591000"/>
              <a:ext cx="1103400" cy="274680"/>
            </a:xfrm>
            <a:prstGeom prst="rect">
              <a:avLst/>
            </a:prstGeom>
            <a:ln w="0">
              <a:noFill/>
            </a:ln>
          </p:spPr>
        </p:pic>
        <p:sp>
          <p:nvSpPr>
            <p:cNvPr id="380"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10 Flecha derecha"/>
          <p:cNvGrpSpPr/>
          <p:nvPr/>
        </p:nvGrpSpPr>
        <p:grpSpPr>
          <a:xfrm>
            <a:off x="4876920" y="5376960"/>
            <a:ext cx="1103040" cy="334800"/>
            <a:chOff x="4876920" y="5376960"/>
            <a:chExt cx="1103040" cy="334800"/>
          </a:xfrm>
        </p:grpSpPr>
        <p:pic>
          <p:nvPicPr>
            <p:cNvPr id="382" name="10 Flecha derecha" descr=""/>
            <p:cNvPicPr/>
            <p:nvPr/>
          </p:nvPicPr>
          <p:blipFill>
            <a:blip r:embed="rId4"/>
            <a:stretch/>
          </p:blipFill>
          <p:spPr>
            <a:xfrm>
              <a:off x="4876920" y="5376960"/>
              <a:ext cx="1103040" cy="334800"/>
            </a:xfrm>
            <a:prstGeom prst="rect">
              <a:avLst/>
            </a:prstGeom>
            <a:ln w="0">
              <a:noFill/>
            </a:ln>
          </p:spPr>
        </p:pic>
        <p:sp>
          <p:nvSpPr>
            <p:cNvPr id="383"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12 Flecha arriba"/>
          <p:cNvGrpSpPr/>
          <p:nvPr/>
        </p:nvGrpSpPr>
        <p:grpSpPr>
          <a:xfrm>
            <a:off x="2090880" y="2517840"/>
            <a:ext cx="384120" cy="566640"/>
            <a:chOff x="2090880" y="2517840"/>
            <a:chExt cx="384120" cy="566640"/>
          </a:xfrm>
        </p:grpSpPr>
        <p:pic>
          <p:nvPicPr>
            <p:cNvPr id="385" name="12 Flecha arriba" descr=""/>
            <p:cNvPicPr/>
            <p:nvPr/>
          </p:nvPicPr>
          <p:blipFill>
            <a:blip r:embed="rId5"/>
            <a:stretch/>
          </p:blipFill>
          <p:spPr>
            <a:xfrm>
              <a:off x="2090880" y="2517840"/>
              <a:ext cx="384120" cy="566640"/>
            </a:xfrm>
            <a:prstGeom prst="rect">
              <a:avLst/>
            </a:prstGeom>
            <a:ln w="0">
              <a:noFill/>
            </a:ln>
          </p:spPr>
        </p:pic>
        <p:sp>
          <p:nvSpPr>
            <p:cNvPr id="386"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13 Flecha abajo"/>
          <p:cNvGrpSpPr/>
          <p:nvPr/>
        </p:nvGrpSpPr>
        <p:grpSpPr>
          <a:xfrm>
            <a:off x="2157480" y="4091040"/>
            <a:ext cx="317520" cy="450720"/>
            <a:chOff x="2157480" y="4091040"/>
            <a:chExt cx="317520" cy="450720"/>
          </a:xfrm>
        </p:grpSpPr>
        <p:pic>
          <p:nvPicPr>
            <p:cNvPr id="388" name="13 Flecha abajo" descr=""/>
            <p:cNvPicPr/>
            <p:nvPr/>
          </p:nvPicPr>
          <p:blipFill>
            <a:blip r:embed="rId6"/>
            <a:stretch/>
          </p:blipFill>
          <p:spPr>
            <a:xfrm>
              <a:off x="2157480" y="4091040"/>
              <a:ext cx="317520" cy="450720"/>
            </a:xfrm>
            <a:prstGeom prst="rect">
              <a:avLst/>
            </a:prstGeom>
            <a:ln w="0">
              <a:noFill/>
            </a:ln>
          </p:spPr>
        </p:pic>
        <p:sp>
          <p:nvSpPr>
            <p:cNvPr id="389"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395"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397" name="3 Marcador de contenido" descr=""/>
          <p:cNvPicPr/>
          <p:nvPr/>
        </p:nvPicPr>
        <p:blipFill>
          <a:blip r:embed="rId1"/>
          <a:stretch/>
        </p:blipFill>
        <p:spPr>
          <a:xfrm>
            <a:off x="609480" y="1573200"/>
            <a:ext cx="8163000" cy="4595760"/>
          </a:xfrm>
          <a:prstGeom prst="rect">
            <a:avLst/>
          </a:prstGeom>
          <a:ln w="0">
            <a:noFill/>
          </a:ln>
        </p:spPr>
      </p:pic>
      <p:sp>
        <p:nvSpPr>
          <p:cNvPr id="398"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18:24:06Z</dcterms:modified>
  <cp:revision>83</cp:revision>
  <dc:subject/>
  <dc:title>Evaluación de Proyectos</dc:title>
</cp:coreProperties>
</file>