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png" ContentType="image/png"/>
  <Override PartName="/ppt/media/image3.png" ContentType="image/png"/>
  <Override PartName="/ppt/media/image2.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F120-7702-46C3-8F3C-8FF6C321BD69}"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6C49-9DFD-4229-9557-2F928026778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B0AA-2166-4450-B342-1E3F9134792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D10A-4D24-476A-8EE9-B1DF1BAB99B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E5CA-B716-4193-91E5-9DA2E6A42C6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EE15-C723-4176-85A8-9847D537CC6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95DE-FDB2-45CC-8CBB-8EE2FF6D18B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61E2-300C-4145-AF7D-A98527BB77A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4CC3-78EE-4CD5-BEBE-B37E72CE39F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A830-6167-4B88-9D84-21215DFC02B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07E3-303C-4085-8B67-BA941F5C10E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0773-03D7-406F-927A-6239817785A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3E1C-B7AF-4546-A72E-E010850875B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0A9E-3BE8-4E7D-A5D1-A0FEA78478FC}"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DE64-69DE-4B8E-B17F-C9FB6BC2BA2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FF39-9AA9-4B42-99A2-B36C5588EAA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3C8F4-A579-4A1F-956E-9BE80713C17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7FC1-EBF3-49DF-81F9-550185DB9E4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9CAE-4FED-4651-9338-25ADCA501F7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F8E2-200C-4CAC-9C2A-8271E4535C6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B508-5193-4C3F-9F54-7C232579E2D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9E89-4952-42CA-B47C-0A6775B4787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F13F-35E1-4620-9410-9AADE49C20C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42F5-6152-42A2-959E-EF6161B9EA2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003320" y="728640"/>
            <a:ext cx="4852800" cy="3641760"/>
          </a:xfrm>
          <a:prstGeom prst="rect">
            <a:avLst/>
          </a:prstGeom>
          <a:ln w="0">
            <a:noFill/>
          </a:ln>
        </p:spPr>
      </p:sp>
      <p:sp>
        <p:nvSpPr>
          <p:cNvPr id="55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5192-EDF9-4C6E-86ED-54C20C2BE93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003320" y="728640"/>
            <a:ext cx="4852800" cy="3641760"/>
          </a:xfrm>
          <a:prstGeom prst="rect">
            <a:avLst/>
          </a:prstGeom>
          <a:ln w="0">
            <a:noFill/>
          </a:ln>
        </p:spPr>
      </p:sp>
      <p:sp>
        <p:nvSpPr>
          <p:cNvPr id="56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6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820B-8854-47DF-B09F-EE86FD82575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003320" y="728640"/>
            <a:ext cx="4852800" cy="3641760"/>
          </a:xfrm>
          <a:prstGeom prst="rect">
            <a:avLst/>
          </a:prstGeom>
          <a:ln w="0">
            <a:noFill/>
          </a:ln>
        </p:spPr>
      </p:sp>
      <p:sp>
        <p:nvSpPr>
          <p:cNvPr id="56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5C35-7B4B-4A68-80C7-3D51C0B62D9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003320" y="728640"/>
            <a:ext cx="4852800" cy="3641760"/>
          </a:xfrm>
          <a:prstGeom prst="rect">
            <a:avLst/>
          </a:prstGeom>
          <a:ln w="0">
            <a:noFill/>
          </a:ln>
        </p:spPr>
      </p:sp>
      <p:sp>
        <p:nvSpPr>
          <p:cNvPr id="56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6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86A4-4279-4C84-8E10-70C70AC9DB2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003320" y="728640"/>
            <a:ext cx="4852800" cy="3641760"/>
          </a:xfrm>
          <a:prstGeom prst="rect">
            <a:avLst/>
          </a:prstGeom>
          <a:ln w="0">
            <a:noFill/>
          </a:ln>
        </p:spPr>
      </p:sp>
      <p:sp>
        <p:nvSpPr>
          <p:cNvPr id="569"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7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3542-1670-494F-9C6A-02B12E23584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003320" y="728640"/>
            <a:ext cx="4852800" cy="3641760"/>
          </a:xfrm>
          <a:prstGeom prst="rect">
            <a:avLst/>
          </a:prstGeom>
          <a:ln w="0">
            <a:noFill/>
          </a:ln>
        </p:spPr>
      </p:sp>
      <p:sp>
        <p:nvSpPr>
          <p:cNvPr id="57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4C4C-4A49-4EDE-A0A7-7A9E25E3A77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BD9D-93BE-4D22-99C6-AEFFCC00D75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5B4B-3119-45D2-ABE2-A34AF71C814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1FEF-B56D-439F-8AF8-8E04022E007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7C3C-3315-4E86-966E-2D4FDCF79DF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99AB-AB8D-4388-9F7A-24CEC580AAB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2505-7803-42AA-BA4B-2924F21092F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AF1E0-F346-48CB-BEBB-EAE3FCDE1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B06F1-15C2-4F5A-A888-84185F02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AB1D0-B66F-4740-B7C7-4FC488AE7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7F43B-BE95-40BE-B6DE-4F864000F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A8F39-5774-4938-B16F-F115E1E59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15F92-A8B6-4DC8-BBEC-8658615D5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85EEC-D893-4C0B-9560-AED45C678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A7A80-DFE5-4146-BE20-4331EA76A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70A7A-AF12-4F18-BB5E-BE03A3F64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1C743-1ABE-438E-871C-75E6054DA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A3DE2-709A-415F-8D18-FE7BA5393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24211-5E0C-4E99-A843-8A4B8A2B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C3B6F-4982-4EF7-834C-CA6178E26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86759-EE4C-4008-9EE7-9D2A32787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18992-5821-46E6-96B4-E879B3368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8A9C4-13B2-49F9-9AE4-B028E155A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11361-361B-4E06-87A8-4238FFAB6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6FF8CA-702A-4BFB-BD7C-AF8B85FD2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CA7C4D-748B-463E-8AF2-D6F9ABC03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44979E-689E-48C4-97F3-DE317EB02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6DFD34-1E4F-4BFE-A1ED-CF5E7E9D2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41FE0F-CE37-4C12-AB93-ED7A14419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5037-6731-4B16-B895-F8E673205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4EB9300-7006-4A10-8B53-9ED6ED8B5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FC2C2D-CB9B-419B-8C5E-B09C79DA0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D00BFC-4FA5-4269-B86B-AC0DC03DC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61DE8D-CE21-4843-BDA7-0B76A061C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8C0BED-0A11-41B2-B94C-584A3109C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6E5AA3E-71A9-44FA-BB8F-09DFEDC7A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3BA057-A98A-4631-9E2B-3B740CF84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2696C52-9630-4C4F-9B2F-24DAF30CF4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3F7CAF-1E4A-451E-82A4-D7061DB5E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A9895A-6D97-4485-BFF8-AD6002431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B2EC0-03EA-494B-82E6-4F57D5B8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DB03CAB-F485-405C-8EB0-2B616597C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93BCBA-3720-4D4D-95E1-A0EDDE04B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5AA5B61-9957-41BE-8C25-EE1856F85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219CFB-491A-4178-83ED-D46C5FAA6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D72BF7-F33A-4BB0-A3EF-D7C984C85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09C6BC-CA0A-4997-A031-10742EDEC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708C9B-2129-4EDC-A76A-62B0E5C43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D19A22-9AB0-4E1F-B2FC-49C93006B8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5004610-4683-43B0-8427-A4222819D0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70F00F2-BBF3-4DC8-AD34-C4879CEC13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BCA6-65D8-457D-8DC0-73826AE1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EFF841-C0E9-4386-B4F4-114D0ECD0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009B07-3B4A-4EC7-87A2-1DFA44952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EFD67F8-ECF4-4530-872A-B8B5D89CC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379DA8-8086-4B50-B788-AB5924335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176ACD-C446-4D61-A1DB-AF8CE4967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26A92C-C512-4295-9FE6-0FB48CE29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9A85CD-02A2-416C-94E0-E56F69B23F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AAA257-A5A6-460C-A524-4E3B62FB00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5B66D3-ABFE-48A9-9EF3-210336125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2C3B22-68DF-4A89-811C-45D3C18C81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A9B8E-EBB3-406D-9B6B-4EDF6D55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AB7A0C-6D1C-458E-8D57-500CB6CEE2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33F428-FFF2-454C-A05D-5FF5149FC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47DEE-4B79-49C6-A587-477D100B67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C17C6-7D89-4906-A27A-A56E586B3D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E9500-589A-4611-AC2B-E5A410F64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F6A773-0CEA-4B8E-99FD-7476F6BA2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B6526-4463-450E-916D-C04A8E3CB5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E9853-6BD4-40D2-B0C0-FCA463FCA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B8E4B-5352-4843-924E-39B012D76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2F19F-63AA-4538-BB41-35C4DE5B3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C67A-16E2-4AD8-A168-8855081E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A448D-F1E1-4C5B-8846-C90E52260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93BDCA-566B-4123-9D01-0230896A9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1A414-CE6D-4144-909A-BBD7E7C3C4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2F13C3-B46B-444C-85C8-25AC9FF1E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20988B-1C3B-4F38-AB7A-DB97F98F1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9B73B3-72BD-447E-BBB3-E398BD20E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97362C6-52E3-40E0-A345-962A9294C3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192B69-A09C-4BCF-B133-A620DE078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807ECF0-A605-4853-80EA-0EA7A7CEF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9A2C74-A16A-4453-82E0-13D8ED28E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C7F0-E455-491C-A3E8-2EA3066D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87EB40-936C-4D6A-BEAA-4E1562236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70DFB5-E24B-42A4-86EF-25CBD49E9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E2A0AD9-B37C-4980-8214-CC5E4BF4F5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A383D8-2FE3-4479-AC38-B4DEBC7EBB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7ED82EC-D95B-4653-8FA2-D4BB247618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2F210E-C60E-44CB-8F65-ECA450F75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B0486-ACCF-468B-9FB3-35403C7E8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E54B7-DC8F-4F43-97ED-10B5845D4E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3CFA8-6FC6-4E1D-B19B-15AE19A2F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F387C-4ACD-4FDA-988F-E5761B09C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B5BD-7AD8-4722-9700-FDA4C1047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881509-DCC3-427F-8972-00C5D4073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4B9CC-F85F-4BA6-84C5-D62173D18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D3461-3351-4240-B242-641E989EA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DE648-96AB-49ED-83AA-8592F190D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1C4B5-F3A9-41DF-8203-A334B3A3D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04984C-8FB6-4B58-9BC3-31FCE4024F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527903-7AFD-4103-A83F-E779C3424C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2124-7D7C-40E1-BDD1-AC7079ED91D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FF14-977A-4B09-8EA1-91955177227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370E-70A8-4C2C-8C30-42133DA0833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19DA-31FA-4AE2-90F0-3C20839EF8D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1B03-E91E-4B94-8504-23BA72BE537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9A3F-1514-447F-A022-51525B470E7A}"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F2EA-75A2-4722-9450-4570E168CD9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587E-DA06-4D07-867C-7F64290A2EB4}"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735804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MATEMATICAS FINANCIERAS</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214720" y="600048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Prof : Siegfried Cobian Musso</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w Cen MT"/>
              </a:rPr>
              <a:t>  </a:t>
            </a:r>
            <a:r>
              <a:rPr b="0" lang="es-MX" sz="2000" spc="-1" strike="noStrike">
                <a:solidFill>
                  <a:srgbClr val="ffffff"/>
                </a:solidFill>
                <a:latin typeface="Tw Cen MT"/>
              </a:rPr>
              <a:t>IN42A  (scobian@gmail.com)</a:t>
            </a:r>
            <a:endParaRPr b="0" lang="en-US" sz="20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404"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406" name="3 Marcador de contenido" descr=""/>
          <p:cNvPicPr/>
          <p:nvPr/>
        </p:nvPicPr>
        <p:blipFill>
          <a:blip r:embed="rId1"/>
          <a:stretch/>
        </p:blipFill>
        <p:spPr>
          <a:xfrm>
            <a:off x="609480" y="1573200"/>
            <a:ext cx="8163000" cy="4595760"/>
          </a:xfrm>
          <a:prstGeom prst="rect">
            <a:avLst/>
          </a:prstGeom>
          <a:ln w="0">
            <a:noFill/>
          </a:ln>
        </p:spPr>
      </p:pic>
      <p:sp>
        <p:nvSpPr>
          <p:cNvPr id="407"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1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15"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16"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17"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18"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9"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20"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21" name="23 Conector recto de flecha"/>
          <p:cNvCxnSpPr>
            <a:stCxn id="415"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22" name="28 Conector recto de flecha"/>
          <p:cNvCxnSpPr/>
          <p:nvPr/>
        </p:nvCxnSpPr>
        <p:spPr>
          <a:xfrm flipH="1">
            <a:off x="2712240" y="3714840"/>
            <a:ext cx="2520" cy="396000"/>
          </a:xfrm>
          <a:prstGeom prst="straightConnector1">
            <a:avLst/>
          </a:prstGeom>
          <a:ln w="19080">
            <a:solidFill>
              <a:srgbClr val="a5ab81"/>
            </a:solidFill>
            <a:miter/>
            <a:tailEnd len="med" type="triangle" w="med"/>
          </a:ln>
        </p:spPr>
      </p:cxnSp>
      <p:cxnSp>
        <p:nvCxnSpPr>
          <p:cNvPr id="423" name="29 Conector recto de flecha"/>
          <p:cNvCxnSpPr/>
          <p:nvPr/>
        </p:nvCxnSpPr>
        <p:spPr>
          <a:xfrm flipH="1">
            <a:off x="6713280" y="3714840"/>
            <a:ext cx="2160" cy="396000"/>
          </a:xfrm>
          <a:prstGeom prst="straightConnector1">
            <a:avLst/>
          </a:prstGeom>
          <a:ln w="19080">
            <a:solidFill>
              <a:srgbClr val="a5ab81"/>
            </a:solidFill>
            <a:miter/>
            <a:tailEnd len="med" type="arrow" w="med"/>
          </a:ln>
        </p:spPr>
      </p:cxnSp>
      <p:cxnSp>
        <p:nvCxnSpPr>
          <p:cNvPr id="424" name="30 Conector recto de flecha"/>
          <p:cNvCxnSpPr/>
          <p:nvPr/>
        </p:nvCxnSpPr>
        <p:spPr>
          <a:xfrm flipH="1">
            <a:off x="4642560" y="4711320"/>
            <a:ext cx="2520" cy="361080"/>
          </a:xfrm>
          <a:prstGeom prst="straightConnector1">
            <a:avLst/>
          </a:prstGeom>
          <a:ln w="19080">
            <a:solidFill>
              <a:srgbClr val="dd8047"/>
            </a:solidFill>
            <a:miter/>
            <a:tailEnd len="med" type="arrow" w="med"/>
          </a:ln>
        </p:spPr>
      </p:cxnSp>
      <p:cxnSp>
        <p:nvCxnSpPr>
          <p:cNvPr id="425" name="31 Conector recto de flecha"/>
          <p:cNvCxnSpPr/>
          <p:nvPr/>
        </p:nvCxnSpPr>
        <p:spPr>
          <a:xfrm flipH="1">
            <a:off x="4642560" y="5643360"/>
            <a:ext cx="2520" cy="361080"/>
          </a:xfrm>
          <a:prstGeom prst="straightConnector1">
            <a:avLst/>
          </a:prstGeom>
          <a:ln w="19080">
            <a:solidFill>
              <a:srgbClr val="dd8047"/>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27"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9"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1"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Que es Mejor?</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3" name="Picture 2" descr=""/>
          <p:cNvPicPr/>
          <p:nvPr/>
        </p:nvPicPr>
        <p:blipFill>
          <a:blip r:embed="rId1"/>
          <a:srcRect l="8855" t="28526" r="27389" b="12907"/>
          <a:stretch/>
        </p:blipFill>
        <p:spPr>
          <a:xfrm>
            <a:off x="928800" y="2071800"/>
            <a:ext cx="7149960" cy="4071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33"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35"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37" name="3 Marcador de contenido" descr=""/>
          <p:cNvPicPr/>
          <p:nvPr/>
        </p:nvPicPr>
        <p:blipFill>
          <a:blip r:embed="rId1"/>
          <a:stretch/>
        </p:blipFill>
        <p:spPr>
          <a:xfrm>
            <a:off x="353880" y="1494000"/>
            <a:ext cx="5364360" cy="5192640"/>
          </a:xfrm>
          <a:prstGeom prst="rect">
            <a:avLst/>
          </a:prstGeom>
          <a:ln w="0">
            <a:noFill/>
          </a:ln>
        </p:spPr>
      </p:pic>
      <p:sp>
        <p:nvSpPr>
          <p:cNvPr id="438"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40"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50"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53"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5" name=""/>
          <p:cNvSpPr txBox="1"/>
          <p:nvPr/>
        </p:nvSpPr>
        <p:spPr>
          <a:xfrm>
            <a:off x="612720" y="1599840"/>
            <a:ext cx="8153280" cy="39718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ea typeface="Arial"/>
              </a:rPr>
              <a:t>¿ Que es VFMG? ¿Cómo se llega a esa cuot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6" name="Picture 2" descr=""/>
          <p:cNvPicPr/>
          <p:nvPr/>
        </p:nvPicPr>
        <p:blipFill>
          <a:blip r:embed="rId1"/>
          <a:srcRect l="487" t="41380" r="45460" b="31592"/>
          <a:stretch/>
        </p:blipFill>
        <p:spPr>
          <a:xfrm>
            <a:off x="285840" y="2571840"/>
            <a:ext cx="8686800" cy="27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5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57"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9"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64"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66"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67" name="Picture 2" descr=""/>
          <p:cNvPicPr/>
          <p:nvPr/>
        </p:nvPicPr>
        <p:blipFill>
          <a:blip r:embed="rId1"/>
          <a:stretch/>
        </p:blipFill>
        <p:spPr>
          <a:xfrm>
            <a:off x="6072120" y="6072120"/>
            <a:ext cx="2806920" cy="642960"/>
          </a:xfrm>
          <a:prstGeom prst="rect">
            <a:avLst/>
          </a:prstGeom>
          <a:ln w="0">
            <a:noFill/>
          </a:ln>
        </p:spPr>
      </p:pic>
      <p:pic>
        <p:nvPicPr>
          <p:cNvPr id="468"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68"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Que es mejor?</a:t>
            </a:r>
            <a:endParaRPr b="0" lang="en-US" sz="2400" spc="-1" strike="noStrike">
              <a:solidFill>
                <a:srgbClr val="000000"/>
              </a:solidFill>
              <a:latin typeface="Arial"/>
            </a:endParaRPr>
          </a:p>
        </p:txBody>
      </p:sp>
      <p:pic>
        <p:nvPicPr>
          <p:cNvPr id="369" name="Picture 4" descr=""/>
          <p:cNvPicPr/>
          <p:nvPr/>
        </p:nvPicPr>
        <p:blipFill>
          <a:blip r:embed="rId1"/>
          <a:srcRect l="0" t="14064" r="39649" b="27812"/>
          <a:stretch/>
        </p:blipFill>
        <p:spPr>
          <a:xfrm>
            <a:off x="857160" y="2143080"/>
            <a:ext cx="7358040" cy="44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n este capitulo aprenderemos ….</a:t>
            </a:r>
            <a:endParaRPr b="0" lang="en-US" sz="4400" spc="-1" strike="noStrike">
              <a:solidFill>
                <a:srgbClr val="775f55"/>
              </a:solidFill>
              <a:latin typeface="Tw Cen MT"/>
            </a:endParaRPr>
          </a:p>
        </p:txBody>
      </p:sp>
      <p:sp>
        <p:nvSpPr>
          <p:cNvPr id="371" name="7 CuadroTexto"/>
          <p:cNvSpPr/>
          <p:nvPr/>
        </p:nvSpPr>
        <p:spPr>
          <a:xfrm>
            <a:off x="571680" y="1571760"/>
            <a:ext cx="771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ual es la equivalencia?¿ Son lo mismo?</a:t>
            </a:r>
            <a:endParaRPr b="0" lang="en-US" sz="2400" spc="-1" strike="noStrike">
              <a:solidFill>
                <a:srgbClr val="000000"/>
              </a:solidFill>
              <a:latin typeface="Arial"/>
            </a:endParaRPr>
          </a:p>
        </p:txBody>
      </p:sp>
      <p:pic>
        <p:nvPicPr>
          <p:cNvPr id="372" name="Picture 2" descr=""/>
          <p:cNvPicPr/>
          <p:nvPr/>
        </p:nvPicPr>
        <p:blipFill>
          <a:blip r:embed="rId1"/>
          <a:srcRect l="1757" t="6562" r="9765" b="23126"/>
          <a:stretch/>
        </p:blipFill>
        <p:spPr>
          <a:xfrm>
            <a:off x="285840" y="2214720"/>
            <a:ext cx="8215200" cy="407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Valor del Dinero en el Tiempo</a:t>
            </a:r>
            <a:endParaRPr b="0" lang="en-US" sz="4400" spc="-1" strike="noStrike">
              <a:solidFill>
                <a:srgbClr val="775f55"/>
              </a:solidFill>
              <a:latin typeface="Tw Cen MT"/>
            </a:endParaRPr>
          </a:p>
        </p:txBody>
      </p:sp>
      <p:sp>
        <p:nvSpPr>
          <p:cNvPr id="374" name="5 CuadroTexto"/>
          <p:cNvSpPr/>
          <p:nvPr/>
        </p:nvSpPr>
        <p:spPr>
          <a:xfrm>
            <a:off x="642960" y="1714680"/>
            <a:ext cx="814392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8000"/>
                </a:solidFill>
                <a:latin typeface="Arial"/>
              </a:rPr>
              <a:t>“</a:t>
            </a:r>
            <a:r>
              <a:rPr b="1" lang="es-ES" sz="4000" spc="-1" strike="noStrike">
                <a:solidFill>
                  <a:srgbClr val="008000"/>
                </a:solidFill>
                <a:latin typeface="Arial"/>
              </a:rPr>
              <a:t>Un peso hoy vale más que un peso mañana”.</a:t>
            </a:r>
            <a:r>
              <a:rPr b="0" lang="es-E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or qu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78" name="4 Rectángulo"/>
          <p:cNvGrpSpPr/>
          <p:nvPr/>
        </p:nvGrpSpPr>
        <p:grpSpPr>
          <a:xfrm>
            <a:off x="1231920" y="3230640"/>
            <a:ext cx="2243160" cy="682560"/>
            <a:chOff x="1231920" y="3230640"/>
            <a:chExt cx="2243160" cy="682560"/>
          </a:xfrm>
        </p:grpSpPr>
        <p:pic>
          <p:nvPicPr>
            <p:cNvPr id="379" name="4 Rectángulo" descr=""/>
            <p:cNvPicPr/>
            <p:nvPr/>
          </p:nvPicPr>
          <p:blipFill>
            <a:blip r:embed="rId1"/>
            <a:stretch/>
          </p:blipFill>
          <p:spPr>
            <a:xfrm>
              <a:off x="1231920" y="3230640"/>
              <a:ext cx="2243160" cy="682560"/>
            </a:xfrm>
            <a:prstGeom prst="rect">
              <a:avLst/>
            </a:prstGeom>
            <a:ln w="0">
              <a:noFill/>
            </a:ln>
          </p:spPr>
        </p:pic>
        <p:sp>
          <p:nvSpPr>
            <p:cNvPr id="380"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81"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82"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83"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84" name="8 Rectángulo"/>
          <p:cNvGrpSpPr/>
          <p:nvPr/>
        </p:nvGrpSpPr>
        <p:grpSpPr>
          <a:xfrm>
            <a:off x="5943600" y="5089680"/>
            <a:ext cx="2249640" cy="853920"/>
            <a:chOff x="5943600" y="5089680"/>
            <a:chExt cx="2249640" cy="853920"/>
          </a:xfrm>
        </p:grpSpPr>
        <p:pic>
          <p:nvPicPr>
            <p:cNvPr id="385" name="8 Rectángulo" descr=""/>
            <p:cNvPicPr/>
            <p:nvPr/>
          </p:nvPicPr>
          <p:blipFill>
            <a:blip r:embed="rId2"/>
            <a:stretch/>
          </p:blipFill>
          <p:spPr>
            <a:xfrm>
              <a:off x="5943600" y="5089680"/>
              <a:ext cx="2249640" cy="853920"/>
            </a:xfrm>
            <a:prstGeom prst="rect">
              <a:avLst/>
            </a:prstGeom>
            <a:ln w="0">
              <a:noFill/>
            </a:ln>
          </p:spPr>
        </p:pic>
        <p:sp>
          <p:nvSpPr>
            <p:cNvPr id="386"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87" name="9 Flecha derecha"/>
          <p:cNvGrpSpPr/>
          <p:nvPr/>
        </p:nvGrpSpPr>
        <p:grpSpPr>
          <a:xfrm>
            <a:off x="3517920" y="3591000"/>
            <a:ext cx="1103400" cy="274680"/>
            <a:chOff x="3517920" y="3591000"/>
            <a:chExt cx="1103400" cy="274680"/>
          </a:xfrm>
        </p:grpSpPr>
        <p:pic>
          <p:nvPicPr>
            <p:cNvPr id="388" name="9 Flecha derecha" descr=""/>
            <p:cNvPicPr/>
            <p:nvPr/>
          </p:nvPicPr>
          <p:blipFill>
            <a:blip r:embed="rId3"/>
            <a:stretch/>
          </p:blipFill>
          <p:spPr>
            <a:xfrm>
              <a:off x="3517920" y="3591000"/>
              <a:ext cx="1103400" cy="274680"/>
            </a:xfrm>
            <a:prstGeom prst="rect">
              <a:avLst/>
            </a:prstGeom>
            <a:ln w="0">
              <a:noFill/>
            </a:ln>
          </p:spPr>
        </p:pic>
        <p:sp>
          <p:nvSpPr>
            <p:cNvPr id="389"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10 Flecha derecha"/>
          <p:cNvGrpSpPr/>
          <p:nvPr/>
        </p:nvGrpSpPr>
        <p:grpSpPr>
          <a:xfrm>
            <a:off x="4876920" y="5376960"/>
            <a:ext cx="1103040" cy="334800"/>
            <a:chOff x="4876920" y="5376960"/>
            <a:chExt cx="1103040" cy="334800"/>
          </a:xfrm>
        </p:grpSpPr>
        <p:pic>
          <p:nvPicPr>
            <p:cNvPr id="391" name="10 Flecha derecha" descr=""/>
            <p:cNvPicPr/>
            <p:nvPr/>
          </p:nvPicPr>
          <p:blipFill>
            <a:blip r:embed="rId4"/>
            <a:stretch/>
          </p:blipFill>
          <p:spPr>
            <a:xfrm>
              <a:off x="4876920" y="5376960"/>
              <a:ext cx="1103040" cy="334800"/>
            </a:xfrm>
            <a:prstGeom prst="rect">
              <a:avLst/>
            </a:prstGeom>
            <a:ln w="0">
              <a:noFill/>
            </a:ln>
          </p:spPr>
        </p:pic>
        <p:sp>
          <p:nvSpPr>
            <p:cNvPr id="392"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12 Flecha arriba"/>
          <p:cNvGrpSpPr/>
          <p:nvPr/>
        </p:nvGrpSpPr>
        <p:grpSpPr>
          <a:xfrm>
            <a:off x="2090880" y="2517840"/>
            <a:ext cx="384120" cy="566640"/>
            <a:chOff x="2090880" y="2517840"/>
            <a:chExt cx="384120" cy="566640"/>
          </a:xfrm>
        </p:grpSpPr>
        <p:pic>
          <p:nvPicPr>
            <p:cNvPr id="394" name="12 Flecha arriba" descr=""/>
            <p:cNvPicPr/>
            <p:nvPr/>
          </p:nvPicPr>
          <p:blipFill>
            <a:blip r:embed="rId5"/>
            <a:stretch/>
          </p:blipFill>
          <p:spPr>
            <a:xfrm>
              <a:off x="2090880" y="2517840"/>
              <a:ext cx="384120" cy="566640"/>
            </a:xfrm>
            <a:prstGeom prst="rect">
              <a:avLst/>
            </a:prstGeom>
            <a:ln w="0">
              <a:noFill/>
            </a:ln>
          </p:spPr>
        </p:pic>
        <p:sp>
          <p:nvSpPr>
            <p:cNvPr id="395"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13 Flecha abajo"/>
          <p:cNvGrpSpPr/>
          <p:nvPr/>
        </p:nvGrpSpPr>
        <p:grpSpPr>
          <a:xfrm>
            <a:off x="2157480" y="4091040"/>
            <a:ext cx="317520" cy="450720"/>
            <a:chOff x="2157480" y="4091040"/>
            <a:chExt cx="317520" cy="450720"/>
          </a:xfrm>
        </p:grpSpPr>
        <p:pic>
          <p:nvPicPr>
            <p:cNvPr id="397" name="13 Flecha abajo" descr=""/>
            <p:cNvPicPr/>
            <p:nvPr/>
          </p:nvPicPr>
          <p:blipFill>
            <a:blip r:embed="rId6"/>
            <a:stretch/>
          </p:blipFill>
          <p:spPr>
            <a:xfrm>
              <a:off x="2157480" y="4091040"/>
              <a:ext cx="317520" cy="450720"/>
            </a:xfrm>
            <a:prstGeom prst="rect">
              <a:avLst/>
            </a:prstGeom>
            <a:ln w="0">
              <a:noFill/>
            </a:ln>
          </p:spPr>
        </p:pic>
        <p:sp>
          <p:nvSpPr>
            <p:cNvPr id="398"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21:32:45Z</dcterms:modified>
  <cp:revision>86</cp:revision>
  <dc:subject/>
  <dc:title>Evaluación de Proyectos</dc:title>
</cp:coreProperties>
</file>