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F058-7A38-424B-B305-A68660FDB1CA}"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C1AB-3B09-4C31-B9CA-65962293CDC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42EA-2937-4EF6-890B-DC6FECC92AE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8B93-AC3E-48BE-B190-A36099336A4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B3FE-56C1-436E-AB33-0E4F40C7E52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C205-050F-46B9-B0F0-604B48BB36A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9022-36BE-404E-8837-7CBC3DCB8C8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1EE0-D3E9-43D2-A82C-143D677BB42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2C02-EFAF-4BE6-81EB-EEFD3C70FEA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4109-9E24-423B-8FBA-8663948CEB3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113F-4B5B-47CC-A679-BA5E4244F05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D589-CE65-4803-A8D7-B6A6A3194D2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F8E7-5EB1-4B2D-A150-EF0A3306490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5782-6DA6-4410-8726-1BCEFA62BEE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A0E6-B6C0-47AE-BB63-2EBA51C5647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F45B-E6DD-404E-9A69-ED4937A631A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CC46-51FB-4415-AE9F-18E208FE392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BA69-5A7F-4737-8BEB-0C3D6C0D650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A4B0-7078-447D-93B4-C0582079D5C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7B85-F64F-4C77-9143-3A5DF4A05C0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C124-42B2-44DF-8F5F-87315F45BCE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0B69-B50D-44B8-9C15-07610A9094E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373A-3817-44A3-8073-4042EEFE866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F99B-DF73-4EFF-B3CE-3A0B0436E32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003320" y="728640"/>
            <a:ext cx="4852800" cy="3641760"/>
          </a:xfrm>
          <a:prstGeom prst="rect">
            <a:avLst/>
          </a:prstGeom>
          <a:ln w="0">
            <a:noFill/>
          </a:ln>
        </p:spPr>
      </p:sp>
      <p:sp>
        <p:nvSpPr>
          <p:cNvPr id="55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CB60-9DF1-4B39-BD9A-E24FE7D3540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003320" y="728640"/>
            <a:ext cx="4852800" cy="3641760"/>
          </a:xfrm>
          <a:prstGeom prst="rect">
            <a:avLst/>
          </a:prstGeom>
          <a:ln w="0">
            <a:noFill/>
          </a:ln>
        </p:spPr>
      </p:sp>
      <p:sp>
        <p:nvSpPr>
          <p:cNvPr id="56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6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8940-3907-444B-B65B-E0B40C3D569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003320" y="728640"/>
            <a:ext cx="4852800" cy="3641760"/>
          </a:xfrm>
          <a:prstGeom prst="rect">
            <a:avLst/>
          </a:prstGeom>
          <a:ln w="0">
            <a:noFill/>
          </a:ln>
        </p:spPr>
      </p:sp>
      <p:sp>
        <p:nvSpPr>
          <p:cNvPr id="56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B723-594C-4CFF-91A2-D0535172D67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003320" y="728640"/>
            <a:ext cx="4852800" cy="3641760"/>
          </a:xfrm>
          <a:prstGeom prst="rect">
            <a:avLst/>
          </a:prstGeom>
          <a:ln w="0">
            <a:noFill/>
          </a:ln>
        </p:spPr>
      </p:sp>
      <p:sp>
        <p:nvSpPr>
          <p:cNvPr id="56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6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F344-899E-4CB6-910A-BFE04D0637C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003320" y="728640"/>
            <a:ext cx="4852800" cy="3641760"/>
          </a:xfrm>
          <a:prstGeom prst="rect">
            <a:avLst/>
          </a:prstGeom>
          <a:ln w="0">
            <a:noFill/>
          </a:ln>
        </p:spPr>
      </p:sp>
      <p:sp>
        <p:nvSpPr>
          <p:cNvPr id="56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7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09B9-897E-43AD-910F-C72D1CB4500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03320" y="728640"/>
            <a:ext cx="4852800" cy="3641760"/>
          </a:xfrm>
          <a:prstGeom prst="rect">
            <a:avLst/>
          </a:prstGeom>
          <a:ln w="0">
            <a:noFill/>
          </a:ln>
        </p:spPr>
      </p:sp>
      <p:sp>
        <p:nvSpPr>
          <p:cNvPr id="57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186B-3F0C-4511-BF4E-855F7E5D701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61C4-53F3-4C86-AD13-7AFAB6CCA1C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371C-308A-4AAA-B6F4-397A87BF775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E4B4-6225-4A07-8FDF-3AF2DAB624C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7FE4-0448-4907-9810-B5188339304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E69A-9183-4FA8-BA61-71E839ECABF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EDF4-0915-4F2C-8A2A-D80C4B39DC2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6C1B2-DAA4-43ED-81C5-F86DA94B6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A93D-BB48-41A9-AACB-D8624F5D4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EC5CA-96FC-45A1-ACB8-124B58430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74E67-592F-41B1-B5BA-8B531AD9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CBB65-DCBF-4B47-BDFE-D2C298746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BE0CB-AF0C-472A-8F86-E58DD647E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4DD47-DC71-43C7-8D7E-A31E8E231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64A18-1B19-411F-9E5F-D47F97ED4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86C5D-A219-4465-A1D2-5CE6909D5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DD48D-86C1-433E-84C1-766F3D4A5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E8CAB-73B1-4D3C-BF71-CF22978E2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8256-0388-46C5-969B-F7D44DA83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A1E1A-72F4-40D5-BAA2-A858862E4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77526-3ACC-411A-83A4-481DE3EE9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CA2FA-79EC-4DBE-9F3C-27E426E4C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C299D-8EFB-4D73-8FBB-2DFC24A07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9E729-26DD-4225-B1D2-4D5A2880B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B59E92F-9C0D-4DFF-8927-B23031A99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43AAB9-AB31-4F16-8FB3-C272C3914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96F0CE-954E-4B03-95BA-70F665FC15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391967-C45F-4B3E-93C5-000A0209E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D09E4D-20A6-4DB3-B0EF-C443B38C7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02E5C-5FB8-47D9-91BA-C2C77BE1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91DC90-4BE5-4516-BF65-041197654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C6CB54-7BAC-4384-9B7F-4DD5ABCF1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0787B1-160E-4ED7-B1D1-B47F965E1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42605E-E822-435B-BED8-13B168F84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6F824E-1DAF-4109-AFDB-6A858AC5F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2F38F7-E6D2-40F5-BA3E-A50A596589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FEE43BF-243F-4D1B-A440-10B4073E75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8F953FA-AB12-4E7C-A1F1-811FAA2E3D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3AAB8A-C818-4EF8-A4B7-DD6FC2CBF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3C08BA-67A6-4DEA-9BF9-BEFC31AE4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60AD-FD56-4EF3-8615-19C2A8FBD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227DDC-0409-4E25-9FCF-327CC6A9E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C269711-318D-4B57-9FEE-6AAB0A903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82018F-C2FF-4879-9953-2AF0A7AB46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108383-38B3-4691-8F86-0FC944051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B1842F-BF9B-4F37-A1A2-084963D67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663C53-C9B2-433E-9872-554C87CC5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8D19E6-7160-46E4-819E-63A9A8D85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BBD3D89-96AD-4006-9029-6B1B189810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0895E96-B1B3-49B3-B49A-AF551E75D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F09E27B-D032-489C-9FC1-AC6891C36D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89F4-169B-4AB4-9CED-CC0043710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156E8F-773D-420F-90A5-B7E3073B9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138CDF-8758-4492-A8F7-293DC915B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5E09EB-C452-4866-A09E-3AC633861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9CA3D0-4CFD-40EE-976B-FCC8D8066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0CAE1A-002F-4FCF-87F1-44096923FE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A75315-42EA-499C-8125-4B0BD18C4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124CFF-E949-4D5C-8E3D-F346D2720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95AC97-4AF1-4687-851F-5B51A483D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107026-917E-46DD-A6B2-D91142EEC9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1497D29-54DB-4F93-B7D7-A6AE843D9F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EEE81-36B8-4DCC-A019-47DE757F2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66C416-34A9-42E6-B83F-C8607931C6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FD0C58-12F9-46AF-8E41-C6BA9A2936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43401-0708-49EF-B2E6-7C1A3CF325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B5A2D-647A-4D40-92F8-2C778C9AEE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BCBFB-1B25-4F61-A1D3-AEE2064346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637BF-C168-4315-8A90-E3EFD7C68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B5128-CBCE-4E98-AC6B-D5B4F2A7F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E138A-B7F2-4824-8A13-FE663E204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52F29D-F73E-4962-8002-9875C0746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8C5E3-E926-4C13-B407-A136595C1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F1AD-C9A1-4FDD-9CE7-A6D38A002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85844-16BC-4F6F-9D91-B86970373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57336D-A29D-42EE-A712-12FD4E6BE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DDF53F-D9B5-40D9-A8CB-8903188027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977DA8C-27F6-48F4-B44A-0BBB1DD343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19CE1AF-6574-4F78-B60F-D9877F018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26C6396-F975-49DD-9C8F-FCC1643A95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37A424-8299-40B8-92FD-B514AF0BF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DE4665-8045-41E6-BDBA-3CB554BDD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71F4CFC-7DF0-40B2-B626-914A3CE091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97E902A-870D-42FA-8DF7-4810D89D0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7CDA-2299-43DD-A42F-D502F55F3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1E2552-F61B-41C4-8E1A-BA8983DE8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662694-543F-4303-B150-0DFAEE287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CFE7D6B-A795-4C43-A49F-58AA6235B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1F6845F-12D3-4CAC-855A-F3ECCCD1D0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FD58C02-B0C5-49D2-9103-C23EA689A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9A14EB-9B84-4D4C-BAFA-18D0F31C97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B03AB-F7B2-44BB-991D-114708C0AD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4F01A8-A406-4D37-88FD-9F64E4AE1B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CB4644-B2FF-4626-8F33-5DB6637DB4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C6DA44-2EFA-4635-B6F7-152D91E55B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124A-2D25-4C19-B5C1-F514279A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C3B55C-D3FA-4F53-8443-53887B616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8F940-2279-4E34-8EE0-7875780B3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1A63C-EF43-4262-A6D2-A79E1AD040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89CD2-33D6-4404-BEC3-3CA4FD4D3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A4CD5-DDF7-4D3A-A9BF-C74FB486A0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F8C88D-5CBB-4092-A339-84A1865CA1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82014A-BFE0-472A-A0B0-20D17D59B2F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CDFD-1D3D-4855-A6E0-2D8A4B52DC7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DFC4-ED7A-4A8B-9A2F-76CC5C26B0D6}"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3348-5122-4285-B313-8D8DD64D9E50}"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A1A5-2E11-4D3A-AB10-FE352AEBA40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A920-FF37-416C-9F29-0854BCC2E14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2FD7-2F25-4C37-BEB1-8B9E5F01557C}"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1289-2D2C-45B4-86C1-F55D7514577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83FB-05C2-4594-B097-3AA763B0EE3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735804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MATEMATICAS FINANCIERAS</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214720" y="600048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Prof : Siegfried Cobian Musso</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IN42A  (scobian@gmail.com)</a:t>
            </a:r>
            <a:endParaRPr b="0" lang="en-US" sz="20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404"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406" name="3 Marcador de contenido" descr=""/>
          <p:cNvPicPr/>
          <p:nvPr/>
        </p:nvPicPr>
        <p:blipFill>
          <a:blip r:embed="rId1"/>
          <a:stretch/>
        </p:blipFill>
        <p:spPr>
          <a:xfrm>
            <a:off x="609480" y="1573200"/>
            <a:ext cx="8163000" cy="4595760"/>
          </a:xfrm>
          <a:prstGeom prst="rect">
            <a:avLst/>
          </a:prstGeom>
          <a:ln w="0">
            <a:noFill/>
          </a:ln>
        </p:spPr>
      </p:pic>
      <p:sp>
        <p:nvSpPr>
          <p:cNvPr id="407"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15"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16"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17"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18"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9"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20"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21" name="23 Conector recto de flecha"/>
          <p:cNvCxnSpPr>
            <a:stCxn id="415"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22" name="28 Conector recto de flecha"/>
          <p:cNvCxnSpPr/>
          <p:nvPr/>
        </p:nvCxnSpPr>
        <p:spPr>
          <a:xfrm flipH="1">
            <a:off x="2712240" y="3714840"/>
            <a:ext cx="2520" cy="396000"/>
          </a:xfrm>
          <a:prstGeom prst="straightConnector1">
            <a:avLst/>
          </a:prstGeom>
          <a:ln w="19080">
            <a:solidFill>
              <a:srgbClr val="a5ab81"/>
            </a:solidFill>
            <a:miter/>
            <a:tailEnd len="med" type="arrow" w="med"/>
          </a:ln>
        </p:spPr>
      </p:cxnSp>
      <p:cxnSp>
        <p:nvCxnSpPr>
          <p:cNvPr id="423" name="29 Conector recto de flecha"/>
          <p:cNvCxnSpPr/>
          <p:nvPr/>
        </p:nvCxnSpPr>
        <p:spPr>
          <a:xfrm flipH="1">
            <a:off x="6713280" y="3714840"/>
            <a:ext cx="2160" cy="396000"/>
          </a:xfrm>
          <a:prstGeom prst="straightConnector1">
            <a:avLst/>
          </a:prstGeom>
          <a:ln w="19080">
            <a:solidFill>
              <a:srgbClr val="a5ab81"/>
            </a:solidFill>
            <a:miter/>
            <a:tailEnd len="med" type="arrow" w="med"/>
          </a:ln>
        </p:spPr>
      </p:cxnSp>
      <p:cxnSp>
        <p:nvCxnSpPr>
          <p:cNvPr id="424" name="30 Conector recto de flecha"/>
          <p:cNvCxnSpPr/>
          <p:nvPr/>
        </p:nvCxnSpPr>
        <p:spPr>
          <a:xfrm flipH="1">
            <a:off x="4642560" y="4711320"/>
            <a:ext cx="2520" cy="361080"/>
          </a:xfrm>
          <a:prstGeom prst="straightConnector1">
            <a:avLst/>
          </a:prstGeom>
          <a:ln w="19080">
            <a:solidFill>
              <a:srgbClr val="dd8047"/>
            </a:solidFill>
            <a:miter/>
            <a:tailEnd len="med" type="arrow" w="med"/>
          </a:ln>
        </p:spPr>
      </p:cxnSp>
      <p:cxnSp>
        <p:nvCxnSpPr>
          <p:cNvPr id="425" name="31 Conector recto de flecha"/>
          <p:cNvCxnSpPr/>
          <p:nvPr/>
        </p:nvCxnSpPr>
        <p:spPr>
          <a:xfrm flipH="1">
            <a:off x="4642560" y="5643360"/>
            <a:ext cx="2520" cy="361080"/>
          </a:xfrm>
          <a:prstGeom prst="straightConnector1">
            <a:avLst/>
          </a:prstGeom>
          <a:ln w="19080">
            <a:solidFill>
              <a:srgbClr val="dd8047"/>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27"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9"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1"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Que es Mejor?</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3" name="Picture 2" descr=""/>
          <p:cNvPicPr/>
          <p:nvPr/>
        </p:nvPicPr>
        <p:blipFill>
          <a:blip r:embed="rId1"/>
          <a:srcRect l="8855" t="28526" r="27389" b="12907"/>
          <a:stretch/>
        </p:blipFill>
        <p:spPr>
          <a:xfrm>
            <a:off x="928800" y="2071800"/>
            <a:ext cx="7149960" cy="4071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3"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35"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37" name="3 Marcador de contenido" descr=""/>
          <p:cNvPicPr/>
          <p:nvPr/>
        </p:nvPicPr>
        <p:blipFill>
          <a:blip r:embed="rId1"/>
          <a:stretch/>
        </p:blipFill>
        <p:spPr>
          <a:xfrm>
            <a:off x="353880" y="1494000"/>
            <a:ext cx="5364360" cy="5192640"/>
          </a:xfrm>
          <a:prstGeom prst="rect">
            <a:avLst/>
          </a:prstGeom>
          <a:ln w="0">
            <a:noFill/>
          </a:ln>
        </p:spPr>
      </p:pic>
      <p:sp>
        <p:nvSpPr>
          <p:cNvPr id="438"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40"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4"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50"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53"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5" name=""/>
          <p:cNvSpPr txBox="1"/>
          <p:nvPr/>
        </p:nvSpPr>
        <p:spPr>
          <a:xfrm>
            <a:off x="612720" y="1599840"/>
            <a:ext cx="8153280" cy="39718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 Que es VFMG? ¿Cómo se llega a esa cuot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2" descr=""/>
          <p:cNvPicPr/>
          <p:nvPr/>
        </p:nvPicPr>
        <p:blipFill>
          <a:blip r:embed="rId1"/>
          <a:srcRect l="487" t="41380" r="45460" b="31592"/>
          <a:stretch/>
        </p:blipFill>
        <p:spPr>
          <a:xfrm>
            <a:off x="285840" y="2571840"/>
            <a:ext cx="8686800" cy="27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57"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64"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66"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67" name="Picture 2" descr=""/>
          <p:cNvPicPr/>
          <p:nvPr/>
        </p:nvPicPr>
        <p:blipFill>
          <a:blip r:embed="rId1"/>
          <a:stretch/>
        </p:blipFill>
        <p:spPr>
          <a:xfrm>
            <a:off x="6072120" y="6072120"/>
            <a:ext cx="2806920" cy="642960"/>
          </a:xfrm>
          <a:prstGeom prst="rect">
            <a:avLst/>
          </a:prstGeom>
          <a:ln w="0">
            <a:noFill/>
          </a:ln>
        </p:spPr>
      </p:pic>
      <p:pic>
        <p:nvPicPr>
          <p:cNvPr id="468"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8"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Que es mejor?</a:t>
            </a:r>
            <a:endParaRPr b="0" lang="en-US" sz="2400" spc="-1" strike="noStrike">
              <a:solidFill>
                <a:srgbClr val="000000"/>
              </a:solidFill>
              <a:latin typeface="Arial"/>
            </a:endParaRPr>
          </a:p>
        </p:txBody>
      </p:sp>
      <p:pic>
        <p:nvPicPr>
          <p:cNvPr id="369" name="Picture 4" descr=""/>
          <p:cNvPicPr/>
          <p:nvPr/>
        </p:nvPicPr>
        <p:blipFill>
          <a:blip r:embed="rId1"/>
          <a:srcRect l="0" t="14064" r="39649" b="27812"/>
          <a:stretch/>
        </p:blipFill>
        <p:spPr>
          <a:xfrm>
            <a:off x="857160" y="2143080"/>
            <a:ext cx="7358040" cy="44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71"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ual es la equivalencia?¿ Son lo mismo?</a:t>
            </a:r>
            <a:endParaRPr b="0" lang="en-US" sz="2400" spc="-1" strike="noStrike">
              <a:solidFill>
                <a:srgbClr val="000000"/>
              </a:solidFill>
              <a:latin typeface="Arial"/>
            </a:endParaRPr>
          </a:p>
        </p:txBody>
      </p:sp>
      <p:pic>
        <p:nvPicPr>
          <p:cNvPr id="372" name="Picture 2" descr=""/>
          <p:cNvPicPr/>
          <p:nvPr/>
        </p:nvPicPr>
        <p:blipFill>
          <a:blip r:embed="rId1"/>
          <a:srcRect l="1757" t="6562" r="9765" b="23126"/>
          <a:stretch/>
        </p:blipFill>
        <p:spPr>
          <a:xfrm>
            <a:off x="285840" y="2214720"/>
            <a:ext cx="8215200" cy="40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Valor del Dinero en el Tiempo</a:t>
            </a:r>
            <a:endParaRPr b="0" lang="en-US" sz="4400" spc="-1" strike="noStrike">
              <a:solidFill>
                <a:srgbClr val="775f55"/>
              </a:solidFill>
              <a:latin typeface="Tw Cen MT"/>
            </a:endParaRPr>
          </a:p>
        </p:txBody>
      </p:sp>
      <p:sp>
        <p:nvSpPr>
          <p:cNvPr id="374" name="5 CuadroTexto"/>
          <p:cNvSpPr/>
          <p:nvPr/>
        </p:nvSpPr>
        <p:spPr>
          <a:xfrm>
            <a:off x="642960" y="1714680"/>
            <a:ext cx="814392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8000"/>
                </a:solidFill>
                <a:latin typeface="Arial"/>
              </a:rPr>
              <a:t>“</a:t>
            </a:r>
            <a:r>
              <a:rPr b="1" lang="es-ES" sz="4000" spc="-1" strike="noStrike">
                <a:solidFill>
                  <a:srgbClr val="008000"/>
                </a:solidFill>
                <a:latin typeface="Arial"/>
              </a:rPr>
              <a:t>Un peso hoy vale más que un peso mañana”.</a:t>
            </a:r>
            <a:r>
              <a:rPr b="0" lang="es-E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78" name="4 Rectángulo"/>
          <p:cNvGrpSpPr/>
          <p:nvPr/>
        </p:nvGrpSpPr>
        <p:grpSpPr>
          <a:xfrm>
            <a:off x="1231920" y="3230640"/>
            <a:ext cx="2243160" cy="682560"/>
            <a:chOff x="1231920" y="3230640"/>
            <a:chExt cx="2243160" cy="682560"/>
          </a:xfrm>
        </p:grpSpPr>
        <p:pic>
          <p:nvPicPr>
            <p:cNvPr id="379" name="4 Rectángulo" descr=""/>
            <p:cNvPicPr/>
            <p:nvPr/>
          </p:nvPicPr>
          <p:blipFill>
            <a:blip r:embed="rId1"/>
            <a:stretch/>
          </p:blipFill>
          <p:spPr>
            <a:xfrm>
              <a:off x="1231920" y="3230640"/>
              <a:ext cx="2243160" cy="682560"/>
            </a:xfrm>
            <a:prstGeom prst="rect">
              <a:avLst/>
            </a:prstGeom>
            <a:ln w="0">
              <a:noFill/>
            </a:ln>
          </p:spPr>
        </p:pic>
        <p:sp>
          <p:nvSpPr>
            <p:cNvPr id="380"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81"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82"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83"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84" name="8 Rectángulo"/>
          <p:cNvGrpSpPr/>
          <p:nvPr/>
        </p:nvGrpSpPr>
        <p:grpSpPr>
          <a:xfrm>
            <a:off x="5943600" y="5089680"/>
            <a:ext cx="2249640" cy="853920"/>
            <a:chOff x="5943600" y="5089680"/>
            <a:chExt cx="2249640" cy="853920"/>
          </a:xfrm>
        </p:grpSpPr>
        <p:pic>
          <p:nvPicPr>
            <p:cNvPr id="385" name="8 Rectángulo" descr=""/>
            <p:cNvPicPr/>
            <p:nvPr/>
          </p:nvPicPr>
          <p:blipFill>
            <a:blip r:embed="rId2"/>
            <a:stretch/>
          </p:blipFill>
          <p:spPr>
            <a:xfrm>
              <a:off x="5943600" y="5089680"/>
              <a:ext cx="2249640" cy="853920"/>
            </a:xfrm>
            <a:prstGeom prst="rect">
              <a:avLst/>
            </a:prstGeom>
            <a:ln w="0">
              <a:noFill/>
            </a:ln>
          </p:spPr>
        </p:pic>
        <p:sp>
          <p:nvSpPr>
            <p:cNvPr id="386"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87" name="9 Flecha derecha"/>
          <p:cNvGrpSpPr/>
          <p:nvPr/>
        </p:nvGrpSpPr>
        <p:grpSpPr>
          <a:xfrm>
            <a:off x="3517920" y="3591000"/>
            <a:ext cx="1103400" cy="274680"/>
            <a:chOff x="3517920" y="3591000"/>
            <a:chExt cx="1103400" cy="274680"/>
          </a:xfrm>
        </p:grpSpPr>
        <p:pic>
          <p:nvPicPr>
            <p:cNvPr id="388" name="9 Flecha derecha" descr=""/>
            <p:cNvPicPr/>
            <p:nvPr/>
          </p:nvPicPr>
          <p:blipFill>
            <a:blip r:embed="rId3"/>
            <a:stretch/>
          </p:blipFill>
          <p:spPr>
            <a:xfrm>
              <a:off x="3517920" y="3591000"/>
              <a:ext cx="1103400" cy="274680"/>
            </a:xfrm>
            <a:prstGeom prst="rect">
              <a:avLst/>
            </a:prstGeom>
            <a:ln w="0">
              <a:noFill/>
            </a:ln>
          </p:spPr>
        </p:pic>
        <p:sp>
          <p:nvSpPr>
            <p:cNvPr id="389"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10 Flecha derecha"/>
          <p:cNvGrpSpPr/>
          <p:nvPr/>
        </p:nvGrpSpPr>
        <p:grpSpPr>
          <a:xfrm>
            <a:off x="4876920" y="5376960"/>
            <a:ext cx="1103040" cy="334800"/>
            <a:chOff x="4876920" y="5376960"/>
            <a:chExt cx="1103040" cy="334800"/>
          </a:xfrm>
        </p:grpSpPr>
        <p:pic>
          <p:nvPicPr>
            <p:cNvPr id="391" name="10 Flecha derecha" descr=""/>
            <p:cNvPicPr/>
            <p:nvPr/>
          </p:nvPicPr>
          <p:blipFill>
            <a:blip r:embed="rId4"/>
            <a:stretch/>
          </p:blipFill>
          <p:spPr>
            <a:xfrm>
              <a:off x="4876920" y="5376960"/>
              <a:ext cx="1103040" cy="334800"/>
            </a:xfrm>
            <a:prstGeom prst="rect">
              <a:avLst/>
            </a:prstGeom>
            <a:ln w="0">
              <a:noFill/>
            </a:ln>
          </p:spPr>
        </p:pic>
        <p:sp>
          <p:nvSpPr>
            <p:cNvPr id="392"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12 Flecha arriba"/>
          <p:cNvGrpSpPr/>
          <p:nvPr/>
        </p:nvGrpSpPr>
        <p:grpSpPr>
          <a:xfrm>
            <a:off x="2090880" y="2517840"/>
            <a:ext cx="384120" cy="566640"/>
            <a:chOff x="2090880" y="2517840"/>
            <a:chExt cx="384120" cy="566640"/>
          </a:xfrm>
        </p:grpSpPr>
        <p:pic>
          <p:nvPicPr>
            <p:cNvPr id="394" name="12 Flecha arriba" descr=""/>
            <p:cNvPicPr/>
            <p:nvPr/>
          </p:nvPicPr>
          <p:blipFill>
            <a:blip r:embed="rId5"/>
            <a:stretch/>
          </p:blipFill>
          <p:spPr>
            <a:xfrm>
              <a:off x="2090880" y="2517840"/>
              <a:ext cx="384120" cy="566640"/>
            </a:xfrm>
            <a:prstGeom prst="rect">
              <a:avLst/>
            </a:prstGeom>
            <a:ln w="0">
              <a:noFill/>
            </a:ln>
          </p:spPr>
        </p:pic>
        <p:sp>
          <p:nvSpPr>
            <p:cNvPr id="395"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13 Flecha abajo"/>
          <p:cNvGrpSpPr/>
          <p:nvPr/>
        </p:nvGrpSpPr>
        <p:grpSpPr>
          <a:xfrm>
            <a:off x="2157480" y="4091040"/>
            <a:ext cx="317520" cy="450720"/>
            <a:chOff x="2157480" y="4091040"/>
            <a:chExt cx="317520" cy="450720"/>
          </a:xfrm>
        </p:grpSpPr>
        <p:pic>
          <p:nvPicPr>
            <p:cNvPr id="397" name="13 Flecha abajo" descr=""/>
            <p:cNvPicPr/>
            <p:nvPr/>
          </p:nvPicPr>
          <p:blipFill>
            <a:blip r:embed="rId6"/>
            <a:stretch/>
          </p:blipFill>
          <p:spPr>
            <a:xfrm>
              <a:off x="2157480" y="4091040"/>
              <a:ext cx="317520" cy="450720"/>
            </a:xfrm>
            <a:prstGeom prst="rect">
              <a:avLst/>
            </a:prstGeom>
            <a:ln w="0">
              <a:noFill/>
            </a:ln>
          </p:spPr>
        </p:pic>
        <p:sp>
          <p:nvSpPr>
            <p:cNvPr id="398"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21:32:45Z</dcterms:modified>
  <cp:revision>86</cp:revision>
  <dc:subject/>
  <dc:title>Evaluación de Proyectos</dc:title>
</cp:coreProperties>
</file>