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2622-14B4-4A2A-A223-DCDC6DAF48D3}"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9B90-A4A3-4631-86B7-A09F36A8183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E777-0100-43BC-A441-2B64C47D524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19DC-5E63-4975-9DB3-644A73766AD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CC7C-305A-4F5E-B805-507D29C5F12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EBBD-9B64-4AE5-83B7-EEB6AB621C9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223D-8EA6-4A28-9B09-167C7D2A363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116C-8AEB-437D-BB5E-79B70BAC139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B35D-4865-4135-9E70-6EDDC4F2A82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DB64-8D77-4AB8-A21D-341B173EE2A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C693-5E62-4699-A35B-3C9AFDF8546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AE6B-4615-4753-A00B-BF7CE97B728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65FC-BFBC-43A2-9A81-CBD31754A78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9C09-0AAE-4CD1-B8F2-A801601E4C0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85A8-D8FA-436D-91E1-BD1C265BE4A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DBFF-3574-4F34-B94E-F6115F72127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3016-4CC9-474E-8DFA-22DAB445FA0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9518-5E28-4B55-ACE4-61739B4C347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FFEB-738A-4C51-A4AC-0041023FEDE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B90C-4C5B-4559-82DE-02E6ED577AB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67BE-6AA8-43F9-B0B0-5E0381FEFCB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1642-66D5-4957-A88F-997A28C9400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54C2-4E2F-4754-838D-AD3078B0044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EF71-8AF0-47F8-88B0-DC3BE1DC204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003320" y="728640"/>
            <a:ext cx="4852800" cy="3641760"/>
          </a:xfrm>
          <a:prstGeom prst="rect">
            <a:avLst/>
          </a:prstGeom>
          <a:ln w="0">
            <a:noFill/>
          </a:ln>
        </p:spPr>
      </p:sp>
      <p:sp>
        <p:nvSpPr>
          <p:cNvPr id="55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5623-D9DE-47CA-8EFD-0264A557066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003320" y="728640"/>
            <a:ext cx="4852800" cy="3641760"/>
          </a:xfrm>
          <a:prstGeom prst="rect">
            <a:avLst/>
          </a:prstGeom>
          <a:ln w="0">
            <a:noFill/>
          </a:ln>
        </p:spPr>
      </p:sp>
      <p:sp>
        <p:nvSpPr>
          <p:cNvPr id="56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6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E36A-6E53-4097-BBB9-28B53F44D36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003320" y="728640"/>
            <a:ext cx="4852800" cy="3641760"/>
          </a:xfrm>
          <a:prstGeom prst="rect">
            <a:avLst/>
          </a:prstGeom>
          <a:ln w="0">
            <a:noFill/>
          </a:ln>
        </p:spPr>
      </p:sp>
      <p:sp>
        <p:nvSpPr>
          <p:cNvPr id="56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DD74-B560-4148-A7FD-9BCBC4313DA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003320" y="728640"/>
            <a:ext cx="4852800" cy="3641760"/>
          </a:xfrm>
          <a:prstGeom prst="rect">
            <a:avLst/>
          </a:prstGeom>
          <a:ln w="0">
            <a:noFill/>
          </a:ln>
        </p:spPr>
      </p:sp>
      <p:sp>
        <p:nvSpPr>
          <p:cNvPr id="56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6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2A5E-FDDB-40D1-B868-29192039239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003320" y="728640"/>
            <a:ext cx="4852800" cy="3641760"/>
          </a:xfrm>
          <a:prstGeom prst="rect">
            <a:avLst/>
          </a:prstGeom>
          <a:ln w="0">
            <a:noFill/>
          </a:ln>
        </p:spPr>
      </p:sp>
      <p:sp>
        <p:nvSpPr>
          <p:cNvPr id="56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7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E3D2-F929-4D8B-BA71-1B5EBEAD2FD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03320" y="728640"/>
            <a:ext cx="4852800" cy="3641760"/>
          </a:xfrm>
          <a:prstGeom prst="rect">
            <a:avLst/>
          </a:prstGeom>
          <a:ln w="0">
            <a:noFill/>
          </a:ln>
        </p:spPr>
      </p:sp>
      <p:sp>
        <p:nvSpPr>
          <p:cNvPr id="57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7990-8BDA-47AC-A976-1FD4CD7AA6A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2C6B-F4CF-4FBA-81D5-201857D008E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47BA-7659-4035-B749-AFB6ED4364A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E76E-60F1-4CA0-B6B2-CA654470485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6190-0F9B-4752-8282-3BD3A99C019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684B-EE2B-4AE5-9D90-AAE5B15BA42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2F8F-4141-497C-B49E-4F9DBBD2C64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95937-6960-4463-8366-FEB1C8067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5DA5D-BEA2-4EE1-AE40-5D8D5E9F1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39923-0C54-4E07-8702-ECE6552BB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40729-FDAD-4108-B4E3-B0C0AF186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BD33F-948C-4FDF-AD5A-25F841FBB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8888C-9C13-41D7-B38D-BFDFF3C52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529B7-4B26-43DB-97EC-A43760918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E8504-CDBC-45DA-9143-571AA2F68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92612-28D5-40AA-84D0-F6CA35C58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D8E78-D3D8-47BF-B863-13544E70A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3D9EF-53C2-4F36-A460-20AF1BF00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C21A-80E3-457E-9E5E-F2DA4EBF8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F5C82-DE2E-49E3-8CEE-EFA40F9C6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EC2AE-879E-4B01-9C7C-84020C108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36DCF-0866-474C-906A-2A5EE160F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FEE43-9813-412B-802D-FB2A513E6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82E25-F43F-4C02-A9EE-537B814C9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1E7D38-B100-41FC-ACA9-7035EB66E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AB2634-E0AD-452F-A801-ECB4BBC67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385614-963A-41E4-B58D-6CB210C6F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434CB2-4CC6-408C-9BDB-6F9F2C7CC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FA14FA-B948-4C4C-8D39-5850C70BC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6E3C-2512-4EF7-A374-E5436325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6050D9-B6AE-45B3-BBEC-357036834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3CEDB6-F5B3-4065-B02E-26EA45FA0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E4D3F4-655A-4B16-8DE3-5C43A7715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38372D-8FC2-4E1F-A2A5-0169FEA3B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B415580-D7C5-4586-90B1-E1B68EF86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FB99B9C-26CF-442E-9A5F-2D57AEBDE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1DF52BB-77FC-4B9F-B39F-4F819E1D26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1F43FF-421D-4F55-A460-6E80DE7A03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A44938-41FA-4AD4-B3DA-61B9A6864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D5C121-62F0-418C-BB0D-35728BBF6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A1AF5-FD18-4C25-B7FE-80AFAE69E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DC2455-0727-4E79-BC0B-6D0C14A59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7C4AE5-2D6F-462A-A2D5-82646EDF08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5927A1-1193-4AE3-BF1C-6DD526ABC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482FC0-E3DD-409A-9AE7-37246E440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C9714F-B05B-4520-9133-F70B3E98C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668334-76D3-4F73-AB68-98514BFC3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BD16DC-879A-4D84-AB32-D7D1FB2E7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05D8A10-042A-4248-9400-32A08BB95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7249D9-1439-42F9-B2E9-06E7E15338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875456-4CBF-42F4-905D-6E16215717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97FA-BCB5-4DF6-AA48-F6DFF5326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1F78B1-25CB-4268-B413-5065AFB65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BCEDD7-3CFE-4AA1-B31A-51BE87FDD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0520D7-0A42-417B-8705-F9A30D138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7B5A97-B1A6-46B3-95C9-8DB3AF79E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9722C7-3DF8-4FE7-A922-6FFA478D30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FB1A62-3DD5-4D92-86E2-A1D3DC6F4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A33FD5-0F91-4B85-8457-51A9100B91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11C7A0-256F-4372-801D-36C900780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5538F4-BD7D-45C5-9C90-F5F5E275B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469305A-22E0-4CC9-9F6C-B7D6095A1E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CA1D-AF9B-450E-A020-E465ACDC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93CF747-2078-4EE5-9D38-0648060B9C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09C4D7-56AC-48DA-8E2F-727ED628DF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0B301-0607-44BD-A40A-A4766B4F9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14692-BC64-4FCC-9DDB-F8E83D68C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49D67-2DB5-4067-9CEF-7298478AD4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F0E15-DC0A-419C-8B9D-A520646B0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B496D-122A-4FF4-89F8-269547C26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95347-405E-4AE5-90CA-A38C90344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8BA66-FEB4-4923-8AD4-AA16354DA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EB4BF-327C-44CE-A709-6EFCEE399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421A-BD2F-4C0E-A9A2-3058F8A9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354B34-E255-4E39-8311-0CDBC38E1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2B79A2-366D-4FB9-AC47-2EEFA50B5D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C572D-2775-4051-BCC9-A6CB6256A3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A80B4AA-BDBF-4667-A455-340F04A99E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5DC8BD-CE3B-46AC-BCA2-7116AD78A9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BA2935-F689-4949-B35E-D19ED70208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92F197F-EDE2-441C-94B3-D87C84287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66D2EB3-2082-422E-9B23-3B7D2E531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E0FDE1A-8C61-4F26-BE75-48B6A3A03D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604092-2021-442D-974A-1EE994BDB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95FB-5209-471B-9E1C-77138EFE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A23B7A-E64E-4ADE-BF50-8F2C10119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FB2115-6E5B-4180-90E6-B044BACBD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84708C-B0C9-416F-AFCB-6CEEC9E6D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19A400-7368-42AC-8259-1DB39647FD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FDCBC84-F247-4EF8-B1BE-D324549A03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CCB08E-0872-4197-B363-87C92188E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1AB8E-F07E-45BD-ABF6-8E6B1F655D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F903D0-ECFB-4705-91AB-80FD6A7D1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BA6BD2-B696-45C7-B53C-B3670F8D9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033590-65ED-42E2-B175-CD947EF75A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495A-8749-477A-BAB8-CC977821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893F1-F123-493F-BBC1-E29116209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6135E-E7D5-48AD-95D6-AA2A5A825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A486D-7BCC-4E48-A69C-8351CBEBF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D3229-C6F9-43D9-807E-7F86F7696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F44567-420C-4206-A134-D836241E6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953BDC-AB19-49CB-B34C-A037B3ACD7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999C57-1822-4B27-B96C-B3B08B5BA1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F080-A162-41C1-8B9E-4704FC606E8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C59A-0E95-45DA-B917-ACED3E705920}"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F74E-C875-4A86-8AF6-8B07BE1A0588}"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5106-FD41-46F7-BC1B-617C0B90D73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FB09-2862-4553-812B-B212A44753E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3FAB-C4BD-4142-BBAE-4443F8A158BC}"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6E92-EB16-4A57-947D-C9481EECED29}"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C616-F468-4B98-BA49-6480F7DBFB4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735804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MATEMATICAS FINANCIERAS</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214720" y="600048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Prof : Siegfried Cobian Musso</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IN42A  (scobian@gmail.com)</a:t>
            </a:r>
            <a:endParaRPr b="0" lang="en-US" sz="20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404"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406" name="3 Marcador de contenido" descr=""/>
          <p:cNvPicPr/>
          <p:nvPr/>
        </p:nvPicPr>
        <p:blipFill>
          <a:blip r:embed="rId1"/>
          <a:stretch/>
        </p:blipFill>
        <p:spPr>
          <a:xfrm>
            <a:off x="609480" y="1573200"/>
            <a:ext cx="8163000" cy="4595760"/>
          </a:xfrm>
          <a:prstGeom prst="rect">
            <a:avLst/>
          </a:prstGeom>
          <a:ln w="0">
            <a:noFill/>
          </a:ln>
        </p:spPr>
      </p:pic>
      <p:sp>
        <p:nvSpPr>
          <p:cNvPr id="407"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15"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16"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17"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18"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9"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20"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21" name="23 Conector recto de flecha"/>
          <p:cNvCxnSpPr>
            <a:stCxn id="415"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22" name="28 Conector recto de flecha"/>
          <p:cNvCxnSpPr/>
          <p:nvPr/>
        </p:nvCxnSpPr>
        <p:spPr>
          <a:xfrm flipH="1">
            <a:off x="2712240" y="3714840"/>
            <a:ext cx="2520" cy="396000"/>
          </a:xfrm>
          <a:prstGeom prst="straightConnector1">
            <a:avLst/>
          </a:prstGeom>
          <a:ln w="19080">
            <a:solidFill>
              <a:srgbClr val="a5ab81"/>
            </a:solidFill>
            <a:miter/>
            <a:tailEnd len="med" type="triangle" w="med"/>
          </a:ln>
        </p:spPr>
      </p:cxnSp>
      <p:cxnSp>
        <p:nvCxnSpPr>
          <p:cNvPr id="423" name="29 Conector recto de flecha"/>
          <p:cNvCxnSpPr/>
          <p:nvPr/>
        </p:nvCxnSpPr>
        <p:spPr>
          <a:xfrm flipH="1">
            <a:off x="6713280" y="3714840"/>
            <a:ext cx="2160" cy="396000"/>
          </a:xfrm>
          <a:prstGeom prst="straightConnector1">
            <a:avLst/>
          </a:prstGeom>
          <a:ln w="19080">
            <a:solidFill>
              <a:srgbClr val="a5ab81"/>
            </a:solidFill>
            <a:miter/>
            <a:tailEnd len="med" type="triangle" w="med"/>
          </a:ln>
        </p:spPr>
      </p:cxnSp>
      <p:cxnSp>
        <p:nvCxnSpPr>
          <p:cNvPr id="424" name="30 Conector recto de flecha"/>
          <p:cNvCxnSpPr/>
          <p:nvPr/>
        </p:nvCxnSpPr>
        <p:spPr>
          <a:xfrm flipH="1">
            <a:off x="4642560" y="4711320"/>
            <a:ext cx="2520" cy="361080"/>
          </a:xfrm>
          <a:prstGeom prst="straightConnector1">
            <a:avLst/>
          </a:prstGeom>
          <a:ln w="19080">
            <a:solidFill>
              <a:srgbClr val="dd8047"/>
            </a:solidFill>
            <a:miter/>
            <a:tailEnd len="med" type="triangle" w="med"/>
          </a:ln>
        </p:spPr>
      </p:cxnSp>
      <p:cxnSp>
        <p:nvCxnSpPr>
          <p:cNvPr id="425" name="31 Conector recto de flecha"/>
          <p:cNvCxnSpPr/>
          <p:nvPr/>
        </p:nvCxnSpPr>
        <p:spPr>
          <a:xfrm flipH="1">
            <a:off x="4642560" y="5643360"/>
            <a:ext cx="2520" cy="361080"/>
          </a:xfrm>
          <a:prstGeom prst="straightConnector1">
            <a:avLst/>
          </a:prstGeom>
          <a:ln w="19080">
            <a:solidFill>
              <a:srgbClr val="dd8047"/>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27"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9"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1"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Que es Mejor?</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3" name="Picture 2" descr=""/>
          <p:cNvPicPr/>
          <p:nvPr/>
        </p:nvPicPr>
        <p:blipFill>
          <a:blip r:embed="rId1"/>
          <a:srcRect l="8855" t="28526" r="27389" b="12907"/>
          <a:stretch/>
        </p:blipFill>
        <p:spPr>
          <a:xfrm>
            <a:off x="928800" y="2071800"/>
            <a:ext cx="7149960" cy="4071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3"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35"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37" name="3 Marcador de contenido" descr=""/>
          <p:cNvPicPr/>
          <p:nvPr/>
        </p:nvPicPr>
        <p:blipFill>
          <a:blip r:embed="rId1"/>
          <a:stretch/>
        </p:blipFill>
        <p:spPr>
          <a:xfrm>
            <a:off x="353880" y="1494000"/>
            <a:ext cx="5364360" cy="5192640"/>
          </a:xfrm>
          <a:prstGeom prst="rect">
            <a:avLst/>
          </a:prstGeom>
          <a:ln w="0">
            <a:noFill/>
          </a:ln>
        </p:spPr>
      </p:pic>
      <p:sp>
        <p:nvSpPr>
          <p:cNvPr id="438"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40"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4"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50"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53"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5" name=""/>
          <p:cNvSpPr txBox="1"/>
          <p:nvPr/>
        </p:nvSpPr>
        <p:spPr>
          <a:xfrm>
            <a:off x="612720" y="1599840"/>
            <a:ext cx="8153280" cy="39718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 Que es VFMG? ¿Cómo se llega a esa cuot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2" descr=""/>
          <p:cNvPicPr/>
          <p:nvPr/>
        </p:nvPicPr>
        <p:blipFill>
          <a:blip r:embed="rId1"/>
          <a:srcRect l="487" t="41380" r="45460" b="31592"/>
          <a:stretch/>
        </p:blipFill>
        <p:spPr>
          <a:xfrm>
            <a:off x="285840" y="2571840"/>
            <a:ext cx="8686800" cy="27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57"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64"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6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67" name="Picture 2" descr=""/>
          <p:cNvPicPr/>
          <p:nvPr/>
        </p:nvPicPr>
        <p:blipFill>
          <a:blip r:embed="rId1"/>
          <a:stretch/>
        </p:blipFill>
        <p:spPr>
          <a:xfrm>
            <a:off x="6072120" y="6072120"/>
            <a:ext cx="2806920" cy="642960"/>
          </a:xfrm>
          <a:prstGeom prst="rect">
            <a:avLst/>
          </a:prstGeom>
          <a:ln w="0">
            <a:noFill/>
          </a:ln>
        </p:spPr>
      </p:pic>
      <p:pic>
        <p:nvPicPr>
          <p:cNvPr id="468"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8"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Que es mejor?</a:t>
            </a:r>
            <a:endParaRPr b="0" lang="en-US" sz="2400" spc="-1" strike="noStrike">
              <a:solidFill>
                <a:srgbClr val="000000"/>
              </a:solidFill>
              <a:latin typeface="Arial"/>
            </a:endParaRPr>
          </a:p>
        </p:txBody>
      </p:sp>
      <p:pic>
        <p:nvPicPr>
          <p:cNvPr id="369" name="Picture 4" descr=""/>
          <p:cNvPicPr/>
          <p:nvPr/>
        </p:nvPicPr>
        <p:blipFill>
          <a:blip r:embed="rId1"/>
          <a:srcRect l="0" t="14064" r="39649" b="27812"/>
          <a:stretch/>
        </p:blipFill>
        <p:spPr>
          <a:xfrm>
            <a:off x="857160" y="2143080"/>
            <a:ext cx="7358040" cy="44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71"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ual es la equivalencia?¿ Son lo mismo?</a:t>
            </a:r>
            <a:endParaRPr b="0" lang="en-US" sz="2400" spc="-1" strike="noStrike">
              <a:solidFill>
                <a:srgbClr val="000000"/>
              </a:solidFill>
              <a:latin typeface="Arial"/>
            </a:endParaRPr>
          </a:p>
        </p:txBody>
      </p:sp>
      <p:pic>
        <p:nvPicPr>
          <p:cNvPr id="372" name="Picture 2" descr=""/>
          <p:cNvPicPr/>
          <p:nvPr/>
        </p:nvPicPr>
        <p:blipFill>
          <a:blip r:embed="rId1"/>
          <a:srcRect l="1757" t="6562" r="9765" b="23126"/>
          <a:stretch/>
        </p:blipFill>
        <p:spPr>
          <a:xfrm>
            <a:off x="285840" y="2214720"/>
            <a:ext cx="8215200" cy="40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Valor del Dinero en el Tiempo</a:t>
            </a:r>
            <a:endParaRPr b="0" lang="en-US" sz="4400" spc="-1" strike="noStrike">
              <a:solidFill>
                <a:srgbClr val="775f55"/>
              </a:solidFill>
              <a:latin typeface="Tw Cen MT"/>
            </a:endParaRPr>
          </a:p>
        </p:txBody>
      </p:sp>
      <p:sp>
        <p:nvSpPr>
          <p:cNvPr id="374" name="5 CuadroTexto"/>
          <p:cNvSpPr/>
          <p:nvPr/>
        </p:nvSpPr>
        <p:spPr>
          <a:xfrm>
            <a:off x="642960" y="1714680"/>
            <a:ext cx="814392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8000"/>
                </a:solidFill>
                <a:latin typeface="Arial"/>
              </a:rPr>
              <a:t>“</a:t>
            </a:r>
            <a:r>
              <a:rPr b="1" lang="es-ES" sz="4000" spc="-1" strike="noStrike">
                <a:solidFill>
                  <a:srgbClr val="008000"/>
                </a:solidFill>
                <a:latin typeface="Arial"/>
              </a:rPr>
              <a:t>Un peso hoy vale más que un peso mañana”.</a:t>
            </a:r>
            <a:r>
              <a:rPr b="0" lang="es-E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78" name="4 Rectángulo"/>
          <p:cNvGrpSpPr/>
          <p:nvPr/>
        </p:nvGrpSpPr>
        <p:grpSpPr>
          <a:xfrm>
            <a:off x="1231920" y="3230640"/>
            <a:ext cx="2243160" cy="682560"/>
            <a:chOff x="1231920" y="3230640"/>
            <a:chExt cx="2243160" cy="682560"/>
          </a:xfrm>
        </p:grpSpPr>
        <p:pic>
          <p:nvPicPr>
            <p:cNvPr id="379" name="4 Rectángulo" descr=""/>
            <p:cNvPicPr/>
            <p:nvPr/>
          </p:nvPicPr>
          <p:blipFill>
            <a:blip r:embed="rId1"/>
            <a:stretch/>
          </p:blipFill>
          <p:spPr>
            <a:xfrm>
              <a:off x="1231920" y="3230640"/>
              <a:ext cx="2243160" cy="682560"/>
            </a:xfrm>
            <a:prstGeom prst="rect">
              <a:avLst/>
            </a:prstGeom>
            <a:ln w="0">
              <a:noFill/>
            </a:ln>
          </p:spPr>
        </p:pic>
        <p:sp>
          <p:nvSpPr>
            <p:cNvPr id="380"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81"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82"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83"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84" name="8 Rectángulo"/>
          <p:cNvGrpSpPr/>
          <p:nvPr/>
        </p:nvGrpSpPr>
        <p:grpSpPr>
          <a:xfrm>
            <a:off x="5943600" y="5089680"/>
            <a:ext cx="2249640" cy="853920"/>
            <a:chOff x="5943600" y="5089680"/>
            <a:chExt cx="2249640" cy="853920"/>
          </a:xfrm>
        </p:grpSpPr>
        <p:pic>
          <p:nvPicPr>
            <p:cNvPr id="385" name="8 Rectángulo" descr=""/>
            <p:cNvPicPr/>
            <p:nvPr/>
          </p:nvPicPr>
          <p:blipFill>
            <a:blip r:embed="rId2"/>
            <a:stretch/>
          </p:blipFill>
          <p:spPr>
            <a:xfrm>
              <a:off x="5943600" y="5089680"/>
              <a:ext cx="2249640" cy="853920"/>
            </a:xfrm>
            <a:prstGeom prst="rect">
              <a:avLst/>
            </a:prstGeom>
            <a:ln w="0">
              <a:noFill/>
            </a:ln>
          </p:spPr>
        </p:pic>
        <p:sp>
          <p:nvSpPr>
            <p:cNvPr id="386"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87" name="9 Flecha derecha"/>
          <p:cNvGrpSpPr/>
          <p:nvPr/>
        </p:nvGrpSpPr>
        <p:grpSpPr>
          <a:xfrm>
            <a:off x="3517920" y="3591000"/>
            <a:ext cx="1103400" cy="274680"/>
            <a:chOff x="3517920" y="3591000"/>
            <a:chExt cx="1103400" cy="274680"/>
          </a:xfrm>
        </p:grpSpPr>
        <p:pic>
          <p:nvPicPr>
            <p:cNvPr id="388" name="9 Flecha derecha" descr=""/>
            <p:cNvPicPr/>
            <p:nvPr/>
          </p:nvPicPr>
          <p:blipFill>
            <a:blip r:embed="rId3"/>
            <a:stretch/>
          </p:blipFill>
          <p:spPr>
            <a:xfrm>
              <a:off x="3517920" y="3591000"/>
              <a:ext cx="1103400" cy="274680"/>
            </a:xfrm>
            <a:prstGeom prst="rect">
              <a:avLst/>
            </a:prstGeom>
            <a:ln w="0">
              <a:noFill/>
            </a:ln>
          </p:spPr>
        </p:pic>
        <p:sp>
          <p:nvSpPr>
            <p:cNvPr id="389"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10 Flecha derecha"/>
          <p:cNvGrpSpPr/>
          <p:nvPr/>
        </p:nvGrpSpPr>
        <p:grpSpPr>
          <a:xfrm>
            <a:off x="4876920" y="5376960"/>
            <a:ext cx="1103040" cy="334800"/>
            <a:chOff x="4876920" y="5376960"/>
            <a:chExt cx="1103040" cy="334800"/>
          </a:xfrm>
        </p:grpSpPr>
        <p:pic>
          <p:nvPicPr>
            <p:cNvPr id="391" name="10 Flecha derecha" descr=""/>
            <p:cNvPicPr/>
            <p:nvPr/>
          </p:nvPicPr>
          <p:blipFill>
            <a:blip r:embed="rId4"/>
            <a:stretch/>
          </p:blipFill>
          <p:spPr>
            <a:xfrm>
              <a:off x="4876920" y="5376960"/>
              <a:ext cx="1103040" cy="334800"/>
            </a:xfrm>
            <a:prstGeom prst="rect">
              <a:avLst/>
            </a:prstGeom>
            <a:ln w="0">
              <a:noFill/>
            </a:ln>
          </p:spPr>
        </p:pic>
        <p:sp>
          <p:nvSpPr>
            <p:cNvPr id="392"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12 Flecha arriba"/>
          <p:cNvGrpSpPr/>
          <p:nvPr/>
        </p:nvGrpSpPr>
        <p:grpSpPr>
          <a:xfrm>
            <a:off x="2090880" y="2517840"/>
            <a:ext cx="384120" cy="566640"/>
            <a:chOff x="2090880" y="2517840"/>
            <a:chExt cx="384120" cy="566640"/>
          </a:xfrm>
        </p:grpSpPr>
        <p:pic>
          <p:nvPicPr>
            <p:cNvPr id="394" name="12 Flecha arriba" descr=""/>
            <p:cNvPicPr/>
            <p:nvPr/>
          </p:nvPicPr>
          <p:blipFill>
            <a:blip r:embed="rId5"/>
            <a:stretch/>
          </p:blipFill>
          <p:spPr>
            <a:xfrm>
              <a:off x="2090880" y="2517840"/>
              <a:ext cx="384120" cy="566640"/>
            </a:xfrm>
            <a:prstGeom prst="rect">
              <a:avLst/>
            </a:prstGeom>
            <a:ln w="0">
              <a:noFill/>
            </a:ln>
          </p:spPr>
        </p:pic>
        <p:sp>
          <p:nvSpPr>
            <p:cNvPr id="395"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13 Flecha abajo"/>
          <p:cNvGrpSpPr/>
          <p:nvPr/>
        </p:nvGrpSpPr>
        <p:grpSpPr>
          <a:xfrm>
            <a:off x="2157480" y="4091040"/>
            <a:ext cx="317520" cy="450720"/>
            <a:chOff x="2157480" y="4091040"/>
            <a:chExt cx="317520" cy="450720"/>
          </a:xfrm>
        </p:grpSpPr>
        <p:pic>
          <p:nvPicPr>
            <p:cNvPr id="397" name="13 Flecha abajo" descr=""/>
            <p:cNvPicPr/>
            <p:nvPr/>
          </p:nvPicPr>
          <p:blipFill>
            <a:blip r:embed="rId6"/>
            <a:stretch/>
          </p:blipFill>
          <p:spPr>
            <a:xfrm>
              <a:off x="2157480" y="4091040"/>
              <a:ext cx="317520" cy="450720"/>
            </a:xfrm>
            <a:prstGeom prst="rect">
              <a:avLst/>
            </a:prstGeom>
            <a:ln w="0">
              <a:noFill/>
            </a:ln>
          </p:spPr>
        </p:pic>
        <p:sp>
          <p:nvSpPr>
            <p:cNvPr id="398"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21:32:45Z</dcterms:modified>
  <cp:revision>86</cp:revision>
  <dc:subject/>
  <dc:title>Evaluación de Proyectos</dc:title>
</cp:coreProperties>
</file>