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F6EB-2BC5-46C1-9672-B572D47B7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CD70-EF7B-4C16-9C11-633468C0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CF34-18CC-47E2-97AC-98C3AD841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9109-69B3-4A54-9474-357E24EE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8889-6D25-4CE5-8E9B-DD515476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76B4-7E04-451C-8971-FB99DCA0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9DFF-D944-4A6B-BF33-0FF6A7C4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CE3A-48CB-41BA-B470-16CBCDEE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EFA8-2C9E-4028-88F3-544AC874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E398-4AF2-4290-BA00-B9C32A99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C19F-2A59-4374-8872-6AC7B432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A17A-3756-4587-9041-ACB2AC04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B224-4724-4DB3-BC65-8DF6C525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BE3D-85A0-4CE2-90CA-A1EB9E5E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D82A-F5DB-4688-825C-438DE25D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7039-63F7-4C76-B3B1-AF14C3D8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963C-A30E-4CFD-A05C-2C3DEC1F4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7CB4-475C-4D97-9201-839AEEBE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74DA-7C18-4F0E-B43E-1A5C0A8D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E216-37B6-4392-9872-58DB0021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C640-6981-444F-B04B-E9933130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713C-2DD8-49D4-B461-306A2D0B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4D1F-D534-439C-977D-8E1DEF5F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DE52-B331-4DA4-AD73-747B9742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46C0-E271-4C21-9B78-797C32F14A5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46C6-64EF-4857-9348-D0B8853EE67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Comic Sans MS"/>
              </a:rPr>
              <a:t>Clase Auxiliar N1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Daniel Fischer Mont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dfischer@ug.uchile.c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Preparar Dat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Asignar Nomb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Label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Valu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Calcular Nuev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Compu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70764" b="81966"/>
          <a:stretch/>
        </p:blipFill>
        <p:spPr>
          <a:xfrm>
            <a:off x="3124080" y="2362320"/>
            <a:ext cx="3733920" cy="1295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rcRect l="3514" t="0" r="69328" b="79170"/>
          <a:stretch/>
        </p:blipFill>
        <p:spPr>
          <a:xfrm>
            <a:off x="3124080" y="4572000"/>
            <a:ext cx="35337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Estadísticas Básic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Frecuenc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Promedi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DesvE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Cru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Estadísticas Básic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Frecuenc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Promedi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DesvE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Cru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15228" t="2087" r="60177" b="68750"/>
          <a:stretch/>
        </p:blipFill>
        <p:spPr>
          <a:xfrm>
            <a:off x="3962520" y="1905120"/>
            <a:ext cx="3733560" cy="2489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581280" y="2209680"/>
            <a:ext cx="2514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71800" y="2743200"/>
            <a:ext cx="30481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971800" y="2819160"/>
            <a:ext cx="2971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895480" y="3352680"/>
            <a:ext cx="31244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Gráfic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55492" b="57297"/>
          <a:stretch/>
        </p:blipFill>
        <p:spPr>
          <a:xfrm>
            <a:off x="1447920" y="1981080"/>
            <a:ext cx="57909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Test de Medi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819520" y="1981080"/>
                <a:ext cx="256536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743200" y="3886200"/>
                <a:ext cx="289548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Test de Medi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57200" y="1981080"/>
                <a:ext cx="256536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80880" y="3886200"/>
                <a:ext cx="289584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74" name="" descr=""/>
          <p:cNvPicPr/>
          <p:nvPr/>
        </p:nvPicPr>
        <p:blipFill>
          <a:blip r:embed="rId1"/>
          <a:srcRect l="14860" t="3125" r="54686" b="66668"/>
          <a:stretch/>
        </p:blipFill>
        <p:spPr>
          <a:xfrm>
            <a:off x="3657600" y="2438280"/>
            <a:ext cx="4495680" cy="25084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8120" y="2666880"/>
            <a:ext cx="28191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3200400" y="4191120"/>
            <a:ext cx="2590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Modelo de temperatu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Ud posee un modelo para predecir la temperatura en un día má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Este consiste en que T°(t+1) = T°(t) + 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e sigue una normal  (0,1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Estime en promedio que temperatura habrá en 10 días mas si hoy la temperatura es 17  gr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onsidere una muestra con 200 escenari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Comic Sans MS"/>
              </a:rPr>
              <a:t>Problema de negocio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Control 1 2008 P1-a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Manuel Rey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00:49:36Z</dcterms:created>
  <dc:creator>Daniel Fischer</dc:creator>
  <dc:description/>
  <dc:language>en-US</dc:language>
  <cp:lastModifiedBy>Daniel Fischer</cp:lastModifiedBy>
  <dcterms:modified xsi:type="dcterms:W3CDTF">2009-08-05T02:43:10Z</dcterms:modified>
  <cp:revision>4</cp:revision>
  <dc:subject/>
  <dc:title>Clase Auxiliar N1</dc:title>
</cp:coreProperties>
</file>