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3D5-F793-4EE0-A0B8-5EE7B9C0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58D-49D9-4B9A-9F32-274FB933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01F-AEE0-49AC-95BA-EBD22160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A42-71B5-4E7C-A9AD-CA59B80C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F758-A0F9-43A9-80BA-CD95FCFF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20D-1572-4EC0-A4A1-3F93918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525E-A161-485D-88E5-5EC2BE4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F7C-9241-4A93-B01E-886871FE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D4C-EEBD-4FB7-807F-B611A95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6D9-A44D-40D8-80CF-79DBEBF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D0A4-DC34-492D-8647-05A10FD0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768-6136-460F-B67B-BEE96EA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D78F-F693-4EA3-8DEC-256D4DA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7C4C-8B4F-4F6F-9541-7B89B12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EC14-F69C-4E68-BCF5-142BE34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C1DA-269C-4D09-82C7-41F4985E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77B-7CF7-4B4C-A254-7D51BA06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20B-23EC-4736-AD9E-D00DE6F8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FA9-50DE-4262-9F38-0379D0E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628-3839-4414-A3E5-3828683F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20F-A56C-4004-84E4-DA825C68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34D-8556-40B1-B440-8B9B6C3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423-CC1E-4396-B900-342D0B8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9EE-8DE5-4F21-A663-ADFF0FB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4873-93E9-411F-ACC2-7411A14BCD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81F-91DF-400B-AAD0-2C204B79CE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Clase Auxiliar N1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aniel Fischer Mon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fischer@ug.uchile.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eparar D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signar Nomb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ab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alcular Nuev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70764" b="81966"/>
          <a:stretch/>
        </p:blipFill>
        <p:spPr>
          <a:xfrm>
            <a:off x="3124080" y="2362320"/>
            <a:ext cx="373392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3514" t="0" r="69328" b="79170"/>
          <a:stretch/>
        </p:blipFill>
        <p:spPr>
          <a:xfrm>
            <a:off x="3124080" y="4572000"/>
            <a:ext cx="3533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5228" t="2087" r="60177" b="68750"/>
          <a:stretch/>
        </p:blipFill>
        <p:spPr>
          <a:xfrm>
            <a:off x="3962520" y="190512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1280" y="2209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4320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971800" y="2819160"/>
            <a:ext cx="297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95480" y="3352680"/>
            <a:ext cx="3124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55492" b="57297"/>
          <a:stretch/>
        </p:blipFill>
        <p:spPr>
          <a:xfrm>
            <a:off x="1447920" y="1981080"/>
            <a:ext cx="5790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1952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43200" y="3886200"/>
                <a:ext cx="28954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3886200"/>
                <a:ext cx="28958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1"/>
          <a:srcRect l="14860" t="3125" r="54686" b="66668"/>
          <a:stretch/>
        </p:blipFill>
        <p:spPr>
          <a:xfrm>
            <a:off x="3657600" y="2438280"/>
            <a:ext cx="4495680" cy="2508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8120" y="2666880"/>
            <a:ext cx="2819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419112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delo de tempera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Ud posee un modelo para predecir la temperatura en un día má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ste consiste en que T°(t+1) = T°(t) +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 sigue una normal  (0,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ime en promedio que temperatura habrá en 10 días mas si hoy la temperatura es 17  g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idere una muestra con 200 escenar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Problema de negoci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ntrol 1 2008 P1-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nuel Re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0:49:36Z</dcterms:created>
  <dc:creator>Daniel Fischer</dc:creator>
  <dc:description/>
  <dc:language>en-US</dc:language>
  <cp:lastModifiedBy>Daniel Fischer</cp:lastModifiedBy>
  <dcterms:modified xsi:type="dcterms:W3CDTF">2009-08-05T02:43:10Z</dcterms:modified>
  <cp:revision>4</cp:revision>
  <dc:subject/>
  <dc:title>Clase Auxiliar N1</dc:title>
</cp:coreProperties>
</file>