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529-47A6-48DC-911D-F169AC1D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A1A-64D8-4C85-9358-FA13FD74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E05-B323-4C82-AC03-7C5C7244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DF3-0DAD-4714-9741-1BDD6B53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382E-9AE3-42CA-8F37-AC97EF19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1364-A1C8-4A44-8D06-445134A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655B-45B8-4269-93C4-435226E5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AFF-2EC6-4CEF-A4C6-01095307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F0E8-4D68-49AB-AFAC-6DCC2DC1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DA52-5428-44AD-88BF-35942A1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D205-4AC8-4723-BC28-68A243F8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A78-94D2-4B97-9C60-A553773B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E7D4-1998-453C-BAE8-E0535E93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35F9-1969-4B46-9A39-022E6896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051F-0DE1-4F76-B5BB-E4428B2D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8551-B4AD-4013-B733-5D7416C2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16BE-5508-4AD1-BF08-FB4C58A7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E47-CFD9-4F94-9349-AA946564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A7C-4CEB-4EEE-BED6-E3A3E24D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428-AABD-4E3D-8EA2-FD357A9D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51D-DE00-481C-92DA-4566EA5B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021-B825-4831-80BC-27399713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C97-CE8C-4DE6-B222-E63EEEF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57D-8933-4464-9CB0-49E2A42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A5BB-03A7-44FC-B0B0-537BA23F1D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2328-1164-4094-8F1E-A1227E8B06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Clase Auxiliar N1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aniel Fischer Mon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fischer@ug.uchile.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reparar Dat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Asignar Nomb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Labe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alcular Nuev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omp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70764" b="81966"/>
          <a:stretch/>
        </p:blipFill>
        <p:spPr>
          <a:xfrm>
            <a:off x="3124080" y="2362320"/>
            <a:ext cx="3733920" cy="129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3514" t="0" r="69328" b="79170"/>
          <a:stretch/>
        </p:blipFill>
        <p:spPr>
          <a:xfrm>
            <a:off x="3124080" y="4572000"/>
            <a:ext cx="3533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stadísticas Bás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Frecu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rome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esv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ru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stadísticas Bás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Frecu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rome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Desv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ru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5228" t="2087" r="60177" b="68750"/>
          <a:stretch/>
        </p:blipFill>
        <p:spPr>
          <a:xfrm>
            <a:off x="3962520" y="1905120"/>
            <a:ext cx="3733560" cy="2489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81280" y="2209680"/>
            <a:ext cx="2514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743200"/>
            <a:ext cx="3048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971800" y="2819160"/>
            <a:ext cx="297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895480" y="3352680"/>
            <a:ext cx="3124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55492" b="57297"/>
          <a:stretch/>
        </p:blipFill>
        <p:spPr>
          <a:xfrm>
            <a:off x="1447920" y="1981080"/>
            <a:ext cx="5790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Test de Med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819520" y="1981080"/>
                <a:ext cx="2565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43200" y="3886200"/>
                <a:ext cx="28954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Test de Medi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7200" y="1981080"/>
                <a:ext cx="2565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0880" y="3886200"/>
                <a:ext cx="28958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1"/>
          <a:srcRect l="14860" t="3125" r="54686" b="66668"/>
          <a:stretch/>
        </p:blipFill>
        <p:spPr>
          <a:xfrm>
            <a:off x="3657600" y="2438280"/>
            <a:ext cx="4495680" cy="2508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8120" y="2666880"/>
            <a:ext cx="2819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00400" y="4191120"/>
            <a:ext cx="2590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delo de tempera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Ud posee un modelo para predecir la temperatura en un día má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ste consiste en que T°(t+1) = T°(t) +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 sigue una normal  (0,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time en promedio que temperatura habrá en 10 días mas si hoy la temperatura es 17  g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idere una muestra con 200 escenar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Problema de negocio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ontrol 1 2008 P1-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Manuel Rey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0:49:36Z</dcterms:created>
  <dc:creator>Daniel Fischer</dc:creator>
  <dc:description/>
  <dc:language>en-US</dc:language>
  <cp:lastModifiedBy>Daniel Fischer</cp:lastModifiedBy>
  <dcterms:modified xsi:type="dcterms:W3CDTF">2009-08-05T02:43:10Z</dcterms:modified>
  <cp:revision>4</cp:revision>
  <dc:subject/>
  <dc:title>Clase Auxiliar N1</dc:title>
</cp:coreProperties>
</file>