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87847-422F-47FE-B2FA-410A2C841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9C69-D7CD-4100-83FA-855B43B65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BA2B3-9AF7-4E96-86B9-3DB5EF1B8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ED145-CD24-4C70-BCF3-1C7BEF313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7123A-AC34-4DFA-9E5F-B612B7608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7ECA6-3DA9-46EF-A928-8E96EC49D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4EB23-01E1-4CDD-928A-0415243A9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A0B76-C916-481A-84E1-60CFF4F5E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F93B4-B2FB-426E-9FA3-AA1C3D1BC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61E17-30E0-4EC1-BF13-959C80481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3E2BC-C073-4A99-9B0F-E546310FA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35AE-5513-4570-AC6F-D2FD2DEC3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C7175-10D3-4BF5-AD8A-5EC0971DF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4A368-45B6-4D04-B2B0-76D0A1732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5E366-D117-4495-9858-76ED553AC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72B11-79B8-4E75-B2EA-A1A844E85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2012E-D970-48C0-9A8C-5C09E53C0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3624A-A8C4-4683-92FB-D0D477E38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D5804-98C0-468D-BB87-485A33C65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0358-A903-44E3-A2A2-FE5CCB5F7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7450B-B8E9-4E83-9E1E-154990DE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9D038-AD23-4C42-9BE4-894343EE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F975-5CF6-4441-AD25-C16AE8117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E1E86-364A-4AA9-B532-1BA84016F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7CF9-4100-4732-922E-D79FB57CA1E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61CA-FE7B-4F88-A09A-16981B6CA41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I. Criterio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criterios o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38" name=""/>
          <p:cNvGrpSpPr/>
          <p:nvPr/>
        </p:nvGrpSpPr>
        <p:grpSpPr>
          <a:xfrm>
            <a:off x="1757160" y="4003560"/>
            <a:ext cx="4478400" cy="1180440"/>
            <a:chOff x="1757160" y="4003560"/>
            <a:chExt cx="4478400" cy="1180440"/>
          </a:xfrm>
        </p:grpSpPr>
        <p:sp>
          <p:nvSpPr>
            <p:cNvPr id="239"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0"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1"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2"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5"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6"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7"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48"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9"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0"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1"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2"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5"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58"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59"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0"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1"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2"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6"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7"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8"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0"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1"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2"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3"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4"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6"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7"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78"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79"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2"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3" name=""/>
          <p:cNvGrpSpPr/>
          <p:nvPr/>
        </p:nvGrpSpPr>
        <p:grpSpPr>
          <a:xfrm>
            <a:off x="1191960" y="5229360"/>
            <a:ext cx="4780080" cy="1069200"/>
            <a:chOff x="1191960" y="5229360"/>
            <a:chExt cx="4780080" cy="1069200"/>
          </a:xfrm>
        </p:grpSpPr>
        <p:sp>
          <p:nvSpPr>
            <p:cNvPr id="284"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5"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6"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7"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8"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0"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292"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293" name=""/>
          <p:cNvGrpSpPr/>
          <p:nvPr/>
        </p:nvGrpSpPr>
        <p:grpSpPr>
          <a:xfrm>
            <a:off x="1805400" y="5241960"/>
            <a:ext cx="5356080" cy="1069200"/>
            <a:chOff x="1805400" y="5241960"/>
            <a:chExt cx="5356080" cy="1069200"/>
          </a:xfrm>
        </p:grpSpPr>
        <p:sp>
          <p:nvSpPr>
            <p:cNvPr id="294"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295"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96"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97"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8"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02" name=""/>
          <p:cNvGraphicFramePr/>
          <p:nvPr/>
        </p:nvGraphicFramePr>
        <p:xfrm>
          <a:off x="2514600" y="2838600"/>
          <a:ext cx="4114800" cy="1504800"/>
        </p:xfrm>
        <a:graphic>
          <a:graphicData uri="http://schemas.openxmlformats.org/presentationml/2006/ole">
            <p:oleObj progId="Excel.Sheet.12" r:id="rId2" spid="">
              <p:embed/>
              <p:pic>
                <p:nvPicPr>
                  <p:cNvPr id="303"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5"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06"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07"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08"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09"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10"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2"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13"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4"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15"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16"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8"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19"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2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22"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3"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24"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osto de Oportunidad del Capital</a:t>
            </a:r>
            <a:endParaRPr b="0" lang="en-US" sz="40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kettlun</cp:lastModifiedBy>
  <cp:lastPrinted>1998-10-03T13:45:26Z</cp:lastPrinted>
  <dcterms:modified xsi:type="dcterms:W3CDTF">2009-08-28T19:48:10Z</dcterms:modified>
  <cp:revision>112</cp:revision>
  <dc:subject/>
  <dc:title>Indicadores de Evaluación de Proyectos</dc:title>
</cp:coreProperties>
</file>