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39E7F-7652-4129-8438-AD2840E08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EC34-B185-49DC-9C1D-59BBE2E7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9D56A-0394-4A2F-9587-E9441063E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2CCC9-DB99-44ED-B755-5291D6E4A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9B0C4-B3E3-4976-89C4-225C71F54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3DD68-7BFB-41AC-88C5-DA7B2C625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FAB23-B347-4B3D-93F9-C72B6B731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2D718-C51E-4986-A8A3-7CDDF3841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94F91-0B0D-4EEF-B460-67028ABF7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00F39-3B16-4716-A32E-40C0174A2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14BA-37F7-4BEC-9C95-3B3BE93BD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1CC1-F32B-419A-AD22-7B24EF84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557C-FCFB-4E43-A20A-0E83E105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886FD-5B9A-4CFB-A406-ECD241462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023C5-8543-4A2B-9FFB-39EBA2023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859E4-C9F2-417D-A8A1-E27E72010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A1B89-3BD2-4318-B2DC-B22ECF03E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90DA-B9EA-478E-9C49-7425BA7E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648E-1C89-4C1A-93FB-D1DFF8AF4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67386-3522-4C62-8D4B-4093EC30C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A005E-2F79-4188-93E8-845CD5469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9568-6431-4A86-9151-CE0678DC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6095-7E78-4C13-9808-296D6FB6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C248-6E04-4864-AFFD-D011CC4CE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9DA2-7468-48CC-95B8-9CB51FD0C76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2D0F-91F2-43D6-BAE1-26D3BA35BB6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I. Criterio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criterios o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osto de Oportunidad del Capital</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kettlun</cp:lastModifiedBy>
  <cp:lastPrinted>1998-10-03T13:45:26Z</cp:lastPrinted>
  <dcterms:modified xsi:type="dcterms:W3CDTF">2009-08-28T19:48:10Z</dcterms:modified>
  <cp:revision>112</cp:revision>
  <dc:subject/>
  <dc:title>Indicadores de Evaluación de Proyectos</dc:title>
</cp:coreProperties>
</file>