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AC2B0-A5F7-4189-BE44-08E25DCED0E5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899F5-936C-4F0E-9978-F16A922827DC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6453F-9916-48D2-A5ED-8715A74946B6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6E7-D83E-44FE-8269-0E663F06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3EA-D88F-47A6-8045-58550FC8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338-65AD-42FA-A4BC-E99D7621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ECF-DB74-407A-9CF2-6D8CF16F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F5E4-4441-4B89-BBEF-51FDCD4E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F14E-3115-4C0E-A836-C4E37045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BEB7-477D-4F20-8F7B-48610C55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F1F2-415E-4ED2-8D87-2A783866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72B3-3055-4744-B9BB-B3D91CBE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0329-7EE3-4516-B2CE-9470F0F9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F956-31BE-400C-826D-49D07DF2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C23-32EE-46A2-87C9-D0ECAD05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D8C2-4F12-4EAA-8A0D-060527CF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F66D-19E3-46FC-888F-33415100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68E7-E765-41A1-AAE9-5CD988DD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864D-7022-4278-B216-46D6AC73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A3EA-1ADE-4C5E-BD37-2D9018F0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D61-64AE-48B9-82F9-10D8F020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9EB-CE42-4026-A6EA-46466761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ED8-C4FA-4383-A642-9DFEB3D8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1DA-4C22-4CCF-B90D-8444F853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47A-93C7-4159-B91C-5E5104A0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967-8589-47EA-A297-C74D6E40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7A1-8909-455A-B101-198EB7D1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FCA190-ABF4-49C1-8D95-2BFD7C4411FD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CDD9C3-6120-43A9-A265-3CFAF741A9CF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9077F-B8A3-4885-B2FB-B35A35F08CDB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611520" y="3024360"/>
            <a:ext cx="61819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Nº11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Estrategia Comercial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2" name="Object 7" descr=""/>
          <p:cNvPicPr/>
          <p:nvPr/>
        </p:nvPicPr>
        <p:blipFill>
          <a:blip r:embed="rId1"/>
          <a:stretch/>
        </p:blipFill>
        <p:spPr>
          <a:xfrm>
            <a:off x="142920" y="1136520"/>
            <a:ext cx="5754600" cy="3297240"/>
          </a:xfrm>
          <a:prstGeom prst="rect">
            <a:avLst/>
          </a:prstGeom>
          <a:ln w="0">
            <a:noFill/>
          </a:ln>
        </p:spPr>
      </p:pic>
      <p:sp>
        <p:nvSpPr>
          <p:cNvPr id="153" name="5 CuadroTexto"/>
          <p:cNvSpPr/>
          <p:nvPr/>
        </p:nvSpPr>
        <p:spPr>
          <a:xfrm>
            <a:off x="611280" y="851040"/>
            <a:ext cx="6000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iveles de ventas de los Supermercados en Chi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Object 6" descr=""/>
          <p:cNvPicPr/>
          <p:nvPr/>
        </p:nvPicPr>
        <p:blipFill>
          <a:blip r:embed="rId2"/>
          <a:stretch/>
        </p:blipFill>
        <p:spPr>
          <a:xfrm>
            <a:off x="4057560" y="4280040"/>
            <a:ext cx="6126120" cy="3136680"/>
          </a:xfrm>
          <a:prstGeom prst="rect">
            <a:avLst/>
          </a:prstGeom>
          <a:ln w="0">
            <a:noFill/>
          </a:ln>
        </p:spPr>
      </p:pic>
      <p:sp>
        <p:nvSpPr>
          <p:cNvPr id="155" name="7 CuadroTexto"/>
          <p:cNvSpPr/>
          <p:nvPr/>
        </p:nvSpPr>
        <p:spPr>
          <a:xfrm>
            <a:off x="5254560" y="3930480"/>
            <a:ext cx="4286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netración de ventas en Chi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2520" y="49356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7200" spc="-1" strike="noStrike">
                <a:solidFill>
                  <a:srgbClr val="ff0000"/>
                </a:solidFill>
                <a:latin typeface="Times New Roman"/>
              </a:rPr>
              <a:t>Marketing </a:t>
            </a:r>
            <a:endParaRPr b="0" lang="en-US" sz="7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2 Flecha abajo"/>
          <p:cNvSpPr/>
          <p:nvPr/>
        </p:nvSpPr>
        <p:spPr>
          <a:xfrm>
            <a:off x="4075200" y="1708200"/>
            <a:ext cx="1930320" cy="1643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3 CuadroTexto"/>
          <p:cNvSpPr/>
          <p:nvPr/>
        </p:nvSpPr>
        <p:spPr>
          <a:xfrm>
            <a:off x="968400" y="3637080"/>
            <a:ext cx="814392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el proceso d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planear y ejecutar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concepción, precio, promoción y distribución de ideas, bienes y servicios, con el fin de crear intercambios que satisfagan  los objetivos de los individuos y de las organizaciones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merican Marketing Associatio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concepto de Marketing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2280" y="1771560"/>
            <a:ext cx="44704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el proceso de planificación y ejecu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 la concepción , fijación del precio, la promoción y la distribución 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deas, bienes y servic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crear intercamb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que satisfagan los objetivos de los individuos y de las organizacion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2000" y="1822320"/>
            <a:ext cx="4724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nálisis, planificación, organización, ejecución y contr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s variables controlables de Marketing (el Marketing Mix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os “productos”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objeto del Marke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Beneficio para las par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Sistema Comercial Simple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380880" y="3124080"/>
            <a:ext cx="8229600" cy="2362320"/>
            <a:chOff x="380880" y="3124080"/>
            <a:chExt cx="8229600" cy="2362320"/>
          </a:xfrm>
        </p:grpSpPr>
        <p:sp>
          <p:nvSpPr>
            <p:cNvPr id="164" name="AutoShape 4"/>
            <p:cNvSpPr/>
            <p:nvPr/>
          </p:nvSpPr>
          <p:spPr>
            <a:xfrm>
              <a:off x="380880" y="3124080"/>
              <a:ext cx="2667240" cy="2362320"/>
            </a:xfrm>
            <a:prstGeom prst="cube">
              <a:avLst>
                <a:gd name="adj" fmla="val 11513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Indust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(Grupo d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vendedore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5"/>
            <p:cNvSpPr/>
            <p:nvPr/>
          </p:nvSpPr>
          <p:spPr>
            <a:xfrm>
              <a:off x="5943600" y="3124080"/>
              <a:ext cx="2666880" cy="2362320"/>
            </a:xfrm>
            <a:prstGeom prst="cube">
              <a:avLst>
                <a:gd name="adj" fmla="val 11513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Merc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(Grupo de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ompradore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AutoShape 6"/>
          <p:cNvSpPr/>
          <p:nvPr/>
        </p:nvSpPr>
        <p:spPr>
          <a:xfrm>
            <a:off x="2819520" y="3429000"/>
            <a:ext cx="3124080" cy="838080"/>
          </a:xfrm>
          <a:prstGeom prst="rightArrow">
            <a:avLst>
              <a:gd name="adj1" fmla="val 50000"/>
              <a:gd name="adj2" fmla="val 931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enes/servi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3048120" y="4343400"/>
            <a:ext cx="2895480" cy="838080"/>
          </a:xfrm>
          <a:prstGeom prst="leftArrow">
            <a:avLst>
              <a:gd name="adj1" fmla="val 50000"/>
              <a:gd name="adj2" fmla="val 86372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n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8"/>
          <p:cNvGrpSpPr/>
          <p:nvPr/>
        </p:nvGrpSpPr>
        <p:grpSpPr>
          <a:xfrm>
            <a:off x="1371600" y="2009880"/>
            <a:ext cx="7543800" cy="1114200"/>
            <a:chOff x="1371600" y="2009880"/>
            <a:chExt cx="7543800" cy="1114200"/>
          </a:xfrm>
        </p:grpSpPr>
        <p:sp>
          <p:nvSpPr>
            <p:cNvPr id="169" name="AutoShape 9"/>
            <p:cNvSpPr/>
            <p:nvPr/>
          </p:nvSpPr>
          <p:spPr>
            <a:xfrm>
              <a:off x="1371600" y="2286000"/>
              <a:ext cx="7543800" cy="838080"/>
            </a:xfrm>
            <a:custGeom>
              <a:avLst/>
              <a:gdLst>
                <a:gd name="textAreaLeft" fmla="*/ 1320120 w 7543800"/>
                <a:gd name="textAreaRight" fmla="*/ 5469480 w 754380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3398760" y="2009880"/>
              <a:ext cx="25491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Comunic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Group 11"/>
          <p:cNvGrpSpPr/>
          <p:nvPr/>
        </p:nvGrpSpPr>
        <p:grpSpPr>
          <a:xfrm>
            <a:off x="380520" y="5491080"/>
            <a:ext cx="7543800" cy="1024200"/>
            <a:chOff x="380520" y="5491080"/>
            <a:chExt cx="7543800" cy="1024200"/>
          </a:xfrm>
        </p:grpSpPr>
        <p:sp>
          <p:nvSpPr>
            <p:cNvPr id="172" name="AutoShape 12"/>
            <p:cNvSpPr/>
            <p:nvPr/>
          </p:nvSpPr>
          <p:spPr>
            <a:xfrm flipH="1" flipV="1">
              <a:off x="379800" y="5491080"/>
              <a:ext cx="7543800" cy="838080"/>
            </a:xfrm>
            <a:custGeom>
              <a:avLst/>
              <a:gdLst>
                <a:gd name="textAreaLeft" fmla="*/ 1319760 w 7543800"/>
                <a:gd name="textAreaRight" fmla="*/ 5469120 w 754380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3492360" y="6024600"/>
              <a:ext cx="22320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Inform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Text Box 14"/>
          <p:cNvSpPr/>
          <p:nvPr/>
        </p:nvSpPr>
        <p:spPr>
          <a:xfrm>
            <a:off x="3440160" y="5973840"/>
            <a:ext cx="2529000" cy="5472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040200" y="2057400"/>
            <a:ext cx="3286080" cy="54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mun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Secuencia de la creación y entrega de valor 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835200" y="1763640"/>
            <a:ext cx="2666880" cy="1447560"/>
            <a:chOff x="835200" y="1763640"/>
            <a:chExt cx="2666880" cy="1447560"/>
          </a:xfrm>
        </p:grpSpPr>
        <p:sp>
          <p:nvSpPr>
            <p:cNvPr id="178" name="Rectangle 4"/>
            <p:cNvSpPr/>
            <p:nvPr/>
          </p:nvSpPr>
          <p:spPr>
            <a:xfrm>
              <a:off x="835200" y="1763640"/>
              <a:ext cx="2666880" cy="14475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5"/>
            <p:cNvSpPr/>
            <p:nvPr/>
          </p:nvSpPr>
          <p:spPr>
            <a:xfrm>
              <a:off x="1211040" y="2296800"/>
              <a:ext cx="1971360" cy="348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Arial"/>
                </a:rPr>
                <a:t>Escoger el Va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6"/>
          <p:cNvGrpSpPr/>
          <p:nvPr/>
        </p:nvGrpSpPr>
        <p:grpSpPr>
          <a:xfrm>
            <a:off x="3425760" y="1763640"/>
            <a:ext cx="2971800" cy="1447560"/>
            <a:chOff x="3425760" y="1763640"/>
            <a:chExt cx="2971800" cy="1447560"/>
          </a:xfrm>
        </p:grpSpPr>
        <p:sp>
          <p:nvSpPr>
            <p:cNvPr id="181" name="Rectangle 7"/>
            <p:cNvSpPr/>
            <p:nvPr/>
          </p:nvSpPr>
          <p:spPr>
            <a:xfrm>
              <a:off x="3425760" y="1763640"/>
              <a:ext cx="2971800" cy="14475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3789000" y="2296800"/>
              <a:ext cx="1895400" cy="348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Arial"/>
                </a:rPr>
                <a:t>Aportar el Va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3425760" y="1763640"/>
              <a:ext cx="304560" cy="144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10"/>
          <p:cNvGrpSpPr/>
          <p:nvPr/>
        </p:nvGrpSpPr>
        <p:grpSpPr>
          <a:xfrm>
            <a:off x="6016680" y="1763640"/>
            <a:ext cx="3809160" cy="1447560"/>
            <a:chOff x="6016680" y="1763640"/>
            <a:chExt cx="3809160" cy="1447560"/>
          </a:xfrm>
        </p:grpSpPr>
        <p:grpSp>
          <p:nvGrpSpPr>
            <p:cNvPr id="185" name="Group 11"/>
            <p:cNvGrpSpPr/>
            <p:nvPr/>
          </p:nvGrpSpPr>
          <p:grpSpPr>
            <a:xfrm>
              <a:off x="6089400" y="1763640"/>
              <a:ext cx="3736440" cy="1447560"/>
              <a:chOff x="6089400" y="1763640"/>
              <a:chExt cx="3736440" cy="1447560"/>
            </a:xfrm>
          </p:grpSpPr>
          <p:sp>
            <p:nvSpPr>
              <p:cNvPr id="186" name="AutoShape 12"/>
              <p:cNvSpPr/>
              <p:nvPr/>
            </p:nvSpPr>
            <p:spPr>
              <a:xfrm>
                <a:off x="6089400" y="1763640"/>
                <a:ext cx="3736440" cy="1447560"/>
              </a:xfrm>
              <a:custGeom>
                <a:avLst/>
                <a:gdLst>
                  <a:gd name="textAreaLeft" fmla="*/ 0 w 3736440"/>
                  <a:gd name="textAreaRight" fmla="*/ 3736800 w 3736440"/>
                  <a:gd name="textAreaTop" fmla="*/ 0 h 1447560"/>
                  <a:gd name="textAreaBottom" fmla="*/ 1447920 h 14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13"/>
              <p:cNvSpPr/>
              <p:nvPr/>
            </p:nvSpPr>
            <p:spPr>
              <a:xfrm>
                <a:off x="6437160" y="2296800"/>
                <a:ext cx="2264040" cy="3488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Arial"/>
                  </a:rPr>
                  <a:t>Comunicar el Valo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Line 14"/>
            <p:cNvSpPr/>
            <p:nvPr/>
          </p:nvSpPr>
          <p:spPr>
            <a:xfrm>
              <a:off x="6016680" y="1763640"/>
              <a:ext cx="292680" cy="144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765000" y="3287880"/>
            <a:ext cx="2971800" cy="771120"/>
            <a:chOff x="765000" y="3287880"/>
            <a:chExt cx="2971800" cy="771120"/>
          </a:xfrm>
        </p:grpSpPr>
        <p:sp>
          <p:nvSpPr>
            <p:cNvPr id="190" name="Text Box 16"/>
            <p:cNvSpPr/>
            <p:nvPr/>
          </p:nvSpPr>
          <p:spPr>
            <a:xfrm>
              <a:off x="1155960" y="3710160"/>
              <a:ext cx="25412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arketing estratég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17"/>
            <p:cNvSpPr/>
            <p:nvPr/>
          </p:nvSpPr>
          <p:spPr>
            <a:xfrm rot="16200000">
              <a:off x="2022120" y="2030400"/>
              <a:ext cx="457200" cy="29718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Group 18"/>
          <p:cNvGrpSpPr/>
          <p:nvPr/>
        </p:nvGrpSpPr>
        <p:grpSpPr>
          <a:xfrm>
            <a:off x="3882960" y="3287880"/>
            <a:ext cx="4952880" cy="806040"/>
            <a:chOff x="3882960" y="3287880"/>
            <a:chExt cx="4952880" cy="806040"/>
          </a:xfrm>
        </p:grpSpPr>
        <p:sp>
          <p:nvSpPr>
            <p:cNvPr id="193" name="Text Box 19"/>
            <p:cNvSpPr/>
            <p:nvPr/>
          </p:nvSpPr>
          <p:spPr>
            <a:xfrm>
              <a:off x="5265000" y="3745080"/>
              <a:ext cx="20599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Marketing táct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20"/>
            <p:cNvSpPr/>
            <p:nvPr/>
          </p:nvSpPr>
          <p:spPr>
            <a:xfrm rot="16200000">
              <a:off x="6130800" y="1040040"/>
              <a:ext cx="457200" cy="4952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28880 h 4952880"/>
                <a:gd name="textAreaBottom" fmla="*/ 4824000 h 495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Line 21"/>
          <p:cNvSpPr/>
          <p:nvPr/>
        </p:nvSpPr>
        <p:spPr>
          <a:xfrm>
            <a:off x="828720" y="1763640"/>
            <a:ext cx="800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835200" y="3211560"/>
            <a:ext cx="800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3"/>
          <p:cNvSpPr/>
          <p:nvPr/>
        </p:nvSpPr>
        <p:spPr>
          <a:xfrm flipH="1">
            <a:off x="828720" y="1763640"/>
            <a:ext cx="648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24"/>
          <p:cNvSpPr/>
          <p:nvPr/>
        </p:nvSpPr>
        <p:spPr>
          <a:xfrm>
            <a:off x="8842320" y="1763640"/>
            <a:ext cx="98424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25"/>
          <p:cNvSpPr/>
          <p:nvPr/>
        </p:nvSpPr>
        <p:spPr>
          <a:xfrm flipH="1">
            <a:off x="8842320" y="2525760"/>
            <a:ext cx="9842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3197160" y="1763640"/>
            <a:ext cx="53964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7"/>
          <p:cNvSpPr/>
          <p:nvPr/>
        </p:nvSpPr>
        <p:spPr>
          <a:xfrm>
            <a:off x="5781600" y="1763640"/>
            <a:ext cx="54000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556920" y="4444920"/>
            <a:ext cx="315828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Segmen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Selección Mcdo. M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osi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Estrategias de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3588480" y="4430880"/>
            <a:ext cx="327888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Desarrollo de 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Desarrollo de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Fijar pre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Abasteci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Fabr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Logística de dis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6684120" y="4430880"/>
            <a:ext cx="284148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Fuerza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Promoción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Public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Relaciones Públ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sfuerzo de Marketing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82560" y="1674720"/>
            <a:ext cx="42148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las 4 p´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du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e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la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mo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116680" y="1752480"/>
            <a:ext cx="4495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(Las 4 c´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ducto (servici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e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la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mo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erso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la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4 Flecha derecha"/>
          <p:cNvSpPr/>
          <p:nvPr/>
        </p:nvSpPr>
        <p:spPr>
          <a:xfrm>
            <a:off x="111240" y="4351320"/>
            <a:ext cx="8540640" cy="19288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33 Flecha derecha"/>
          <p:cNvSpPr/>
          <p:nvPr/>
        </p:nvSpPr>
        <p:spPr>
          <a:xfrm>
            <a:off x="142920" y="2136600"/>
            <a:ext cx="8540640" cy="15004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iferencia entre Marketing y Ventas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90520" y="1409760"/>
            <a:ext cx="1216080" cy="51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UNTO DE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ARTID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830600" y="1409760"/>
            <a:ext cx="1047240" cy="51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FOCO 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INTERÉ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543840" y="1403280"/>
            <a:ext cx="1015200" cy="51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605920" y="1422360"/>
            <a:ext cx="1362600" cy="51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ESPERA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81080" y="2765520"/>
            <a:ext cx="10364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FÁBR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671840" y="2765520"/>
            <a:ext cx="1394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426480" y="2612880"/>
            <a:ext cx="1374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ENTAS  Y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ROMOCIÓ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5515560" y="2536920"/>
            <a:ext cx="18914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UTILIDADES ME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IANTE VOLUM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E VENT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V="1">
            <a:off x="5486400" y="236232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5486400" y="403848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136080" y="5111640"/>
            <a:ext cx="1162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1676520" y="4959360"/>
            <a:ext cx="15440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NECESIDA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ES DEL CON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SUMIDO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3587760" y="5111640"/>
            <a:ext cx="13320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5339880" y="4883040"/>
            <a:ext cx="27266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UTILIDADES ME-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IANTE LA SATISFACCIÓN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EL CONSUMIDOR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1283040" y="3760920"/>
            <a:ext cx="22168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PE" sz="1500" spc="-1" strike="noStrike" u="sng">
                <a:solidFill>
                  <a:srgbClr val="000000"/>
                </a:solidFill>
                <a:uFillTx/>
                <a:latin typeface="Arial"/>
              </a:rPr>
              <a:t>El concepto de Vent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1066680" y="6308640"/>
            <a:ext cx="3838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PE" sz="1500" spc="-1" strike="noStrike" u="sng">
                <a:solidFill>
                  <a:srgbClr val="000000"/>
                </a:solidFill>
                <a:uFillTx/>
                <a:latin typeface="Arial"/>
              </a:rPr>
              <a:t>El concepto de Market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ctividad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8" name="2 CuadroTexto"/>
          <p:cNvSpPr/>
          <p:nvPr/>
        </p:nvSpPr>
        <p:spPr>
          <a:xfrm>
            <a:off x="611280" y="1494000"/>
            <a:ext cx="81439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Continuar trabajando en el desafío propuesto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Dudas y comentarios háganlas saber.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11-14T23:45:46Z</dcterms:modified>
  <cp:revision>44</cp:revision>
  <dc:subject/>
  <dc:title>Diapositiva 1</dc:title>
</cp:coreProperties>
</file>