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DBEBF-3A05-49B9-ABB0-E14F3FAD9D4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933A-8D2A-4A82-8AF6-338F471F022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28BE-C1E5-4023-9B9B-A29BF060224E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021-E624-448E-B13C-9DFA3BD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CB7-7675-4EEE-A3D6-CCA77BF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2C5-4842-400D-9154-1DD6A971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351-D7A4-47D5-9DCC-7C697790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3E14-2CDC-4991-A020-CE36ABD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F71-6FF9-44B5-BF00-6EBD1BF9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0F6-2C64-4DBF-AECD-8106F92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F9B-2038-4D45-A04A-B66C98F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5F3D-BE24-4937-AE7F-68F2D58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79AB-0D66-4EB1-A20F-14B6C57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B2C8-061B-4953-BA7F-AE306B1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43E-4383-4199-8572-C8653B1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F517-ACBD-4ABF-9F69-B358712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343-5473-4DCA-8EF7-39BC94D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D77-AF17-48A2-BCE6-6EEA0F8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D86A-0A32-4B6C-AE9E-88DBA7C5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6909-545A-4C63-B93C-52913F01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7D0-3B5A-4BAD-9FA1-F46A0EB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A32-A173-40D2-B3FC-71CECD1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9FE-96C4-4EF2-8AD1-F56662A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BC0-9DEA-467B-BBA2-55700D8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78F-1B0B-46AD-85A6-980562A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180-1F2F-4361-AA29-2433237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6D7-E9B9-427C-9FFD-2DC5D15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40E6FE-14FA-4C0E-98F2-1896C6C3FBE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11C9D4-D3D3-4303-BE88-188F66EA00B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20E6-962B-441D-B572-2C0F64D6676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11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 Comercial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Object 7" descr=""/>
          <p:cNvPicPr/>
          <p:nvPr/>
        </p:nvPicPr>
        <p:blipFill>
          <a:blip r:embed="rId1"/>
          <a:stretch/>
        </p:blipFill>
        <p:spPr>
          <a:xfrm>
            <a:off x="142920" y="1136520"/>
            <a:ext cx="5754600" cy="3297240"/>
          </a:xfrm>
          <a:prstGeom prst="rect">
            <a:avLst/>
          </a:prstGeom>
          <a:ln w="0">
            <a:noFill/>
          </a:ln>
        </p:spPr>
      </p:pic>
      <p:sp>
        <p:nvSpPr>
          <p:cNvPr id="153" name="5 CuadroTexto"/>
          <p:cNvSpPr/>
          <p:nvPr/>
        </p:nvSpPr>
        <p:spPr>
          <a:xfrm>
            <a:off x="611280" y="851040"/>
            <a:ext cx="600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iveles de ventas de los Supermercado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2"/>
          <a:stretch/>
        </p:blipFill>
        <p:spPr>
          <a:xfrm>
            <a:off x="4057560" y="4280040"/>
            <a:ext cx="6126120" cy="3136680"/>
          </a:xfrm>
          <a:prstGeom prst="rect">
            <a:avLst/>
          </a:prstGeom>
          <a:ln w="0">
            <a:noFill/>
          </a:ln>
        </p:spPr>
      </p:pic>
      <p:sp>
        <p:nvSpPr>
          <p:cNvPr id="155" name="7 CuadroTexto"/>
          <p:cNvSpPr/>
          <p:nvPr/>
        </p:nvSpPr>
        <p:spPr>
          <a:xfrm>
            <a:off x="5254560" y="3930480"/>
            <a:ext cx="428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netración de venta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2520" y="49356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7200" spc="-1" strike="noStrike">
                <a:solidFill>
                  <a:srgbClr val="ff0000"/>
                </a:solidFill>
                <a:latin typeface="Times New Roman"/>
              </a:rPr>
              <a:t>Marketing 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2 Flecha abajo"/>
          <p:cNvSpPr/>
          <p:nvPr/>
        </p:nvSpPr>
        <p:spPr>
          <a:xfrm>
            <a:off x="4075200" y="1708200"/>
            <a:ext cx="1930320" cy="16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3 CuadroTexto"/>
          <p:cNvSpPr/>
          <p:nvPr/>
        </p:nvSpPr>
        <p:spPr>
          <a:xfrm>
            <a:off x="968400" y="3637080"/>
            <a:ext cx="814392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el proces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lanear y ejecutar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concepción, precio, promoción y distribución de ideas, bienes y servicios, con el fin de crear intercambios que satisfagan  los objetivos de los individuos y de las organizaciones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merican Marketing Associatio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concept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2280" y="1771560"/>
            <a:ext cx="44704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el proceso de planificación y ejecu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 la concepción , fijación del precio, la promoción y la distribución 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deas, bienes y servic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crear intercamb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satisfagan los objetivos de los individuos y de las organizacio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0" y="1822320"/>
            <a:ext cx="4724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nálisis, planificación, organización, ejecución y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variables controlables de Marketing (el Marketing Mi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os “productos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objeto del Mark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eneficio para las par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Sistema Comercial Simple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380880" y="3124080"/>
            <a:ext cx="8229600" cy="2362320"/>
            <a:chOff x="380880" y="3124080"/>
            <a:chExt cx="8229600" cy="2362320"/>
          </a:xfrm>
        </p:grpSpPr>
        <p:sp>
          <p:nvSpPr>
            <p:cNvPr id="164" name="AutoShape 4"/>
            <p:cNvSpPr/>
            <p:nvPr/>
          </p:nvSpPr>
          <p:spPr>
            <a:xfrm>
              <a:off x="380880" y="3124080"/>
              <a:ext cx="266724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dust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vende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5943600" y="3124080"/>
              <a:ext cx="266688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mpra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AutoShape 6"/>
          <p:cNvSpPr/>
          <p:nvPr/>
        </p:nvSpPr>
        <p:spPr>
          <a:xfrm>
            <a:off x="2819520" y="3429000"/>
            <a:ext cx="3124080" cy="838080"/>
          </a:xfrm>
          <a:prstGeom prst="rightArrow">
            <a:avLst>
              <a:gd name="adj1" fmla="val 50000"/>
              <a:gd name="adj2" fmla="val 931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enes/serv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3048120" y="4343400"/>
            <a:ext cx="2895480" cy="838080"/>
          </a:xfrm>
          <a:prstGeom prst="leftArrow">
            <a:avLst>
              <a:gd name="adj1" fmla="val 50000"/>
              <a:gd name="adj2" fmla="val 8637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1371600" y="2009880"/>
            <a:ext cx="7543800" cy="1114200"/>
            <a:chOff x="1371600" y="2009880"/>
            <a:chExt cx="7543800" cy="1114200"/>
          </a:xfrm>
        </p:grpSpPr>
        <p:sp>
          <p:nvSpPr>
            <p:cNvPr id="169" name="AutoShape 9"/>
            <p:cNvSpPr/>
            <p:nvPr/>
          </p:nvSpPr>
          <p:spPr>
            <a:xfrm>
              <a:off x="1371600" y="2286000"/>
              <a:ext cx="7543800" cy="838080"/>
            </a:xfrm>
            <a:custGeom>
              <a:avLst/>
              <a:gdLst>
                <a:gd name="textAreaLeft" fmla="*/ 1320120 w 7543800"/>
                <a:gd name="textAreaRight" fmla="*/ 546948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398760" y="2009880"/>
              <a:ext cx="2549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unic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380520" y="5491080"/>
            <a:ext cx="7543800" cy="1024200"/>
            <a:chOff x="380520" y="5491080"/>
            <a:chExt cx="7543800" cy="1024200"/>
          </a:xfrm>
        </p:grpSpPr>
        <p:sp>
          <p:nvSpPr>
            <p:cNvPr id="172" name="AutoShape 12"/>
            <p:cNvSpPr/>
            <p:nvPr/>
          </p:nvSpPr>
          <p:spPr>
            <a:xfrm flipH="1" flipV="1">
              <a:off x="379800" y="5491080"/>
              <a:ext cx="7543800" cy="838080"/>
            </a:xfrm>
            <a:custGeom>
              <a:avLst/>
              <a:gdLst>
                <a:gd name="textAreaLeft" fmla="*/ 1319760 w 7543800"/>
                <a:gd name="textAreaRight" fmla="*/ 546912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3492360" y="6024600"/>
              <a:ext cx="22320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Inform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Text Box 14"/>
          <p:cNvSpPr/>
          <p:nvPr/>
        </p:nvSpPr>
        <p:spPr>
          <a:xfrm>
            <a:off x="3440160" y="5973840"/>
            <a:ext cx="2529000" cy="5472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0200" y="2057400"/>
            <a:ext cx="3286080" cy="54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Secuencia de la creación y entrega de valor 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835200" y="1763640"/>
            <a:ext cx="2666880" cy="1447560"/>
            <a:chOff x="835200" y="1763640"/>
            <a:chExt cx="2666880" cy="1447560"/>
          </a:xfrm>
        </p:grpSpPr>
        <p:sp>
          <p:nvSpPr>
            <p:cNvPr id="178" name="Rectangle 4"/>
            <p:cNvSpPr/>
            <p:nvPr/>
          </p:nvSpPr>
          <p:spPr>
            <a:xfrm>
              <a:off x="835200" y="1763640"/>
              <a:ext cx="266688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1211040" y="2296800"/>
              <a:ext cx="197136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Escoge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6"/>
          <p:cNvGrpSpPr/>
          <p:nvPr/>
        </p:nvGrpSpPr>
        <p:grpSpPr>
          <a:xfrm>
            <a:off x="3425760" y="1763640"/>
            <a:ext cx="2971800" cy="1447560"/>
            <a:chOff x="3425760" y="1763640"/>
            <a:chExt cx="2971800" cy="1447560"/>
          </a:xfrm>
        </p:grpSpPr>
        <p:sp>
          <p:nvSpPr>
            <p:cNvPr id="181" name="Rectangle 7"/>
            <p:cNvSpPr/>
            <p:nvPr/>
          </p:nvSpPr>
          <p:spPr>
            <a:xfrm>
              <a:off x="3425760" y="1763640"/>
              <a:ext cx="297180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3789000" y="2296800"/>
              <a:ext cx="189540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Aporta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3425760" y="1763640"/>
              <a:ext cx="30456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10"/>
          <p:cNvGrpSpPr/>
          <p:nvPr/>
        </p:nvGrpSpPr>
        <p:grpSpPr>
          <a:xfrm>
            <a:off x="6016680" y="1763640"/>
            <a:ext cx="3809160" cy="1447560"/>
            <a:chOff x="6016680" y="1763640"/>
            <a:chExt cx="3809160" cy="1447560"/>
          </a:xfrm>
        </p:grpSpPr>
        <p:grpSp>
          <p:nvGrpSpPr>
            <p:cNvPr id="185" name="Group 11"/>
            <p:cNvGrpSpPr/>
            <p:nvPr/>
          </p:nvGrpSpPr>
          <p:grpSpPr>
            <a:xfrm>
              <a:off x="6089400" y="1763640"/>
              <a:ext cx="3736440" cy="1447560"/>
              <a:chOff x="6089400" y="1763640"/>
              <a:chExt cx="3736440" cy="1447560"/>
            </a:xfrm>
          </p:grpSpPr>
          <p:sp>
            <p:nvSpPr>
              <p:cNvPr id="186" name="AutoShape 12"/>
              <p:cNvSpPr/>
              <p:nvPr/>
            </p:nvSpPr>
            <p:spPr>
              <a:xfrm>
                <a:off x="6089400" y="1763640"/>
                <a:ext cx="3736440" cy="1447560"/>
              </a:xfrm>
              <a:custGeom>
                <a:avLst/>
                <a:gdLst>
                  <a:gd name="textAreaLeft" fmla="*/ 0 w 3736440"/>
                  <a:gd name="textAreaRight" fmla="*/ 3736800 w 3736440"/>
                  <a:gd name="textAreaTop" fmla="*/ 0 h 1447560"/>
                  <a:gd name="textAreaBottom" fmla="*/ 14479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13"/>
              <p:cNvSpPr/>
              <p:nvPr/>
            </p:nvSpPr>
            <p:spPr>
              <a:xfrm>
                <a:off x="6437160" y="2296800"/>
                <a:ext cx="2264040" cy="348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Arial"/>
                  </a:rPr>
                  <a:t>Comunicar el Val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6016680" y="1763640"/>
              <a:ext cx="29268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765000" y="3287880"/>
            <a:ext cx="2971800" cy="771120"/>
            <a:chOff x="765000" y="3287880"/>
            <a:chExt cx="2971800" cy="771120"/>
          </a:xfrm>
        </p:grpSpPr>
        <p:sp>
          <p:nvSpPr>
            <p:cNvPr id="190" name="Text Box 16"/>
            <p:cNvSpPr/>
            <p:nvPr/>
          </p:nvSpPr>
          <p:spPr>
            <a:xfrm>
              <a:off x="1155960" y="3710160"/>
              <a:ext cx="25412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arketing estratég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17"/>
            <p:cNvSpPr/>
            <p:nvPr/>
          </p:nvSpPr>
          <p:spPr>
            <a:xfrm rot="16200000">
              <a:off x="2022120" y="2030400"/>
              <a:ext cx="457200" cy="2971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3882960" y="3287880"/>
            <a:ext cx="4952880" cy="806040"/>
            <a:chOff x="3882960" y="3287880"/>
            <a:chExt cx="4952880" cy="806040"/>
          </a:xfrm>
        </p:grpSpPr>
        <p:sp>
          <p:nvSpPr>
            <p:cNvPr id="193" name="Text Box 19"/>
            <p:cNvSpPr/>
            <p:nvPr/>
          </p:nvSpPr>
          <p:spPr>
            <a:xfrm>
              <a:off x="5265000" y="3745080"/>
              <a:ext cx="2059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Marketing tác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 rot="16200000">
              <a:off x="6130800" y="1040040"/>
              <a:ext cx="457200" cy="4952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8880 h 4952880"/>
                <a:gd name="textAreaBottom" fmla="*/ 482400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Line 21"/>
          <p:cNvSpPr/>
          <p:nvPr/>
        </p:nvSpPr>
        <p:spPr>
          <a:xfrm>
            <a:off x="828720" y="1763640"/>
            <a:ext cx="800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835200" y="3211560"/>
            <a:ext cx="800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 flipH="1">
            <a:off x="828720" y="1763640"/>
            <a:ext cx="64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8842320" y="1763640"/>
            <a:ext cx="9842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5"/>
          <p:cNvSpPr/>
          <p:nvPr/>
        </p:nvSpPr>
        <p:spPr>
          <a:xfrm flipH="1">
            <a:off x="8842320" y="2525760"/>
            <a:ext cx="984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197160" y="1763640"/>
            <a:ext cx="53964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5781600" y="1763640"/>
            <a:ext cx="54000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556920" y="4444920"/>
            <a:ext cx="31582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g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lección Mcdo. M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osi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Estrategias de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3588480" y="4430880"/>
            <a:ext cx="32788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ijar 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Abaste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abr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Logística de 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6684120" y="4430880"/>
            <a:ext cx="28414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uerza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romoción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Relaciones Púb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sfuerz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2560" y="1674720"/>
            <a:ext cx="4214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las 4 p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11668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(Las 4 c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 (servic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erso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4 Flecha derecha"/>
          <p:cNvSpPr/>
          <p:nvPr/>
        </p:nvSpPr>
        <p:spPr>
          <a:xfrm>
            <a:off x="111240" y="4351320"/>
            <a:ext cx="8540640" cy="1928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33 Flecha derecha"/>
          <p:cNvSpPr/>
          <p:nvPr/>
        </p:nvSpPr>
        <p:spPr>
          <a:xfrm>
            <a:off x="142920" y="2136600"/>
            <a:ext cx="8540640" cy="15004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ferencia entre Marketing y Venta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90520" y="1409760"/>
            <a:ext cx="121608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UNTO D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ARTI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830600" y="1409760"/>
            <a:ext cx="104724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OCO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543840" y="1403280"/>
            <a:ext cx="10152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605920" y="1422360"/>
            <a:ext cx="13626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81080" y="2765520"/>
            <a:ext cx="10364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ÁBR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71840" y="2765520"/>
            <a:ext cx="1394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426480" y="2612880"/>
            <a:ext cx="1374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ENTAS  Y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MO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515560" y="2536920"/>
            <a:ext cx="1891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VOLUM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5486400" y="23623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36080" y="5111640"/>
            <a:ext cx="1162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1676520" y="4959360"/>
            <a:ext cx="15440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CESIDA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S DEL CON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UMID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587760" y="5111640"/>
            <a:ext cx="133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5339880" y="4883040"/>
            <a:ext cx="27266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LA SATISFACCIÓ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L CONSUMIDOR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283040" y="3760920"/>
            <a:ext cx="22168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1066680" y="6308640"/>
            <a:ext cx="3838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2 CuadroTexto"/>
          <p:cNvSpPr/>
          <p:nvPr/>
        </p:nvSpPr>
        <p:spPr>
          <a:xfrm>
            <a:off x="611280" y="1494000"/>
            <a:ext cx="81439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ntinuar trabajando en el desafío propuest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udas y comentarios háganlas saber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14T23:45:46Z</dcterms:modified>
  <cp:revision>44</cp:revision>
  <dc:subject/>
  <dc:title>Diapositiva 1</dc:title>
</cp:coreProperties>
</file>