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194AC-3A8E-47A0-9656-F92567904395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3EFA0-82B1-4C44-B8CB-72417D51B80A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B33-E205-4584-8699-E7DAB3F6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ECB-08BE-4ACF-B8FE-D99E7AAF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2C6-F287-4490-B138-7FCF0521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037-8A43-404C-9425-460B8664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E2DF-2226-4E30-9DA6-3984F3B0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1424-BD2D-4463-BF05-9E779F93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E22F-73A6-4F81-AD3C-30CEA38A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FC39-462C-4525-BDD5-72E24155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F276-95F2-4CEF-8C48-FE6A8C42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9526-DCD1-4C62-AB2C-BFB79FE4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F015-F66A-4F01-98F4-C81EE2DE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E3B-2F56-4611-BAE5-C6660B2C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E185-AE78-4B77-89B0-AFD72240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ADD0-A98E-47AE-8EFA-F328CEA1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EA77-EF93-444A-97D2-A3789A1E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12B1-91D5-4790-93FF-FA781F53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1809-F071-4938-B2C7-2C5E0A3F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6BF-3E7D-498B-97A2-BEFA6EEC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A26-1CB4-4478-BE7E-03D42473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03B-744D-4DE9-8040-FE95326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A5C-7B62-480F-A051-067695DD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C88-1D63-4B20-AD77-7B76606F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EDC-69FD-4107-A27D-CC3267DB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CDE-7056-4ED1-A884-5D0BD1DB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9EE3AA-062E-4DB9-98F0-0B27EF6F7BB5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9378AC-6AD5-4E89-9144-C5F7185734AF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7E0E2-3EBD-4193-94B6-D2211AB3E0CF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9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Recursos Human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esafío III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5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desafío tiene por objetivo que los equipos desarrollen la propuesta de puesta en marcha de la empresa. Para ello 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arrollar la imagen corporativa de la empresa (logo, slogan, color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zcan la misión y visión 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zcan las principales a decisiones a seguir en un plazo de evaluación a 5 años. Se deben identificar las decisiones operativas, tácticas y operativas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ormato de Entrega: Documento Escr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CuadroTexto"/>
          <p:cNvSpPr/>
          <p:nvPr/>
        </p:nvSpPr>
        <p:spPr>
          <a:xfrm>
            <a:off x="1254240" y="1065240"/>
            <a:ext cx="7143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echa de Entrega: Lunes 9/11/200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7 CuadroTexto"/>
          <p:cNvSpPr/>
          <p:nvPr/>
        </p:nvSpPr>
        <p:spPr>
          <a:xfrm>
            <a:off x="539640" y="1136520"/>
            <a:ext cx="878688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que se desarrolla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PYME nacional, la cual comercializa pisos flotantes, alfombras y cortinas desea expandirse en los mercados latinos (Perú, Argentina y Paraguay) el próximo año. El objetivo es pasar de $1.500 MM a $5.800 MM de ventas anu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mpresa tiene una antigüedad de 25 años y la planta de trabajadores se compone de 12 técnicos no profesionales y dos gerentes. La antigüedad promedio de los técnicos es de 16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Gerente General ha declarado que la empresa no está apta para asumir el desafío propuesto, por lo cual ha decidido contratar un grupo de expertos consultores para gestionar el camb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¿Cuál es la situación inicial, sin mayores antecedentes, que se podría esperar encontrar en la organizac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i. ¿Qué medidas tomaría usted para comenzar con el proceso de expans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ii. ¿Dónde piensa usted que se encuentran las mayores dificultad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4360" y="1364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Principales actividades realizadas por la unidad de RRHH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 administración de empresas,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 la capacidad  que aportan los miembros de la organización en pos del logro de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er Senge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ecuentemente se entiende por recursos humanos a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que se ocupa de seleccionar, contratar, formar, emplear y retener a los colaboradores de la organ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1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8 Rectángulo redondeado"/>
          <p:cNvSpPr/>
          <p:nvPr/>
        </p:nvSpPr>
        <p:spPr>
          <a:xfrm>
            <a:off x="825480" y="1208160"/>
            <a:ext cx="392904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 de Recurs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9 Rectángulo redondeado"/>
          <p:cNvSpPr/>
          <p:nvPr/>
        </p:nvSpPr>
        <p:spPr>
          <a:xfrm>
            <a:off x="1897200" y="2065320"/>
            <a:ext cx="628632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lanificación de planillas y selección de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10 Rectángulo redondeado"/>
          <p:cNvSpPr/>
          <p:nvPr/>
        </p:nvSpPr>
        <p:spPr>
          <a:xfrm>
            <a:off x="1897200" y="2922480"/>
            <a:ext cx="628632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cogida y formación de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1 Rectángulo redondeado"/>
          <p:cNvSpPr/>
          <p:nvPr/>
        </p:nvSpPr>
        <p:spPr>
          <a:xfrm>
            <a:off x="1897200" y="3780000"/>
            <a:ext cx="6286320" cy="42840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tivación de emple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12 Rectángulo redondeado"/>
          <p:cNvSpPr/>
          <p:nvPr/>
        </p:nvSpPr>
        <p:spPr>
          <a:xfrm>
            <a:off x="1897200" y="4637160"/>
            <a:ext cx="6286320" cy="42840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Valorización de puestos de traba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13 Rectángulo redondeado"/>
          <p:cNvSpPr/>
          <p:nvPr/>
        </p:nvSpPr>
        <p:spPr>
          <a:xfrm>
            <a:off x="1968480" y="5565600"/>
            <a:ext cx="628668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 de remuneraciones y ley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15 Conector angular"/>
          <p:cNvCxnSpPr>
            <a:stCxn id="156" idx="1"/>
          </p:cNvCxnSpPr>
          <p:nvPr/>
        </p:nvCxnSpPr>
        <p:spPr>
          <a:xfrm flipH="1" flipV="1" rot="10800000">
            <a:off x="824400" y="1492920"/>
            <a:ext cx="1072440" cy="857880"/>
          </a:xfrm>
          <a:prstGeom prst="bentConnector3">
            <a:avLst>
              <a:gd name="adj1" fmla="val -2132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20 Forma"/>
          <p:cNvCxnSpPr>
            <a:endCxn id="158" idx="1"/>
          </p:cNvCxnSpPr>
          <p:nvPr/>
        </p:nvCxnSpPr>
        <p:spPr>
          <a:xfrm>
            <a:off x="825120" y="2350800"/>
            <a:ext cx="1072440" cy="786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20 Forma"/>
          <p:cNvCxnSpPr/>
          <p:nvPr/>
        </p:nvCxnSpPr>
        <p:spPr>
          <a:xfrm flipH="1" rot="16200000">
            <a:off x="768960" y="2865600"/>
            <a:ext cx="1572120" cy="542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20 Forma"/>
          <p:cNvCxnSpPr>
            <a:endCxn id="160" idx="1"/>
          </p:cNvCxnSpPr>
          <p:nvPr/>
        </p:nvCxnSpPr>
        <p:spPr>
          <a:xfrm flipH="1" rot="16200000">
            <a:off x="288720" y="3243600"/>
            <a:ext cx="2500920" cy="715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20 Forma"/>
          <p:cNvCxnSpPr>
            <a:endCxn id="161" idx="1"/>
          </p:cNvCxnSpPr>
          <p:nvPr/>
        </p:nvCxnSpPr>
        <p:spPr>
          <a:xfrm flipH="1" rot="16200000">
            <a:off x="-190800" y="3621600"/>
            <a:ext cx="3429720" cy="888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2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lanificación de planillas y selección de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6 Rectángulo"/>
          <p:cNvSpPr/>
          <p:nvPr/>
        </p:nvSpPr>
        <p:spPr>
          <a:xfrm>
            <a:off x="896760" y="220824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las necesidades cuantitativas y cualitativas de los depart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r las posibilidades de promoción inte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teamiento final de necesidades a corto, medio y largo plaz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http://pymesdefamilia.files.wordpress.com/2009/05/recursos-humanos.jpg"/>
          <p:cNvPicPr/>
          <p:nvPr/>
        </p:nvPicPr>
        <p:blipFill>
          <a:blip r:embed="rId1"/>
          <a:stretch/>
        </p:blipFill>
        <p:spPr>
          <a:xfrm>
            <a:off x="5183280" y="4422600"/>
            <a:ext cx="4381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3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lección de Pers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5 Rectángulo"/>
          <p:cNvSpPr/>
          <p:nvPr/>
        </p:nvSpPr>
        <p:spPr>
          <a:xfrm>
            <a:off x="468360" y="1708200"/>
            <a:ext cx="8215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selección de trabajadores supone un conjunto de actividades y técnicas encaminadas a captar los mejores profesionales para la empresa en función de las necesidades de la mi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el puesto a cubr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ar el proceso para la búsqueda de posibles candi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o servicios públicos de emp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privadas de colo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mpresas de trabajo temp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nuncios en medios de comun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http://www.ceintec.com/curso_tutorial_de_tecnico_de_seleccion_de_personal_y_planificacion_de_plantillas_online_a_distancia_por_internet_on_line_5642910.jpg"/>
          <p:cNvPicPr/>
          <p:nvPr/>
        </p:nvPicPr>
        <p:blipFill>
          <a:blip r:embed="rId1"/>
          <a:stretch/>
        </p:blipFill>
        <p:spPr>
          <a:xfrm>
            <a:off x="6897600" y="550872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4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ases en la selección de pers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www.ceintec.com/curso_tutorial_de_tecnico_de_seleccion_de_personal_y_planificacion_de_plantillas_online_a_distancia_por_internet_on_line_5642910.jpg"/>
          <p:cNvPicPr/>
          <p:nvPr/>
        </p:nvPicPr>
        <p:blipFill>
          <a:blip r:embed="rId1"/>
          <a:stretch/>
        </p:blipFill>
        <p:spPr>
          <a:xfrm>
            <a:off x="6826320" y="5208480"/>
            <a:ext cx="285732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9 Rectángulo"/>
          <p:cNvSpPr/>
          <p:nvPr/>
        </p:nvSpPr>
        <p:spPr>
          <a:xfrm>
            <a:off x="682560" y="2208240"/>
            <a:ext cx="737712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el puesto a cubr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ar el proceso más adecuado para la búsqueda de posibles candi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de colocación o servicios públicos de emp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privadas de colo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mpresas de trabajo temp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serción de anuncios en prensa</a:t>
            </a:r>
            <a:r>
              <a:rPr b="0" lang="es-ES" sz="2000" spc="-1" strike="noStrike">
                <a:solidFill>
                  <a:srgbClr val="33cc33"/>
                </a:solidFill>
                <a:latin typeface="Arial"/>
                <a:ea typeface="DejaVu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5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cogida y formación de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6 Rectángulo"/>
          <p:cNvSpPr/>
          <p:nvPr/>
        </p:nvSpPr>
        <p:spPr>
          <a:xfrm>
            <a:off x="968400" y="2208240"/>
            <a:ext cx="7215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rabajador entra a formar parte activa y efectiva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 de ser formado e instruido específicamente en su nuevo puesto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ta entablar contacto y cooperar con otros compañ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necesario diseñar un plan de acogida, formación y capacitación de acorde con el modelo de negocio de la organiz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6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tivaciones de los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6 Rectángulo"/>
          <p:cNvSpPr/>
          <p:nvPr/>
        </p:nvSpPr>
        <p:spPr>
          <a:xfrm>
            <a:off x="968400" y="2208240"/>
            <a:ext cx="7215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que activar y mantener la conducta del trabajador hacia un fin u obje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fundamental e importantísim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necesario que el trabajador se sienta satisfecho con su desarrollo, carrera profesional y retribución salarial.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r las condiciones necesarias para que el trabajador pueda desarrollarse de manera personal y profes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7 Diagrama" descr=""/>
          <p:cNvPicPr/>
          <p:nvPr/>
        </p:nvPicPr>
        <p:blipFill>
          <a:blip r:embed="rId1"/>
          <a:stretch/>
        </p:blipFill>
        <p:spPr>
          <a:xfrm>
            <a:off x="2809800" y="5383080"/>
            <a:ext cx="44499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11-02T02:09:06Z</dcterms:modified>
  <cp:revision>19</cp:revision>
  <dc:subject/>
  <dc:title>Diapositiva 1</dc:title>
</cp:coreProperties>
</file>