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AutoShape 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AutoShape 2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AutoShape 4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AutoShape 5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AutoShape 6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AutoShape 7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AutoShape 8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AutoShape 9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AutoShape 10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AutoShape 1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AutoShape 12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AutoShape 13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AutoShape 14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AutoShape 15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AutoShape 16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AutoShape 17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AutoShape 18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AutoShape 19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AutoShape 20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AutoShape 2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AutoShape 22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AutoShape 23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AutoShape 24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AutoShape 25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AutoShape 26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AutoShape 27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AutoShape 28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29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AutoShape 30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AutoShape 3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32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AutoShape 33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AutoShape 34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AutoShape 35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AutoShape 36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AutoShape 37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AutoShape 38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AutoShape 39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40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AutoShape 4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AutoShape 42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AutoShape 43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AutoShape 44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AutoShape 45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AutoShape 46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AutoShape 47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AutoShape 48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267160" cy="393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5970600" cy="47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01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dt" idx="7"/>
          </p:nvPr>
        </p:nvSpPr>
        <p:spPr>
          <a:xfrm>
            <a:off x="4280040" y="0"/>
            <a:ext cx="3201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0" y="10155240"/>
            <a:ext cx="3201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4280040" y="10155240"/>
            <a:ext cx="3201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lnSpc>
                <a:spcPct val="7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7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DE5DEB-4E45-481F-8B75-9AD574BE0B51}" type="slidenum">
              <a:rPr b="0" lang="es-CL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54"/>
          <p:cNvSpPr/>
          <p:nvPr/>
        </p:nvSpPr>
        <p:spPr>
          <a:xfrm>
            <a:off x="4280040" y="10155240"/>
            <a:ext cx="3201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7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96837F-90A8-41DB-9831-3E18DC126413}" type="slidenum">
              <a:rPr b="0" lang="es-CL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 Box 1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5972040" cy="47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7A776-DCE0-4E86-859F-5D669969F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899316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60" y="4335480"/>
            <a:ext cx="899316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DE7B7-4E77-4823-A483-3AAAAC0B3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12720" y="176796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04360" y="433548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112720" y="433548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59C89-A396-4661-BDBD-FB8DECBEB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289548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44920" y="1767960"/>
            <a:ext cx="289548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585480" y="1767960"/>
            <a:ext cx="289548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4360" y="4335480"/>
            <a:ext cx="289548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44920" y="4335480"/>
            <a:ext cx="289548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585480" y="4335480"/>
            <a:ext cx="289548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5873F-FB46-49F8-84BF-711DE6DC2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88666-41BE-43EA-8F44-C48E278DC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504360" y="1767960"/>
            <a:ext cx="899316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BE95B-0D1B-4B2B-85D4-97EA3F11A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899316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D01B2-2405-4AFD-8E1F-6B9432F14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388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12720" y="1767960"/>
            <a:ext cx="4388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EC5C5-0AC7-4259-8C70-358D0C314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91225-C346-4B59-992A-81F58E93A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504360" y="48960"/>
            <a:ext cx="8993160" cy="54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F83F1-15A2-4D46-A13B-DDDDC357F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12720" y="1767960"/>
            <a:ext cx="4388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04360" y="433548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28AE8-5EC1-498C-A1ED-95A1979CF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04360" y="1767960"/>
            <a:ext cx="899316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8CD4F-A744-42FB-AA4F-C92E690C4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388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12720" y="176796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112720" y="433548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69BA2-37C5-46BA-BD0B-AED919BE9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112720" y="176796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04360" y="4335480"/>
            <a:ext cx="899316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0979C-CAA1-4044-B1D3-621D58E23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899316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360" y="4335480"/>
            <a:ext cx="899316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BE46C-9730-4248-BDED-F0B8491D2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12720" y="176796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3548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112720" y="433548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193FE-051C-4FA8-B33D-B27FFA404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289548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544920" y="1767960"/>
            <a:ext cx="289548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585480" y="1767960"/>
            <a:ext cx="289548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04360" y="4335480"/>
            <a:ext cx="289548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544920" y="4335480"/>
            <a:ext cx="289548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585480" y="4335480"/>
            <a:ext cx="289548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9E352-872E-42AE-AA6E-A3FF1628C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899316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7CA06-8427-4197-AC2D-F7266BCCD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388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12720" y="1767960"/>
            <a:ext cx="4388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2934F-5245-44F2-B100-23D81AF4E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3714A-0157-43C8-A09E-F396232CB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504360" y="48960"/>
            <a:ext cx="8993160" cy="54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900A9-EC2B-4E63-A871-A64685511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12720" y="1767960"/>
            <a:ext cx="4388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04360" y="433548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7400B-4B0E-45A1-914B-93F72FCDA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388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12720" y="176796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112720" y="433548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D3293-4544-4BC4-9639-648BEB0A5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12720" y="176796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4360" y="4335480"/>
            <a:ext cx="899316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5A52D-87B2-4E44-BF3C-5C77BBF5C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400" spc="-1" strike="noStrike">
                <a:solidFill>
                  <a:srgbClr val="ff0000"/>
                </a:solidFill>
                <a:latin typeface="Times New Roman"/>
              </a:rPr>
              <a:t>Click to edit the title text format</a:t>
            </a: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4360" y="1767960"/>
            <a:ext cx="899316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7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4720" y="6886080"/>
            <a:ext cx="2268720" cy="44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17960" cy="44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271600" cy="44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CL" sz="1400" spc="-1" strike="noStrike">
                <a:solidFill>
                  <a:srgbClr val="ff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107821E-330C-44E7-92CD-2F08DF333249}" type="slidenum">
              <a:rPr b="0" lang="es-CL" sz="1400" spc="-1" strike="noStrike">
                <a:solidFill>
                  <a:srgbClr val="ff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0" y="0"/>
            <a:ext cx="10080720" cy="181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Rectangle 7"/>
          <p:cNvSpPr/>
          <p:nvPr/>
        </p:nvSpPr>
        <p:spPr>
          <a:xfrm>
            <a:off x="0" y="7378560"/>
            <a:ext cx="10080720" cy="181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Line 8"/>
          <p:cNvSpPr/>
          <p:nvPr/>
        </p:nvSpPr>
        <p:spPr>
          <a:xfrm>
            <a:off x="9720360" y="181080"/>
            <a:ext cx="1440" cy="7378560"/>
          </a:xfrm>
          <a:prstGeom prst="line">
            <a:avLst/>
          </a:prstGeom>
          <a:ln w="720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-181440" y="177840"/>
            <a:ext cx="8993160" cy="118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2"/>
          <a:stretch/>
        </p:blipFill>
        <p:spPr>
          <a:xfrm>
            <a:off x="6053040" y="708120"/>
            <a:ext cx="2766960" cy="73188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3"/>
          <p:cNvSpPr/>
          <p:nvPr/>
        </p:nvSpPr>
        <p:spPr>
          <a:xfrm>
            <a:off x="8999640" y="181080"/>
            <a:ext cx="900000" cy="7378560"/>
          </a:xfrm>
          <a:prstGeom prst="rect">
            <a:avLst/>
          </a:prstGeom>
          <a:solidFill>
            <a:srgbClr val="b3b3b3">
              <a:alpha val="50000"/>
            </a:srgbClr>
          </a:solidFill>
          <a:ln w="9360">
            <a:solidFill>
              <a:srgbClr val="b3b3b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8640360" y="8098920"/>
            <a:ext cx="2622600" cy="1002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marL="294840" indent="-29484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69040" indent="-19656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69040" indent="-19656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69040" indent="-19656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504720" y="6886080"/>
            <a:ext cx="2268720" cy="44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447720" y="6886080"/>
            <a:ext cx="3117960" cy="44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651720" y="6840360"/>
            <a:ext cx="2270160" cy="4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CL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DBF3603-53A8-4B9F-A6E8-A14CE79441EB}" type="slidenum">
              <a:rPr b="0" lang="es-CL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8"/>
          <p:cNvSpPr/>
          <p:nvPr/>
        </p:nvSpPr>
        <p:spPr>
          <a:xfrm>
            <a:off x="0" y="108000"/>
            <a:ext cx="10080720" cy="1440"/>
          </a:xfrm>
          <a:prstGeom prst="line">
            <a:avLst/>
          </a:prstGeom>
          <a:ln w="2160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0" y="0"/>
            <a:ext cx="10080720" cy="181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0" y="7378560"/>
            <a:ext cx="10080720" cy="181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11" descr=""/>
          <p:cNvPicPr/>
          <p:nvPr/>
        </p:nvPicPr>
        <p:blipFill>
          <a:blip r:embed="rId3"/>
          <a:stretch/>
        </p:blipFill>
        <p:spPr>
          <a:xfrm>
            <a:off x="360360" y="1465200"/>
            <a:ext cx="5878440" cy="357516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12"/>
          <p:cNvSpPr/>
          <p:nvPr/>
        </p:nvSpPr>
        <p:spPr>
          <a:xfrm>
            <a:off x="3959280" y="3060720"/>
            <a:ext cx="5940360" cy="1979640"/>
          </a:xfrm>
          <a:prstGeom prst="rect">
            <a:avLst/>
          </a:prstGeom>
          <a:solidFill>
            <a:srgbClr val="e6e6ff">
              <a:alpha val="20000"/>
            </a:srgbClr>
          </a:solidFill>
          <a:ln w="9360">
            <a:solidFill>
              <a:srgbClr val="cccc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Text Box 13"/>
          <p:cNvSpPr/>
          <p:nvPr/>
        </p:nvSpPr>
        <p:spPr>
          <a:xfrm>
            <a:off x="6300720" y="5221440"/>
            <a:ext cx="32385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7480" bIns="450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CL" sz="2400" spc="-1" strike="noStrike">
                <a:solidFill>
                  <a:srgbClr val="4c4c4c"/>
                </a:solidFill>
                <a:latin typeface="Times New Roman"/>
              </a:rPr>
              <a:t>IN3001-Otoño 200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3 Marcador de número de diapositiva"/>
          <p:cNvSpPr/>
          <p:nvPr/>
        </p:nvSpPr>
        <p:spPr>
          <a:xfrm>
            <a:off x="6651720" y="6840360"/>
            <a:ext cx="227016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7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022143-DC38-49FF-B1EB-98102C0CFD00}" type="slidenum">
              <a:rPr b="0" lang="es-CL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1"/>
          <p:cNvSpPr/>
          <p:nvPr/>
        </p:nvSpPr>
        <p:spPr>
          <a:xfrm>
            <a:off x="4284720" y="3024360"/>
            <a:ext cx="550872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5120" bIns="450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956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0560"/>
                <a:tab algn="l" pos="9429840"/>
                <a:tab algn="l" pos="9879120"/>
                <a:tab algn="l" pos="10328400"/>
                <a:tab algn="l" pos="10779120"/>
                <a:tab algn="l" pos="10780560"/>
                <a:tab algn="l" pos="10782360"/>
              </a:tabLst>
            </a:pPr>
            <a:r>
              <a:rPr b="1" lang="es-CL" sz="37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1" lang="es-CL" sz="37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1" lang="es-CL" sz="37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1" lang="es-CL" sz="37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1" lang="es-CL" sz="3700" spc="-1" strike="noStrike">
                <a:solidFill>
                  <a:srgbClr val="000080"/>
                </a:solidFill>
                <a:latin typeface="Times New Roman"/>
              </a:rPr>
              <a:t>Clase Auxiliar Nº9: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6000"/>
              </a:lnSpc>
              <a:tabLst>
                <a:tab algn="l" pos="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956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0560"/>
                <a:tab algn="l" pos="9429840"/>
                <a:tab algn="l" pos="9879120"/>
                <a:tab algn="l" pos="10328400"/>
                <a:tab algn="l" pos="10779120"/>
                <a:tab algn="l" pos="10780560"/>
                <a:tab algn="l" pos="10782360"/>
              </a:tabLst>
            </a:pP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6000"/>
              </a:lnSpc>
              <a:tabLst>
                <a:tab algn="l" pos="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956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0560"/>
                <a:tab algn="l" pos="9429840"/>
                <a:tab algn="l" pos="9879120"/>
                <a:tab algn="l" pos="10328400"/>
                <a:tab algn="l" pos="10779120"/>
                <a:tab algn="l" pos="10780560"/>
                <a:tab algn="l" pos="10782360"/>
              </a:tabLst>
            </a:pPr>
            <a:r>
              <a:rPr b="1" lang="es-CL" sz="37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1" lang="es-CL" sz="37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1" lang="es-CL" sz="37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1" lang="es-CL" sz="37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1" lang="es-CL" sz="3700" spc="-1" strike="noStrike">
                <a:solidFill>
                  <a:srgbClr val="000080"/>
                </a:solidFill>
                <a:latin typeface="Times New Roman"/>
              </a:rPr>
              <a:t>Recursos Humanos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10 Rectángulo"/>
          <p:cNvSpPr/>
          <p:nvPr/>
        </p:nvSpPr>
        <p:spPr>
          <a:xfrm>
            <a:off x="6254640" y="5351400"/>
            <a:ext cx="264312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IN3001 Primavera 200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3400" spc="-1" strike="noStrike">
                <a:solidFill>
                  <a:srgbClr val="ff0000"/>
                </a:solidFill>
                <a:latin typeface="Times New Roman"/>
              </a:rPr>
              <a:t>Desafío III</a:t>
            </a: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504360" y="1767960"/>
            <a:ext cx="899316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 algn="just">
              <a:lnSpc>
                <a:spcPct val="150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l desafío tiene por objetivo que los equipos desarrollen la propuesta de puesta en marcha de la empresa. Para ello se pide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50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esarrollar la imagen corporativa de la empresa (logo, slogan, colores, etc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50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stablezcan la misión y visión  de la empres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50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stablezcan las principales a decisiones a seguir en un plazo de evaluación a 5 años. Se deben identificar las decisiones operativas, tácticas y operativas de la empres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50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ormato de Entrega: Documento Escrit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3 CuadroTexto"/>
          <p:cNvSpPr/>
          <p:nvPr/>
        </p:nvSpPr>
        <p:spPr>
          <a:xfrm>
            <a:off x="1254240" y="1065240"/>
            <a:ext cx="714348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1800" spc="-1" strike="noStrike">
                <a:solidFill>
                  <a:srgbClr val="ff0000"/>
                </a:solidFill>
                <a:latin typeface="Arial"/>
              </a:rPr>
              <a:t>Fecha de Entrega: Lunes 9/11/2009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3400" spc="-1" strike="noStrike">
                <a:solidFill>
                  <a:srgbClr val="ff0000"/>
                </a:solidFill>
                <a:latin typeface="Times New Roman"/>
              </a:rPr>
              <a:t>Motivación</a:t>
            </a: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52" name="7 CuadroTexto"/>
          <p:cNvSpPr/>
          <p:nvPr/>
        </p:nvSpPr>
        <p:spPr>
          <a:xfrm>
            <a:off x="539640" y="1136520"/>
            <a:ext cx="8786880" cy="519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mpresas que se desarrollan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Una PYME nacional, la cual comercializa pisos flotantes, alfombras y cortinas desea expandirse en los mercados latinos (Perú, Argentina y Paraguay) el próximo año. El objetivo es pasar de $1.500 MM a $5.800 MM de ventas anual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La empresa tiene una antigüedad de 25 años y la planta de trabajadores se compone de 12 técnicos no profesionales y dos gerentes. La antigüedad promedio de los técnicos es de 16 añ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l Gerente General ha declarado que la empresa no está apta para asumir el desafío propuesto, por lo cual ha decidido contratar un grupo de expertos consultores para gestionar el cambio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i. ¿Cuál es la situación inicial, sin mayores antecedentes, que se podría esperar encontrar en la organización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ii. ¿Qué medidas tomaría usted para comenzar con el proceso de expansión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iii. ¿Dónde piensa usted que se encuentran las mayores dificultade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04360" y="136440"/>
            <a:ext cx="8993160" cy="118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MX" sz="3400" spc="-1" strike="noStrike">
                <a:solidFill>
                  <a:srgbClr val="ff0000"/>
                </a:solidFill>
                <a:latin typeface="Times New Roman"/>
              </a:rPr>
              <a:t>Principales actividades realizadas por la unidad de RRHH</a:t>
            </a: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04360" y="1767960"/>
            <a:ext cx="899316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 algn="just">
              <a:lnSpc>
                <a:spcPct val="7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n la administración de empresas, se denomina 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recursos humanos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a la capacidad  que aportan los miembros de la organización en pos del logro de objetiv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7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7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(Peter Senge, 200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7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7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recuentemente se entiende por recursos humanos a la 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función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que se ocupa de seleccionar, contratar, formar, emplear y retener a los colaboradores de la organizació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3400" spc="-1" strike="noStrike">
                <a:solidFill>
                  <a:srgbClr val="ff0000"/>
                </a:solidFill>
                <a:latin typeface="Times New Roman"/>
              </a:rPr>
              <a:t>La Gerencia de Recursos Humanos (1) </a:t>
            </a: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56" name="8 Rectángulo redondeado"/>
          <p:cNvSpPr/>
          <p:nvPr/>
        </p:nvSpPr>
        <p:spPr>
          <a:xfrm>
            <a:off x="825480" y="1208160"/>
            <a:ext cx="3929040" cy="571320"/>
          </a:xfrm>
          <a:prstGeom prst="roundRect">
            <a:avLst>
              <a:gd name="adj" fmla="val 1488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Gestión de Recursos Human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9 Rectángulo redondeado"/>
          <p:cNvSpPr/>
          <p:nvPr/>
        </p:nvSpPr>
        <p:spPr>
          <a:xfrm>
            <a:off x="1897200" y="2065320"/>
            <a:ext cx="6286320" cy="428760"/>
          </a:xfrm>
          <a:prstGeom prst="roundRect">
            <a:avLst>
              <a:gd name="adj" fmla="val 14889"/>
            </a:avLst>
          </a:prstGeom>
          <a:solidFill>
            <a:srgbClr val="7f7f7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Planificación de planillas y selección de trabajador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10 Rectángulo redondeado"/>
          <p:cNvSpPr/>
          <p:nvPr/>
        </p:nvSpPr>
        <p:spPr>
          <a:xfrm>
            <a:off x="1897200" y="2922480"/>
            <a:ext cx="6286320" cy="428760"/>
          </a:xfrm>
          <a:prstGeom prst="roundRect">
            <a:avLst>
              <a:gd name="adj" fmla="val 14889"/>
            </a:avLst>
          </a:prstGeom>
          <a:solidFill>
            <a:srgbClr val="7f7f7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Acogida y formación de trabajadore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11 Rectángulo redondeado"/>
          <p:cNvSpPr/>
          <p:nvPr/>
        </p:nvSpPr>
        <p:spPr>
          <a:xfrm>
            <a:off x="1897200" y="3780000"/>
            <a:ext cx="6286320" cy="428400"/>
          </a:xfrm>
          <a:prstGeom prst="roundRect">
            <a:avLst>
              <a:gd name="adj" fmla="val 14889"/>
            </a:avLst>
          </a:prstGeom>
          <a:solidFill>
            <a:srgbClr val="7f7f7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Motivación de empleado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12 Rectángulo redondeado"/>
          <p:cNvSpPr/>
          <p:nvPr/>
        </p:nvSpPr>
        <p:spPr>
          <a:xfrm>
            <a:off x="1897200" y="4637160"/>
            <a:ext cx="6286320" cy="428400"/>
          </a:xfrm>
          <a:prstGeom prst="roundRect">
            <a:avLst>
              <a:gd name="adj" fmla="val 14889"/>
            </a:avLst>
          </a:prstGeom>
          <a:solidFill>
            <a:srgbClr val="7f7f7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Valorización de puestos de trabajo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13 Rectángulo redondeado"/>
          <p:cNvSpPr/>
          <p:nvPr/>
        </p:nvSpPr>
        <p:spPr>
          <a:xfrm>
            <a:off x="1968480" y="5565600"/>
            <a:ext cx="6286680" cy="428760"/>
          </a:xfrm>
          <a:prstGeom prst="roundRect">
            <a:avLst>
              <a:gd name="adj" fmla="val 14889"/>
            </a:avLst>
          </a:prstGeom>
          <a:solidFill>
            <a:srgbClr val="7f7f7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Gestión de remuneraciones y leyes socia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62" name="15 Conector angular"/>
          <p:cNvCxnSpPr>
            <a:stCxn id="156" idx="1"/>
          </p:cNvCxnSpPr>
          <p:nvPr/>
        </p:nvCxnSpPr>
        <p:spPr>
          <a:xfrm flipH="1" flipV="1" rot="10800000">
            <a:off x="824400" y="1492920"/>
            <a:ext cx="1072440" cy="857880"/>
          </a:xfrm>
          <a:prstGeom prst="bentConnector3">
            <a:avLst>
              <a:gd name="adj1" fmla="val -21323"/>
            </a:avLst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63" name="20 Forma"/>
          <p:cNvCxnSpPr>
            <a:endCxn id="158" idx="1"/>
          </p:cNvCxnSpPr>
          <p:nvPr/>
        </p:nvCxnSpPr>
        <p:spPr>
          <a:xfrm>
            <a:off x="825120" y="2350800"/>
            <a:ext cx="1072440" cy="786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64" name="20 Forma"/>
          <p:cNvCxnSpPr/>
          <p:nvPr/>
        </p:nvCxnSpPr>
        <p:spPr>
          <a:xfrm flipH="1" rot="16200000">
            <a:off x="768960" y="2865600"/>
            <a:ext cx="1572120" cy="54216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65" name="20 Forma"/>
          <p:cNvCxnSpPr>
            <a:endCxn id="160" idx="1"/>
          </p:cNvCxnSpPr>
          <p:nvPr/>
        </p:nvCxnSpPr>
        <p:spPr>
          <a:xfrm flipH="1" rot="16200000">
            <a:off x="288720" y="3243600"/>
            <a:ext cx="2500920" cy="71532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66" name="20 Forma"/>
          <p:cNvCxnSpPr>
            <a:endCxn id="161" idx="1"/>
          </p:cNvCxnSpPr>
          <p:nvPr/>
        </p:nvCxnSpPr>
        <p:spPr>
          <a:xfrm flipH="1" rot="16200000">
            <a:off x="-190800" y="3621600"/>
            <a:ext cx="3429720" cy="88812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3400" spc="-1" strike="noStrike">
                <a:solidFill>
                  <a:srgbClr val="ff0000"/>
                </a:solidFill>
                <a:latin typeface="Times New Roman"/>
              </a:rPr>
              <a:t>La Gerencia de Recursos Humanos (2) </a:t>
            </a: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68" name="8 Rectángulo redondeado"/>
          <p:cNvSpPr/>
          <p:nvPr/>
        </p:nvSpPr>
        <p:spPr>
          <a:xfrm>
            <a:off x="825480" y="1208160"/>
            <a:ext cx="6357960" cy="571320"/>
          </a:xfrm>
          <a:prstGeom prst="roundRect">
            <a:avLst>
              <a:gd name="adj" fmla="val 1488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Planificación de planillas y selección de trabajador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16 Rectángulo"/>
          <p:cNvSpPr/>
          <p:nvPr/>
        </p:nvSpPr>
        <p:spPr>
          <a:xfrm>
            <a:off x="896760" y="2208240"/>
            <a:ext cx="5715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90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onocer las necesidades cuantitativas y cualitativas de los departament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buClr>
                <a:srgbClr val="000000"/>
              </a:buClr>
              <a:buFont typeface="Arial"/>
              <a:buAutoNum type="arabicPeriod" startAt="2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valuar las posibilidades de promoción intern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lanteamiento final de necesidades a corto, medio y largo plaz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Picture 4" descr="http://pymesdefamilia.files.wordpress.com/2009/05/recursos-humanos.jpg"/>
          <p:cNvPicPr/>
          <p:nvPr/>
        </p:nvPicPr>
        <p:blipFill>
          <a:blip r:embed="rId1"/>
          <a:stretch/>
        </p:blipFill>
        <p:spPr>
          <a:xfrm>
            <a:off x="5183280" y="4422600"/>
            <a:ext cx="438156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3400" spc="-1" strike="noStrike">
                <a:solidFill>
                  <a:srgbClr val="ff0000"/>
                </a:solidFill>
                <a:latin typeface="Times New Roman"/>
              </a:rPr>
              <a:t>La Gerencia de Recursos Humanos (3) </a:t>
            </a: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72" name="8 Rectángulo redondeado"/>
          <p:cNvSpPr/>
          <p:nvPr/>
        </p:nvSpPr>
        <p:spPr>
          <a:xfrm>
            <a:off x="825480" y="1208160"/>
            <a:ext cx="6357960" cy="571320"/>
          </a:xfrm>
          <a:prstGeom prst="roundRect">
            <a:avLst>
              <a:gd name="adj" fmla="val 1488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Selección de Personal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5 Rectángulo"/>
          <p:cNvSpPr/>
          <p:nvPr/>
        </p:nvSpPr>
        <p:spPr>
          <a:xfrm>
            <a:off x="468360" y="1708200"/>
            <a:ext cx="821520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 algn="just">
              <a:lnSpc>
                <a:spcPct val="150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La selección de trabajadores supone un conjunto de actividades y técnicas encaminadas a captar los mejores profesionales para la empresa en función de las necesidades de la mism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50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Identificar el puesto a cubri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50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eterminar el proceso para la búsqueda de posibles candidat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276200" indent="-53316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DejaVu Sans"/>
              </a:rPr>
              <a:t>Agencias o servicios públicos de emple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276200" indent="-53316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DejaVu Sans"/>
              </a:rPr>
              <a:t>Agencias privadas de colocació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276200" indent="-53316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DejaVu Sans"/>
              </a:rPr>
              <a:t>Empresas de trabajo tempora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276200" indent="-53316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DejaVu Sans"/>
              </a:rPr>
              <a:t>Anuncios en medios de comunicació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4" name="Picture 2" descr="http://www.ceintec.com/curso_tutorial_de_tecnico_de_seleccion_de_personal_y_planificacion_de_plantillas_online_a_distancia_por_internet_on_line_5642910.jpg"/>
          <p:cNvPicPr/>
          <p:nvPr/>
        </p:nvPicPr>
        <p:blipFill>
          <a:blip r:embed="rId1"/>
          <a:stretch/>
        </p:blipFill>
        <p:spPr>
          <a:xfrm>
            <a:off x="6897600" y="5508720"/>
            <a:ext cx="28576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3400" spc="-1" strike="noStrike">
                <a:solidFill>
                  <a:srgbClr val="ff0000"/>
                </a:solidFill>
                <a:latin typeface="Times New Roman"/>
              </a:rPr>
              <a:t>La Gerencia de Recursos Humanos (4) </a:t>
            </a: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76" name="8 Rectángulo redondeado"/>
          <p:cNvSpPr/>
          <p:nvPr/>
        </p:nvSpPr>
        <p:spPr>
          <a:xfrm>
            <a:off x="825480" y="1208160"/>
            <a:ext cx="6357960" cy="571320"/>
          </a:xfrm>
          <a:prstGeom prst="roundRect">
            <a:avLst>
              <a:gd name="adj" fmla="val 1488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Fases en la selección de personal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5 Rectángulo"/>
          <p:cNvSpPr/>
          <p:nvPr/>
        </p:nvSpPr>
        <p:spPr>
          <a:xfrm>
            <a:off x="682560" y="2084400"/>
            <a:ext cx="8215200" cy="8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Picture 2" descr="http://www.ceintec.com/curso_tutorial_de_tecnico_de_seleccion_de_personal_y_planificacion_de_plantillas_online_a_distancia_por_internet_on_line_5642910.jpg"/>
          <p:cNvPicPr/>
          <p:nvPr/>
        </p:nvPicPr>
        <p:blipFill>
          <a:blip r:embed="rId1"/>
          <a:stretch/>
        </p:blipFill>
        <p:spPr>
          <a:xfrm>
            <a:off x="6826320" y="5208480"/>
            <a:ext cx="2857320" cy="2057400"/>
          </a:xfrm>
          <a:prstGeom prst="rect">
            <a:avLst/>
          </a:prstGeom>
          <a:ln w="0">
            <a:noFill/>
          </a:ln>
        </p:spPr>
      </p:pic>
      <p:sp>
        <p:nvSpPr>
          <p:cNvPr id="179" name="9 Rectángulo"/>
          <p:cNvSpPr/>
          <p:nvPr/>
        </p:nvSpPr>
        <p:spPr>
          <a:xfrm>
            <a:off x="682560" y="2208240"/>
            <a:ext cx="7377120" cy="29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93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Identificar el puesto a cubri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3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3000"/>
              </a:lnSpc>
              <a:buClr>
                <a:srgbClr val="000000"/>
              </a:buClr>
              <a:buFont typeface="Arial"/>
              <a:buAutoNum type="arabicPeriod" startAt="2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eterminar el proceso más adecuado para la búsqueda de posibles candidat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3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DejaVu Sans"/>
              </a:rPr>
              <a:t>Agencias de colocación o servicios públicos de emple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DejaVu Sans"/>
              </a:rPr>
              <a:t>Agencias privadas de colocac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DejaVu Sans"/>
              </a:rPr>
              <a:t>Empresas de trabajo tempora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DejaVu Sans"/>
              </a:rPr>
              <a:t>Inserción de anuncios en prensa</a:t>
            </a:r>
            <a:r>
              <a:rPr b="0" lang="es-ES" sz="2000" spc="-1" strike="noStrike">
                <a:solidFill>
                  <a:srgbClr val="33cc33"/>
                </a:solidFill>
                <a:latin typeface="Arial"/>
                <a:ea typeface="DejaVu Sans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3400" spc="-1" strike="noStrike">
                <a:solidFill>
                  <a:srgbClr val="ff0000"/>
                </a:solidFill>
                <a:latin typeface="Times New Roman"/>
              </a:rPr>
              <a:t>La Gerencia de Recursos Humanos (5) </a:t>
            </a: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81" name="8 Rectángulo redondeado"/>
          <p:cNvSpPr/>
          <p:nvPr/>
        </p:nvSpPr>
        <p:spPr>
          <a:xfrm>
            <a:off x="825480" y="1208160"/>
            <a:ext cx="6357960" cy="571320"/>
          </a:xfrm>
          <a:prstGeom prst="roundRect">
            <a:avLst>
              <a:gd name="adj" fmla="val 1488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Acogida y formación de trabajadore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5 Rectángulo"/>
          <p:cNvSpPr/>
          <p:nvPr/>
        </p:nvSpPr>
        <p:spPr>
          <a:xfrm>
            <a:off x="682560" y="2084400"/>
            <a:ext cx="8215200" cy="8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6 Rectángulo"/>
          <p:cNvSpPr/>
          <p:nvPr/>
        </p:nvSpPr>
        <p:spPr>
          <a:xfrm>
            <a:off x="968400" y="2208240"/>
            <a:ext cx="72151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50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l trabajador entra a formar parte activa y efectiva de la empres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50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Ha de ser formado e instruido específicamente en su nuevo puesto de trabaj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50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Necesita entablar contacto y cooperar con otros compañer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50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s necesario diseñar un plan de acogida, formación y capacitación de acorde con el modelo de negocio de la organizació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3400" spc="-1" strike="noStrike">
                <a:solidFill>
                  <a:srgbClr val="ff0000"/>
                </a:solidFill>
                <a:latin typeface="Times New Roman"/>
              </a:rPr>
              <a:t>La Gerencia de Recursos Humanos (6) </a:t>
            </a: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85" name="8 Rectángulo redondeado"/>
          <p:cNvSpPr/>
          <p:nvPr/>
        </p:nvSpPr>
        <p:spPr>
          <a:xfrm>
            <a:off x="825480" y="1208160"/>
            <a:ext cx="6357960" cy="571320"/>
          </a:xfrm>
          <a:prstGeom prst="roundRect">
            <a:avLst>
              <a:gd name="adj" fmla="val 1488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Motivaciones de los trabajadore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5 Rectángulo"/>
          <p:cNvSpPr/>
          <p:nvPr/>
        </p:nvSpPr>
        <p:spPr>
          <a:xfrm>
            <a:off x="682560" y="2084400"/>
            <a:ext cx="8215200" cy="8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6 Rectángulo"/>
          <p:cNvSpPr/>
          <p:nvPr/>
        </p:nvSpPr>
        <p:spPr>
          <a:xfrm>
            <a:off x="968400" y="2208240"/>
            <a:ext cx="7215120" cy="38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93000"/>
              </a:lnSpc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Hay que activar y mantener la conducta del trabajador hacia un fin u objetiv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3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3000"/>
              </a:lnSpc>
              <a:buClr>
                <a:srgbClr val="000000"/>
              </a:buClr>
              <a:buFont typeface="Arial"/>
              <a:buAutoNum type="arabicPeriod" startAt="2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s fundamental e importantísim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3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3000"/>
              </a:lnSpc>
              <a:buClr>
                <a:srgbClr val="000000"/>
              </a:buClr>
              <a:buFont typeface="Arial"/>
              <a:buAutoNum type="arabicPeriod" startAt="3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s necesario que el trabajador se sienta satisfecho con su desarrollo, carrera profesional y retribución salarial.+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3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3000"/>
              </a:lnSpc>
              <a:buClr>
                <a:srgbClr val="000000"/>
              </a:buClr>
              <a:buFont typeface="Arial"/>
              <a:buAutoNum type="arabicPeriod" startAt="3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ntregar las condiciones necesarias para que el trabajador pueda desarrollarse de manera personal y profesional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3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50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8" name="7 Diagrama" descr=""/>
          <p:cNvPicPr/>
          <p:nvPr/>
        </p:nvPicPr>
        <p:blipFill>
          <a:blip r:embed="rId1"/>
          <a:stretch/>
        </p:blipFill>
        <p:spPr>
          <a:xfrm>
            <a:off x="2809800" y="5383080"/>
            <a:ext cx="4449960" cy="19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pamela</dc:creator>
  <dc:description/>
  <dc:language>en-US</dc:language>
  <cp:lastModifiedBy>WinuE</cp:lastModifiedBy>
  <dcterms:modified xsi:type="dcterms:W3CDTF">2009-11-02T02:09:06Z</dcterms:modified>
  <cp:revision>19</cp:revision>
  <dc:subject/>
  <dc:title>Diapositiva 1</dc:title>
</cp:coreProperties>
</file>