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2766FB-2444-4CA1-829E-A19FC538A7F2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ED64F-2963-40A4-88FA-040A971BFD87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5DD8-BEDE-4E28-ADD7-97147B115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F21-05C2-4636-9BCB-CBD2D04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C8A2-08B5-49F2-B617-DBD38700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BF8-1D13-448D-813A-F959E065D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15B0-6906-4B7F-8A10-6BEC6B67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14C11-4795-466F-960B-C4659740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E5960-B047-4E67-902F-3A8F3B83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4641-D016-481B-8AEE-A6E55C4C3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D242-63C4-4689-8B92-396A6BBC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F794-4320-4E5D-8154-11B75ACFC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50F5-1FF6-4FCF-84A1-F0A3FBC6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080-2B41-4F45-9BFC-25F6BF0E1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DFEE-867F-4CBA-99E9-FF294AAF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21E1-D86C-4F6C-BD2E-1A5B8345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045D5-6DF6-424C-AC14-72FC719D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DD76-253F-48AA-BB62-A235D8407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9D1C4-1D0E-4732-9843-1404DC789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E20-C126-4672-A1DB-5FBDE9E0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2795-F5CF-42EF-AF8E-D7151CE1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B1E-E85F-461C-A9F6-1AE6B0F1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C1A-86B7-4297-B24D-C4C253D2B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71C-E7B5-403A-89DB-944248A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FD36-1B49-45A3-AC2B-0336D7E6E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AAF-4C53-417B-9903-AE27A58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781269-7E47-4185-965A-A587171840D8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C6221B6-9660-42D5-B577-753A58DC8BB0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7AC3DC-690F-41F1-A153-0C02EE3C2E43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4284720" y="3024360"/>
            <a:ext cx="55087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Auxiliar Nº9: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Recursos Human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Desafío III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15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 desafío tiene por objetivo que los equipos desarrollen la propuesta de puesta en marcha de la empresa. Para ello se p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esarrollar la imagen corporativa de la empresa (logo, slogan, color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 misión y visión 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blezcan las principales a decisiones a seguir en un plazo de evaluación a 5 años. Se deben identificar las decisiones operativas, tácticas y operativas de la empres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5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ormato de Entrega: Documento Escri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CuadroTexto"/>
          <p:cNvSpPr/>
          <p:nvPr/>
        </p:nvSpPr>
        <p:spPr>
          <a:xfrm>
            <a:off x="1254240" y="1065240"/>
            <a:ext cx="7143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Fecha de Entrega: Lunes 9/11/2009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7 CuadroTexto"/>
          <p:cNvSpPr/>
          <p:nvPr/>
        </p:nvSpPr>
        <p:spPr>
          <a:xfrm>
            <a:off x="539640" y="1136520"/>
            <a:ext cx="8786880" cy="51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mpresas que se desarrolla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Una PYME nacional, la cual comercializa pisos flotantes, alfombras y cortinas desea expandirse en los mercados latinos (Perú, Argentina y Paraguay) el próximo año. El objetivo es pasar de $1.500 MM a $5.800 MM de ventas anual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empresa tiene una antigüedad de 25 años y la planta de trabajadores se compone de 12 técnicos no profesionales y dos gerentes. La antigüedad promedio de los técnicos es de 16 añ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Gerente General ha declarado que la empresa no está apta para asumir el desafío propuesto, por lo cual ha decidido contratar un grupo de expertos consultores para gestionar el camb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. ¿Cuál es la situación inicial, sin mayores antecedentes, que se podría esperar encontrar en la organizac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. ¿Qué medidas tomaría usted para comenzar con el proceso de expansió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ii. ¿Dónde piensa usted que se encuentran las mayores dificultade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4360" y="1364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3400" spc="-1" strike="noStrike">
                <a:solidFill>
                  <a:srgbClr val="ff0000"/>
                </a:solidFill>
                <a:latin typeface="Times New Roman"/>
              </a:rPr>
              <a:t>Principales actividades realizadas por la unidad de RRHH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a administración de empresas, se denomin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ecursos human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a la capacidad  que aportan los miembros de la organización en pos del logro de objetiv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(Peter Senge, 20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Frecuentemente se entiende por recursos humanos a la 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que se ocupa de seleccionar, contratar, formar, emplear y retener a los colaboradores de la organiza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1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6" name="8 Rectángulo redondeado"/>
          <p:cNvSpPr/>
          <p:nvPr/>
        </p:nvSpPr>
        <p:spPr>
          <a:xfrm>
            <a:off x="825480" y="1208160"/>
            <a:ext cx="392904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cursos Human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9 Rectángulo redondeado"/>
          <p:cNvSpPr/>
          <p:nvPr/>
        </p:nvSpPr>
        <p:spPr>
          <a:xfrm>
            <a:off x="1897200" y="206532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10 Rectángulo redondeado"/>
          <p:cNvSpPr/>
          <p:nvPr/>
        </p:nvSpPr>
        <p:spPr>
          <a:xfrm>
            <a:off x="1897200" y="2922480"/>
            <a:ext cx="628632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11 Rectángulo redondeado"/>
          <p:cNvSpPr/>
          <p:nvPr/>
        </p:nvSpPr>
        <p:spPr>
          <a:xfrm>
            <a:off x="1897200" y="378000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ón de emple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12 Rectángulo redondeado"/>
          <p:cNvSpPr/>
          <p:nvPr/>
        </p:nvSpPr>
        <p:spPr>
          <a:xfrm>
            <a:off x="1897200" y="4637160"/>
            <a:ext cx="6286320" cy="42840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Valorización de puestos de trabaj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13 Rectángulo redondeado"/>
          <p:cNvSpPr/>
          <p:nvPr/>
        </p:nvSpPr>
        <p:spPr>
          <a:xfrm>
            <a:off x="1968480" y="5565600"/>
            <a:ext cx="6286680" cy="428760"/>
          </a:xfrm>
          <a:prstGeom prst="roundRect">
            <a:avLst>
              <a:gd name="adj" fmla="val 14889"/>
            </a:avLst>
          </a:prstGeom>
          <a:solidFill>
            <a:srgbClr val="7f7f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Gestión de remuneraciones y leyes soci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62" name="15 Conector angular"/>
          <p:cNvCxnSpPr>
            <a:stCxn id="156" idx="1"/>
          </p:cNvCxnSpPr>
          <p:nvPr/>
        </p:nvCxnSpPr>
        <p:spPr>
          <a:xfrm flipH="1" flipV="1" rot="10800000">
            <a:off x="824400" y="1492920"/>
            <a:ext cx="1072440" cy="857880"/>
          </a:xfrm>
          <a:prstGeom prst="bentConnector3">
            <a:avLst>
              <a:gd name="adj1" fmla="val -21323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20 Forma"/>
          <p:cNvCxnSpPr>
            <a:endCxn id="158" idx="1"/>
          </p:cNvCxnSpPr>
          <p:nvPr/>
        </p:nvCxnSpPr>
        <p:spPr>
          <a:xfrm>
            <a:off x="825120" y="2350800"/>
            <a:ext cx="1072440" cy="786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20 Forma"/>
          <p:cNvCxnSpPr/>
          <p:nvPr/>
        </p:nvCxnSpPr>
        <p:spPr>
          <a:xfrm flipH="1" rot="16200000">
            <a:off x="768960" y="2865600"/>
            <a:ext cx="1572120" cy="5421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20 Forma"/>
          <p:cNvCxnSpPr>
            <a:endCxn id="160" idx="1"/>
          </p:cNvCxnSpPr>
          <p:nvPr/>
        </p:nvCxnSpPr>
        <p:spPr>
          <a:xfrm flipH="1" rot="16200000">
            <a:off x="288720" y="3243600"/>
            <a:ext cx="2500920" cy="7153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6" name="20 Forma"/>
          <p:cNvCxnSpPr>
            <a:endCxn id="161" idx="1"/>
          </p:cNvCxnSpPr>
          <p:nvPr/>
        </p:nvCxnSpPr>
        <p:spPr>
          <a:xfrm flipH="1" rot="16200000">
            <a:off x="-190800" y="3621600"/>
            <a:ext cx="3429720" cy="88812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2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8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lanificación de planillas y selección de trabaja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16 Rectángulo"/>
          <p:cNvSpPr/>
          <p:nvPr/>
        </p:nvSpPr>
        <p:spPr>
          <a:xfrm>
            <a:off x="896760" y="220824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er las necesidades cuantitativas y cualitativas de los departamen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aluar las posibilidades de promoción inte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lanteamiento final de necesidades a corto, medio y largo plaz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4" descr="http://pymesdefamilia.files.wordpress.com/2009/05/recursos-humanos.jpg"/>
          <p:cNvPicPr/>
          <p:nvPr/>
        </p:nvPicPr>
        <p:blipFill>
          <a:blip r:embed="rId1"/>
          <a:stretch/>
        </p:blipFill>
        <p:spPr>
          <a:xfrm>
            <a:off x="5183280" y="4422600"/>
            <a:ext cx="43815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3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5 Rectángulo"/>
          <p:cNvSpPr/>
          <p:nvPr/>
        </p:nvSpPr>
        <p:spPr>
          <a:xfrm>
            <a:off x="468360" y="1708200"/>
            <a:ext cx="82152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 algn="just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a selección de trabajadores supone un conjunto de actividades y técnicas encaminadas a captar los mejores profesionales para la empresa en función de las necesidades de la mi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276200" indent="-53316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nuncios en medios de comunic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97600" y="5508720"/>
            <a:ext cx="2857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4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6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ases en la selección de perso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2" descr="http://www.ceintec.com/curso_tutorial_de_tecnico_de_seleccion_de_personal_y_planificacion_de_plantillas_online_a_distancia_por_internet_on_line_5642910.jpg"/>
          <p:cNvPicPr/>
          <p:nvPr/>
        </p:nvPicPr>
        <p:blipFill>
          <a:blip r:embed="rId1"/>
          <a:stretch/>
        </p:blipFill>
        <p:spPr>
          <a:xfrm>
            <a:off x="6826320" y="5208480"/>
            <a:ext cx="2857320" cy="2057400"/>
          </a:xfrm>
          <a:prstGeom prst="rect">
            <a:avLst/>
          </a:prstGeom>
          <a:ln w="0">
            <a:noFill/>
          </a:ln>
        </p:spPr>
      </p:pic>
      <p:sp>
        <p:nvSpPr>
          <p:cNvPr id="179" name="9 Rectángulo"/>
          <p:cNvSpPr/>
          <p:nvPr/>
        </p:nvSpPr>
        <p:spPr>
          <a:xfrm>
            <a:off x="682560" y="2208240"/>
            <a:ext cx="737712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el puesto a cubri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terminar el proceso más adecuado para la búsqueda de posibles candid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de colocación o servicios públicos de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Agencias privadas de coloc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Empresas de trabajo temp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DejaVu Sans"/>
              </a:rPr>
              <a:t>Inserción de anuncios en prensa</a:t>
            </a:r>
            <a:r>
              <a:rPr b="0" lang="es-ES" sz="2000" spc="-1" strike="noStrike">
                <a:solidFill>
                  <a:srgbClr val="33cc33"/>
                </a:solidFill>
                <a:latin typeface="Arial"/>
                <a:ea typeface="DejaVu San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5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cogida y formación de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6 Rectángulo"/>
          <p:cNvSpPr/>
          <p:nvPr/>
        </p:nvSpPr>
        <p:spPr>
          <a:xfrm>
            <a:off x="968400" y="2208240"/>
            <a:ext cx="72151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trabajador entra a formar parte activa y efectiva de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 de ser formado e instruido específicamente en su nuevo puesto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ecesita entablar contacto y cooperar con otros compañe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diseñar un plan de acogida, formación y capacitación de acorde con el modelo de negocio de la organizació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La Gerencia de Recursos Humanos (6)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5" name="8 Rectángulo redondeado"/>
          <p:cNvSpPr/>
          <p:nvPr/>
        </p:nvSpPr>
        <p:spPr>
          <a:xfrm>
            <a:off x="825480" y="1208160"/>
            <a:ext cx="6357960" cy="571320"/>
          </a:xfrm>
          <a:prstGeom prst="roundRect">
            <a:avLst>
              <a:gd name="adj" fmla="val 1488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Motivaciones de los trabaj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5 Rectángulo"/>
          <p:cNvSpPr/>
          <p:nvPr/>
        </p:nvSpPr>
        <p:spPr>
          <a:xfrm>
            <a:off x="682560" y="2084400"/>
            <a:ext cx="82152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6 Rectángulo"/>
          <p:cNvSpPr/>
          <p:nvPr/>
        </p:nvSpPr>
        <p:spPr>
          <a:xfrm>
            <a:off x="968400" y="2208240"/>
            <a:ext cx="7215120" cy="38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y que activar y mantener la conducta del trabajador hacia un fin u objeti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fundamental e importantísim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necesario que el trabajador se sienta satisfecho con su desarrollo, carrera profesional y retribución salarial.+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buClr>
                <a:srgbClr val="000000"/>
              </a:buClr>
              <a:buFont typeface="Arial"/>
              <a:buAutoNum type="arabicPeriod" startAt="3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tregar las condiciones necesarias para que el trabajador pueda desarrollarse de manera personal y profesion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5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7 Diagrama" descr=""/>
          <p:cNvPicPr/>
          <p:nvPr/>
        </p:nvPicPr>
        <p:blipFill>
          <a:blip r:embed="rId1"/>
          <a:stretch/>
        </p:blipFill>
        <p:spPr>
          <a:xfrm>
            <a:off x="2809800" y="5383080"/>
            <a:ext cx="4449960" cy="19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mela</dc:creator>
  <dc:description/>
  <dc:language>en-US</dc:language>
  <cp:lastModifiedBy>WinuE</cp:lastModifiedBy>
  <dcterms:modified xsi:type="dcterms:W3CDTF">2009-11-02T02:09:06Z</dcterms:modified>
  <cp:revision>19</cp:revision>
  <dc:subject/>
  <dc:title>Diapositiva 1</dc:title>
</cp:coreProperties>
</file>