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C96DA-D32F-480C-949D-23F04215209F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55FE8-0C2C-4F53-8290-EC8DC8A64746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FE3-DC72-46BE-AFD6-3DA930FC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6AE-20FC-4AF6-894C-9AEB7190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2A5-6E55-4343-AA39-59C65C2F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50C-B595-4C8A-A702-AD5E6A3C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6ADC-2DDD-45A6-A626-C1635D6F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CEE7-8BAD-4DD3-A4D8-B953A054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182A-9101-442A-8529-64DADFB5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F639-8B0E-42E1-ABDF-B655F441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097C-3990-405B-AEB5-D7932778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54C7-80D8-4621-8E00-D71708F9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D711-6506-4A64-98BA-0617FC15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635-ABE8-4AF6-B9FD-2E313899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2507-4738-4FAB-89FE-AE9DC873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83F6-4A68-4D1B-B3A0-3A257FC8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753B-0307-40DC-9559-6A0F2E92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FD48-1FBA-477C-B699-8774AA3F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6378-2604-41F6-B199-C66F75E0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B13D-8CB3-482D-821C-BAC8D490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4F5-6802-4BE1-B268-0C7B2A49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44A-0095-43A1-BFA9-7DFBD5C0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4F9-19A0-4B25-AB7B-47FEC39B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5C6-C4D6-4154-8408-1B849F72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05A-0904-4041-B363-DA245408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046-DEDD-4529-B63C-8E43499D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D9B034-3E0F-4EC0-BD22-ED9D42F135E8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8DACDA-C801-43DF-A31B-73D20CFCF3B4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882F5-FEE5-4CAB-8A8F-341DC91F9114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Auxiliar Nº9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Recursos Human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esafío III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15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desafío tiene por objetivo que los equipos desarrollen la propuesta de puesta en marcha de la empresa. Para ello 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arrollar la imagen corporativa de la empresa (logo, slogan, color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ablezcan la misión y visión  de la empre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ablezcan las principales a decisiones a seguir en un plazo de evaluación a 5 años. Se deben identificar las decisiones operativas, tácticas y operativas de la empre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ormato de Entrega: Documento Escri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3 CuadroTexto"/>
          <p:cNvSpPr/>
          <p:nvPr/>
        </p:nvSpPr>
        <p:spPr>
          <a:xfrm>
            <a:off x="1254240" y="1065240"/>
            <a:ext cx="7143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echa de Entrega: Lunes 9/11/200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otiv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7 CuadroTexto"/>
          <p:cNvSpPr/>
          <p:nvPr/>
        </p:nvSpPr>
        <p:spPr>
          <a:xfrm>
            <a:off x="539640" y="1136520"/>
            <a:ext cx="878688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presas que se desarrolla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PYME nacional, la cual comercializa pisos flotantes, alfombras y cortinas desea expandirse en los mercados latinos (Perú, Argentina y Paraguay) el próximo año. El objetivo es pasar de $1.500 MM a $5.800 MM de ventas anu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empresa tiene una antigüedad de 25 años y la planta de trabajadores se compone de 12 técnicos no profesionales y dos gerentes. La antigüedad promedio de los técnicos es de 16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Gerente General ha declarado que la empresa no está apta para asumir el desafío propuesto, por lo cual ha decidido contratar un grupo de expertos consultores para gestionar el camb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¿Cuál es la situación inicial, sin mayores antecedentes, que se podría esperar encontrar en la organizació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i. ¿Qué medidas tomaría usted para comenzar con el proceso de expansió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ii. ¿Dónde piensa usted que se encuentran las mayores dificultad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4360" y="1364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400" spc="-1" strike="noStrike">
                <a:solidFill>
                  <a:srgbClr val="ff0000"/>
                </a:solidFill>
                <a:latin typeface="Times New Roman"/>
              </a:rPr>
              <a:t>Principales actividades realizadas por la unidad de RRHH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la administración de empresas,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a la capacidad  que aportan los miembros de la organización en pos del logro de 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Peter Senge,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recuentemente se entiende por recursos humanos a 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que se ocupa de seleccionar, contratar, formar, emplear y retener a los colaboradores de la organiz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1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8 Rectángulo redondeado"/>
          <p:cNvSpPr/>
          <p:nvPr/>
        </p:nvSpPr>
        <p:spPr>
          <a:xfrm>
            <a:off x="825480" y="1208160"/>
            <a:ext cx="392904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estión de Recurs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9 Rectángulo redondeado"/>
          <p:cNvSpPr/>
          <p:nvPr/>
        </p:nvSpPr>
        <p:spPr>
          <a:xfrm>
            <a:off x="1897200" y="2065320"/>
            <a:ext cx="6286320" cy="42876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lanificación de planillas y selección de trabaj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10 Rectángulo redondeado"/>
          <p:cNvSpPr/>
          <p:nvPr/>
        </p:nvSpPr>
        <p:spPr>
          <a:xfrm>
            <a:off x="1897200" y="2922480"/>
            <a:ext cx="6286320" cy="42876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cogida y formación de trabaja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11 Rectángulo redondeado"/>
          <p:cNvSpPr/>
          <p:nvPr/>
        </p:nvSpPr>
        <p:spPr>
          <a:xfrm>
            <a:off x="1897200" y="3780000"/>
            <a:ext cx="6286320" cy="42840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otivación de emple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12 Rectángulo redondeado"/>
          <p:cNvSpPr/>
          <p:nvPr/>
        </p:nvSpPr>
        <p:spPr>
          <a:xfrm>
            <a:off x="1897200" y="4637160"/>
            <a:ext cx="6286320" cy="42840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Valorización de puestos de traba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13 Rectángulo redondeado"/>
          <p:cNvSpPr/>
          <p:nvPr/>
        </p:nvSpPr>
        <p:spPr>
          <a:xfrm>
            <a:off x="1968480" y="5565600"/>
            <a:ext cx="6286680" cy="42876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estión de remuneraciones y leyes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15 Conector angular"/>
          <p:cNvCxnSpPr>
            <a:stCxn id="156" idx="1"/>
          </p:cNvCxnSpPr>
          <p:nvPr/>
        </p:nvCxnSpPr>
        <p:spPr>
          <a:xfrm flipH="1" flipV="1" rot="10800000">
            <a:off x="824400" y="1492920"/>
            <a:ext cx="1072440" cy="857880"/>
          </a:xfrm>
          <a:prstGeom prst="bentConnector3">
            <a:avLst>
              <a:gd name="adj1" fmla="val -21323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20 Forma"/>
          <p:cNvCxnSpPr>
            <a:endCxn id="158" idx="1"/>
          </p:cNvCxnSpPr>
          <p:nvPr/>
        </p:nvCxnSpPr>
        <p:spPr>
          <a:xfrm>
            <a:off x="825120" y="2350800"/>
            <a:ext cx="1072440" cy="786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20 Forma"/>
          <p:cNvCxnSpPr/>
          <p:nvPr/>
        </p:nvCxnSpPr>
        <p:spPr>
          <a:xfrm flipH="1" rot="16200000">
            <a:off x="768960" y="2865600"/>
            <a:ext cx="1572120" cy="5421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20 Forma"/>
          <p:cNvCxnSpPr>
            <a:endCxn id="160" idx="1"/>
          </p:cNvCxnSpPr>
          <p:nvPr/>
        </p:nvCxnSpPr>
        <p:spPr>
          <a:xfrm flipH="1" rot="16200000">
            <a:off x="288720" y="3243600"/>
            <a:ext cx="2500920" cy="715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20 Forma"/>
          <p:cNvCxnSpPr>
            <a:endCxn id="161" idx="1"/>
          </p:cNvCxnSpPr>
          <p:nvPr/>
        </p:nvCxnSpPr>
        <p:spPr>
          <a:xfrm flipH="1" rot="16200000">
            <a:off x="-190800" y="3621600"/>
            <a:ext cx="3429720" cy="8881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2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8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lanificación de planillas y selección de trabaj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16 Rectángulo"/>
          <p:cNvSpPr/>
          <p:nvPr/>
        </p:nvSpPr>
        <p:spPr>
          <a:xfrm>
            <a:off x="896760" y="220824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er las necesidades cuantitativas y cualitativas de los departa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r las posibilidades de promoción inter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lanteamiento final de necesidades a corto, medio y largo plaz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http://pymesdefamilia.files.wordpress.com/2009/05/recursos-humanos.jpg"/>
          <p:cNvPicPr/>
          <p:nvPr/>
        </p:nvPicPr>
        <p:blipFill>
          <a:blip r:embed="rId1"/>
          <a:stretch/>
        </p:blipFill>
        <p:spPr>
          <a:xfrm>
            <a:off x="5183280" y="4422600"/>
            <a:ext cx="43815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3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lección de Pers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5 Rectángulo"/>
          <p:cNvSpPr/>
          <p:nvPr/>
        </p:nvSpPr>
        <p:spPr>
          <a:xfrm>
            <a:off x="468360" y="1708200"/>
            <a:ext cx="82152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selección de trabajadores supone un conjunto de actividades y técnicas encaminadas a captar los mejores profesionales para la empresa en función de las necesidades de la mis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el puesto a cubr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terminar el proceso para la búsqueda de posibles candid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76200" indent="-53316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gencias o servicios públicos de empl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76200" indent="-53316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gencias privadas de colo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76200" indent="-53316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mpresas de trabajo tempo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76200" indent="-53316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nuncios en medios de comun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" descr="http://www.ceintec.com/curso_tutorial_de_tecnico_de_seleccion_de_personal_y_planificacion_de_plantillas_online_a_distancia_por_internet_on_line_5642910.jpg"/>
          <p:cNvPicPr/>
          <p:nvPr/>
        </p:nvPicPr>
        <p:blipFill>
          <a:blip r:embed="rId1"/>
          <a:stretch/>
        </p:blipFill>
        <p:spPr>
          <a:xfrm>
            <a:off x="6897600" y="550872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4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6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ases en la selección de pers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5 Rectángulo"/>
          <p:cNvSpPr/>
          <p:nvPr/>
        </p:nvSpPr>
        <p:spPr>
          <a:xfrm>
            <a:off x="682560" y="2084400"/>
            <a:ext cx="8215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http://www.ceintec.com/curso_tutorial_de_tecnico_de_seleccion_de_personal_y_planificacion_de_plantillas_online_a_distancia_por_internet_on_line_5642910.jpg"/>
          <p:cNvPicPr/>
          <p:nvPr/>
        </p:nvPicPr>
        <p:blipFill>
          <a:blip r:embed="rId1"/>
          <a:stretch/>
        </p:blipFill>
        <p:spPr>
          <a:xfrm>
            <a:off x="6826320" y="5208480"/>
            <a:ext cx="2857320" cy="2057400"/>
          </a:xfrm>
          <a:prstGeom prst="rect">
            <a:avLst/>
          </a:prstGeom>
          <a:ln w="0">
            <a:noFill/>
          </a:ln>
        </p:spPr>
      </p:pic>
      <p:sp>
        <p:nvSpPr>
          <p:cNvPr id="179" name="9 Rectángulo"/>
          <p:cNvSpPr/>
          <p:nvPr/>
        </p:nvSpPr>
        <p:spPr>
          <a:xfrm>
            <a:off x="682560" y="2208240"/>
            <a:ext cx="737712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el puesto a cubr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terminar el proceso más adecuado para la búsqueda de posibles candid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gencias de colocación o servicios públicos de empl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gencias privadas de colo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mpresas de trabajo tempo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Inserción de anuncios en prensa</a:t>
            </a:r>
            <a:r>
              <a:rPr b="0" lang="es-ES" sz="2000" spc="-1" strike="noStrike">
                <a:solidFill>
                  <a:srgbClr val="33cc33"/>
                </a:solidFill>
                <a:latin typeface="Arial"/>
                <a:ea typeface="DejaVu San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5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cogida y formación de trabaja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5 Rectángulo"/>
          <p:cNvSpPr/>
          <p:nvPr/>
        </p:nvSpPr>
        <p:spPr>
          <a:xfrm>
            <a:off x="682560" y="2084400"/>
            <a:ext cx="8215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6 Rectángulo"/>
          <p:cNvSpPr/>
          <p:nvPr/>
        </p:nvSpPr>
        <p:spPr>
          <a:xfrm>
            <a:off x="968400" y="2208240"/>
            <a:ext cx="7215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rabajador entra a formar parte activa y efectiva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 de ser formado e instruido específicamente en su nuevo puesto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ta entablar contacto y cooperar con otros compañe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necesario diseñar un plan de acogida, formación y capacitación de acorde con el modelo de negocio de la organiz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6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5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otivaciones de los trabaja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5 Rectángulo"/>
          <p:cNvSpPr/>
          <p:nvPr/>
        </p:nvSpPr>
        <p:spPr>
          <a:xfrm>
            <a:off x="682560" y="2084400"/>
            <a:ext cx="8215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6 Rectángulo"/>
          <p:cNvSpPr/>
          <p:nvPr/>
        </p:nvSpPr>
        <p:spPr>
          <a:xfrm>
            <a:off x="968400" y="2208240"/>
            <a:ext cx="7215120" cy="3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y que activar y mantener la conducta del trabajador hacia un fin u obje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fundamental e importantísim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necesario que el trabajador se sienta satisfecho con su desarrollo, carrera profesional y retribución salarial.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gar las condiciones necesarias para que el trabajador pueda desarrollarse de manera personal y profes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7 Diagrama" descr=""/>
          <p:cNvPicPr/>
          <p:nvPr/>
        </p:nvPicPr>
        <p:blipFill>
          <a:blip r:embed="rId1"/>
          <a:stretch/>
        </p:blipFill>
        <p:spPr>
          <a:xfrm>
            <a:off x="2809800" y="5383080"/>
            <a:ext cx="444996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11-02T02:09:06Z</dcterms:modified>
  <cp:revision>19</cp:revision>
  <dc:subject/>
  <dc:title>Diapositiva 1</dc:title>
</cp:coreProperties>
</file>