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AutoShape 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AutoShape 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AutoShape 1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AutoShape 1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AutoShape 1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1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AutoShape 1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AutoShape 1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AutoShape 1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AutoShape 1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1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AutoShape 2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AutoShape 2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AutoShape 2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AutoShape 2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AutoShape 2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AutoShape 2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AutoShape 2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2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AutoShape 2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2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AutoShape 3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AutoShape 3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AutoShape 3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AutoShape 3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AutoShape 3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AutoShape 3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3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AutoShape 3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AutoShape 39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40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AutoShape 4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AutoShape 4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AutoShape 4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AutoShape 4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AutoShape 4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AutoShape 4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AutoShape 47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AutoShape 48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267160" cy="393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6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5970600" cy="473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dt" idx="7"/>
          </p:nvPr>
        </p:nvSpPr>
        <p:spPr>
          <a:xfrm>
            <a:off x="4280040" y="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38CFB1-6760-4B25-9366-6A5FA8A42BD0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54"/>
          <p:cNvSpPr/>
          <p:nvPr/>
        </p:nvSpPr>
        <p:spPr>
          <a:xfrm>
            <a:off x="4280040" y="10155240"/>
            <a:ext cx="3201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EF5A13-2DB2-44FE-A05D-C8FF83E9EDAC}" type="slidenum">
              <a:rPr b="0" lang="es-CL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Text Box 1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5972040" cy="473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F9BA-E2AE-4273-8717-2C1F3C455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5DEA-598C-4F8F-A617-D04E80FE9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AC8E-6A60-4EC3-BE41-9EF391CBF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F78B6-2273-47BB-BE55-1C60D8CA4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9F821-F462-4E43-A593-599C4505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23274-559B-43BE-A987-0664ED4C5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38AA5-7E2B-4AD5-AB59-D307CF151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AC97-1BC0-457B-9C07-A858CB57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7743-0047-43EB-9F47-01ACD4EA3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AD755-2065-4A21-9B23-FD0DE5F69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77577-804E-430C-9DE9-3A5C25253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5D4B-5641-47D4-AA6B-C177C5511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2611-A2FE-4C7D-8F1D-F5CE4EACD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48BFF-27F5-425F-AEE8-ED4F744D5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7C19-7281-4105-94F8-BCD055C0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CB74-A046-46CB-BBF2-6FB6AA7F5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4492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585480" y="176796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436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4492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585480" y="4335480"/>
            <a:ext cx="289548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04565-78A9-4322-A1B7-61BCA6B54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2541-21FA-4C64-8CED-F63C8EE6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571A-3B55-470A-AAE6-B95677FAB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31A4-9E3C-4718-B149-4F68A3CC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04360" y="48960"/>
            <a:ext cx="8993160" cy="54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9CC3-A054-442E-A0DE-FC2025D68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6167-51DF-4658-B4B1-C302A8D11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12720" y="433548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59D4-6A2F-45E3-BC5A-C8C7A64AD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0436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12720" y="1767960"/>
            <a:ext cx="438840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360" y="4335480"/>
            <a:ext cx="8993160" cy="234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74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7EE2-1CFC-42CD-B52D-F5262247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Click to edit the title text format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360" y="1767960"/>
            <a:ext cx="899316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27160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EE0CEF2-9AD7-45C4-91F8-1A630C0A8A99}" type="slidenum">
              <a:rPr b="0" lang="es-CL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Line 8"/>
          <p:cNvSpPr/>
          <p:nvPr/>
        </p:nvSpPr>
        <p:spPr>
          <a:xfrm>
            <a:off x="9720360" y="181080"/>
            <a:ext cx="1440" cy="7378560"/>
          </a:xfrm>
          <a:prstGeom prst="line">
            <a:avLst/>
          </a:prstGeom>
          <a:ln w="720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-181440" y="17784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6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6053040" y="708120"/>
            <a:ext cx="2766960" cy="7318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"/>
          <p:cNvSpPr/>
          <p:nvPr/>
        </p:nvSpPr>
        <p:spPr>
          <a:xfrm>
            <a:off x="8999640" y="181080"/>
            <a:ext cx="900000" cy="7378560"/>
          </a:xfrm>
          <a:prstGeom prst="rect">
            <a:avLst/>
          </a:prstGeom>
          <a:solidFill>
            <a:srgbClr val="b3b3b3">
              <a:alpha val="50000"/>
            </a:srgbClr>
          </a:solidFill>
          <a:ln w="9360">
            <a:solidFill>
              <a:srgbClr val="b3b3b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640360" y="8098920"/>
            <a:ext cx="2622600" cy="1002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marL="294840" indent="-29484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lnSpc>
                <a:spcPct val="76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04720" y="6886080"/>
            <a:ext cx="226872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47720" y="6886080"/>
            <a:ext cx="3117960" cy="44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E8CEF74-5104-479B-A73B-06B6F0603C7F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8"/>
          <p:cNvSpPr/>
          <p:nvPr/>
        </p:nvSpPr>
        <p:spPr>
          <a:xfrm>
            <a:off x="0" y="108000"/>
            <a:ext cx="10080720" cy="1440"/>
          </a:xfrm>
          <a:prstGeom prst="line">
            <a:avLst/>
          </a:prstGeom>
          <a:ln w="2160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7378560"/>
            <a:ext cx="10080720" cy="181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3"/>
          <a:stretch/>
        </p:blipFill>
        <p:spPr>
          <a:xfrm>
            <a:off x="360360" y="1465200"/>
            <a:ext cx="5878440" cy="357516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2"/>
          <p:cNvSpPr/>
          <p:nvPr/>
        </p:nvSpPr>
        <p:spPr>
          <a:xfrm>
            <a:off x="3959280" y="3060720"/>
            <a:ext cx="5940360" cy="1979640"/>
          </a:xfrm>
          <a:prstGeom prst="rect">
            <a:avLst/>
          </a:prstGeom>
          <a:solidFill>
            <a:srgbClr val="e6e6ff">
              <a:alpha val="20000"/>
            </a:srgbClr>
          </a:solidFill>
          <a:ln w="9360">
            <a:solidFill>
              <a:srgbClr val="cccc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6300720" y="5221440"/>
            <a:ext cx="32385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748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s-CL" sz="2400" spc="-1" strike="noStrike">
                <a:solidFill>
                  <a:srgbClr val="4c4c4c"/>
                </a:solidFill>
                <a:latin typeface="Times New Roman"/>
              </a:rPr>
              <a:t>IN3001-Otoño 200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3 Marcador de número de diapositiva"/>
          <p:cNvSpPr/>
          <p:nvPr/>
        </p:nvSpPr>
        <p:spPr>
          <a:xfrm>
            <a:off x="6651720" y="6840360"/>
            <a:ext cx="22701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74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65E7A3-50F1-4546-8A92-A461A4AACA2A}" type="slidenum">
              <a:rPr b="0" lang="es-CL" sz="14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1"/>
          <p:cNvSpPr/>
          <p:nvPr/>
        </p:nvSpPr>
        <p:spPr>
          <a:xfrm>
            <a:off x="3611520" y="3024360"/>
            <a:ext cx="6181920" cy="18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5120" bIns="450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	</a:t>
            </a: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Clase Nº7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6000"/>
              </a:lnSpc>
              <a:tabLst>
                <a:tab algn="l" pos="0"/>
                <a:tab algn="l" pos="442800"/>
                <a:tab algn="l" pos="892080"/>
                <a:tab algn="l" pos="1341360"/>
                <a:tab algn="l" pos="1790640"/>
                <a:tab algn="l" pos="2239920"/>
                <a:tab algn="l" pos="2689200"/>
                <a:tab algn="l" pos="3138480"/>
                <a:tab algn="l" pos="3587760"/>
                <a:tab algn="l" pos="4037040"/>
                <a:tab algn="l" pos="4486320"/>
                <a:tab algn="l" pos="4935600"/>
                <a:tab algn="l" pos="5389560"/>
                <a:tab algn="l" pos="5834160"/>
                <a:tab algn="l" pos="6283440"/>
                <a:tab algn="l" pos="6732720"/>
                <a:tab algn="l" pos="7182000"/>
                <a:tab algn="l" pos="7631280"/>
                <a:tab algn="l" pos="8080200"/>
                <a:tab algn="l" pos="8529480"/>
                <a:tab algn="l" pos="8978760"/>
                <a:tab algn="l" pos="8980560"/>
                <a:tab algn="l" pos="9429840"/>
                <a:tab algn="l" pos="9879120"/>
                <a:tab algn="l" pos="10328400"/>
                <a:tab algn="l" pos="10779120"/>
                <a:tab algn="l" pos="10780560"/>
                <a:tab algn="l" pos="10782360"/>
              </a:tabLst>
            </a:pPr>
            <a:r>
              <a:rPr b="1" lang="es-CL" sz="3700" spc="-1" strike="noStrike">
                <a:solidFill>
                  <a:srgbClr val="000080"/>
                </a:solidFill>
                <a:latin typeface="Times New Roman"/>
              </a:rPr>
              <a:t>Estrategias de negocios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10 Rectángulo"/>
          <p:cNvSpPr/>
          <p:nvPr/>
        </p:nvSpPr>
        <p:spPr>
          <a:xfrm>
            <a:off x="6254640" y="5351400"/>
            <a:ext cx="264312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IN3001 Primavera 20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tivación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2" name="3 CuadroTexto"/>
          <p:cNvSpPr/>
          <p:nvPr/>
        </p:nvSpPr>
        <p:spPr>
          <a:xfrm>
            <a:off x="611280" y="1279440"/>
            <a:ext cx="8772480" cy="4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¿Qué estrategias de negocios presentan las siguientes empresas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8" descr=""/>
          <p:cNvPicPr/>
          <p:nvPr/>
        </p:nvPicPr>
        <p:blipFill>
          <a:blip r:embed="rId1"/>
          <a:stretch/>
        </p:blipFill>
        <p:spPr>
          <a:xfrm>
            <a:off x="925560" y="2255760"/>
            <a:ext cx="1676520" cy="1698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9" descr=""/>
          <p:cNvPicPr/>
          <p:nvPr/>
        </p:nvPicPr>
        <p:blipFill>
          <a:blip r:embed="rId2"/>
          <a:stretch/>
        </p:blipFill>
        <p:spPr>
          <a:xfrm>
            <a:off x="1001880" y="4821120"/>
            <a:ext cx="1473120" cy="14734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3"/>
          <a:stretch/>
        </p:blipFill>
        <p:spPr>
          <a:xfrm>
            <a:off x="4014720" y="2332080"/>
            <a:ext cx="1863720" cy="13716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4" descr=""/>
          <p:cNvPicPr/>
          <p:nvPr/>
        </p:nvPicPr>
        <p:blipFill>
          <a:blip r:embed="rId4"/>
          <a:stretch/>
        </p:blipFill>
        <p:spPr>
          <a:xfrm>
            <a:off x="4049640" y="4313160"/>
            <a:ext cx="1866960" cy="19051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5" descr=""/>
          <p:cNvPicPr/>
          <p:nvPr/>
        </p:nvPicPr>
        <p:blipFill>
          <a:blip r:embed="rId5"/>
          <a:stretch/>
        </p:blipFill>
        <p:spPr>
          <a:xfrm>
            <a:off x="7021440" y="2255760"/>
            <a:ext cx="218448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Algunas distinciones importantes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59" name="TextBox 2"/>
          <p:cNvSpPr/>
          <p:nvPr/>
        </p:nvSpPr>
        <p:spPr>
          <a:xfrm>
            <a:off x="696960" y="1569960"/>
            <a:ext cx="8458200" cy="41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ustria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po de empresas que producen bienes idénticos, que el consumidor considera como sustitutos perfectos aunque sean físicamente difer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rcado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onde confluyen la oferta y la demanda. En un sentido menos amplio, el mercado es el conjunto de todos los compradores reales y potenciales de un product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uesta de valor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zcla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únic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entre productos, servicios, beneficios y valor agregado que la empresa entrega a sus cl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rategia de negocio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nta lograr una ventaja sostenible a largo plazo en cada uno de sus negocios respondiendo adecuadamente ante las amenazas y oportunidades en el medio ambiente de la empresa u organización, y las fortalezas y debilidades de la organiz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Qué es una estrategia de negocio?…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1" name="3 CuadroTexto"/>
          <p:cNvSpPr/>
          <p:nvPr/>
        </p:nvSpPr>
        <p:spPr>
          <a:xfrm>
            <a:off x="316080" y="1341360"/>
            <a:ext cx="8324640" cy="19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El concepto de estrategia de negocio abarca la totalidad de las actividades críticas de una empresa, dándole sentido de unidad, dirección y propósito, a la vez que permiten enfrentar de mejor forma los cambios necesarios que ocurren en el entorno del negocio”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Arial"/>
              </a:rPr>
              <a:t>Porter, 198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6" descr=""/>
          <p:cNvPicPr/>
          <p:nvPr/>
        </p:nvPicPr>
        <p:blipFill>
          <a:blip r:embed="rId1"/>
          <a:stretch/>
        </p:blipFill>
        <p:spPr>
          <a:xfrm>
            <a:off x="6897600" y="3422520"/>
            <a:ext cx="2003400" cy="25653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6"/>
          <p:cNvSpPr/>
          <p:nvPr/>
        </p:nvSpPr>
        <p:spPr>
          <a:xfrm>
            <a:off x="468360" y="3422520"/>
            <a:ext cx="6095880" cy="238896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l término de estrategia de negocio data desde 1955, durante la segunda revolución industrial en los Estados Unid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a revolución industrial de 1950 también produjo una revolución empresarial y organizacion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ctualmente, la estrategia de negocio es una de las principales actividades desarrolladas por el directorio de las empresa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Modelo de las 5 fuerzas Porter </a:t>
            </a: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	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65" name="6 CuadroTexto"/>
          <p:cNvSpPr/>
          <p:nvPr/>
        </p:nvSpPr>
        <p:spPr>
          <a:xfrm>
            <a:off x="3859200" y="2987640"/>
            <a:ext cx="2286000" cy="111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menaza de entrada de nuevos competidores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6 CuadroTexto"/>
          <p:cNvSpPr/>
          <p:nvPr/>
        </p:nvSpPr>
        <p:spPr>
          <a:xfrm>
            <a:off x="6183360" y="4387680"/>
            <a:ext cx="228600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ivalidad entre los competi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6 CuadroTexto"/>
          <p:cNvSpPr/>
          <p:nvPr/>
        </p:nvSpPr>
        <p:spPr>
          <a:xfrm>
            <a:off x="5726160" y="5807160"/>
            <a:ext cx="2286000" cy="111348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der de negociación de los provee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6 CuadroTexto"/>
          <p:cNvSpPr/>
          <p:nvPr/>
        </p:nvSpPr>
        <p:spPr>
          <a:xfrm>
            <a:off x="1916280" y="5807160"/>
            <a:ext cx="2286000" cy="85860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Poder de negociación de los compradore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6 CuadroTexto"/>
          <p:cNvSpPr/>
          <p:nvPr/>
        </p:nvSpPr>
        <p:spPr>
          <a:xfrm>
            <a:off x="1382760" y="4313160"/>
            <a:ext cx="228600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ntrada de nuevos productos sustitu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8"/>
          <p:cNvSpPr/>
          <p:nvPr/>
        </p:nvSpPr>
        <p:spPr>
          <a:xfrm>
            <a:off x="773280" y="1206360"/>
            <a:ext cx="792468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gún Porter, existen cinco fuerzas que determinan las consecuencias de rentabilidad a largo plazo de un mercado o de algún segmento de éste. La corporación debe evaluar sus objetivos y recursos frente a éstas cinco fuerzas que rigen la competencia industria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5-Point Star 19"/>
          <p:cNvSpPr/>
          <p:nvPr/>
        </p:nvSpPr>
        <p:spPr>
          <a:xfrm>
            <a:off x="3897360" y="3932280"/>
            <a:ext cx="2057400" cy="1905120"/>
          </a:xfrm>
          <a:prstGeom prst="pie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8993160" cy="118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_tradnl" sz="3400" spc="-1" strike="noStrike">
                <a:solidFill>
                  <a:srgbClr val="ff0000"/>
                </a:solidFill>
                <a:latin typeface="Times New Roman"/>
              </a:rPr>
              <a:t>Barreras de entrada 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44680" y="1189080"/>
            <a:ext cx="83055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a barrera de entrada es todo aquel obstáculo que surge en el camino de una firma o compañía que desea ingresar en un nuevo merc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7250040" y="3627360"/>
            <a:ext cx="2241720" cy="26193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5"/>
          <p:cNvSpPr/>
          <p:nvPr/>
        </p:nvSpPr>
        <p:spPr>
          <a:xfrm>
            <a:off x="620640" y="2332080"/>
            <a:ext cx="63248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conomías de escal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erenciación del 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ersiones de capit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tos independientes de la escala (monopolio natur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o a canales de distribu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3000"/>
              </a:lnSpc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íticas gubernamentales (proteccionismo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ight Arrow 34"/>
          <p:cNvSpPr/>
          <p:nvPr/>
        </p:nvSpPr>
        <p:spPr>
          <a:xfrm>
            <a:off x="6335640" y="3094200"/>
            <a:ext cx="1219320" cy="2057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ight Arrow 33"/>
          <p:cNvSpPr/>
          <p:nvPr/>
        </p:nvSpPr>
        <p:spPr>
          <a:xfrm>
            <a:off x="3363840" y="3094200"/>
            <a:ext cx="1219320" cy="20574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4360" y="48960"/>
            <a:ext cx="8993160" cy="118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400" spc="-1" strike="noStrike">
                <a:solidFill>
                  <a:srgbClr val="ff0000"/>
                </a:solidFill>
                <a:latin typeface="Times New Roman"/>
              </a:rPr>
              <a:t>Elementos de una estrategia de negocios</a:t>
            </a:r>
            <a:endParaRPr b="0" lang="en-US" sz="3400" spc="-1" strike="noStrike">
              <a:solidFill>
                <a:srgbClr val="ff0000"/>
              </a:solidFill>
              <a:latin typeface="Times New Roman"/>
            </a:endParaRPr>
          </a:p>
        </p:txBody>
      </p:sp>
      <p:sp>
        <p:nvSpPr>
          <p:cNvPr id="179" name="TextBox 2"/>
          <p:cNvSpPr/>
          <p:nvPr/>
        </p:nvSpPr>
        <p:spPr>
          <a:xfrm>
            <a:off x="2373480" y="2027160"/>
            <a:ext cx="15238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2373480" y="248436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ien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Box 11"/>
          <p:cNvSpPr/>
          <p:nvPr/>
        </p:nvSpPr>
        <p:spPr>
          <a:xfrm>
            <a:off x="11160" y="2103480"/>
            <a:ext cx="1600200" cy="47689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ORTALEZA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ortunida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ebilidad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enaza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ight Arrow 12"/>
          <p:cNvSpPr/>
          <p:nvPr/>
        </p:nvSpPr>
        <p:spPr>
          <a:xfrm>
            <a:off x="1535040" y="24843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Right Arrow 13"/>
          <p:cNvSpPr/>
          <p:nvPr/>
        </p:nvSpPr>
        <p:spPr>
          <a:xfrm>
            <a:off x="1535040" y="3855960"/>
            <a:ext cx="381240" cy="304920"/>
          </a:xfrm>
          <a:prstGeom prst="rightArrow">
            <a:avLst>
              <a:gd name="adj1" fmla="val 50000"/>
              <a:gd name="adj2" fmla="val 50012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ight Arrow 14"/>
          <p:cNvSpPr/>
          <p:nvPr/>
        </p:nvSpPr>
        <p:spPr>
          <a:xfrm>
            <a:off x="1535040" y="5151600"/>
            <a:ext cx="381240" cy="30456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Right Arrow 15"/>
          <p:cNvSpPr/>
          <p:nvPr/>
        </p:nvSpPr>
        <p:spPr>
          <a:xfrm>
            <a:off x="1535040" y="6294600"/>
            <a:ext cx="381240" cy="304560"/>
          </a:xfrm>
          <a:prstGeom prst="rightArrow">
            <a:avLst>
              <a:gd name="adj1" fmla="val 50000"/>
              <a:gd name="adj2" fmla="val 50071"/>
            </a:avLst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_x0016_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Box 17"/>
          <p:cNvSpPr/>
          <p:nvPr/>
        </p:nvSpPr>
        <p:spPr>
          <a:xfrm>
            <a:off x="2373480" y="3475080"/>
            <a:ext cx="15238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co leg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eft Brace 18"/>
          <p:cNvSpPr/>
          <p:nvPr/>
        </p:nvSpPr>
        <p:spPr>
          <a:xfrm>
            <a:off x="1916280" y="210348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143000"/>
              <a:gd name="textAreaBottom" fmla="*/ 11350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0"/>
                  <a:pt x="10800" y="480"/>
                </a:cubicBezTo>
                <a:lnTo>
                  <a:pt x="10800" y="10320"/>
                </a:lnTo>
                <a:cubicBezTo>
                  <a:pt x="10800" y="10560"/>
                  <a:pt x="5400" y="10800"/>
                  <a:pt x="0" y="10800"/>
                </a:cubicBezTo>
                <a:cubicBezTo>
                  <a:pt x="5400" y="10800"/>
                  <a:pt x="10800" y="11040"/>
                  <a:pt x="10800" y="11280"/>
                </a:cubicBezTo>
                <a:lnTo>
                  <a:pt x="10800" y="21120"/>
                </a:lnTo>
                <a:cubicBezTo>
                  <a:pt x="10800" y="2136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Box 19"/>
          <p:cNvSpPr/>
          <p:nvPr/>
        </p:nvSpPr>
        <p:spPr>
          <a:xfrm>
            <a:off x="2373480" y="2941560"/>
            <a:ext cx="15238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quip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20"/>
          <p:cNvSpPr/>
          <p:nvPr/>
        </p:nvSpPr>
        <p:spPr>
          <a:xfrm>
            <a:off x="2373480" y="396072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rcado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21"/>
          <p:cNvSpPr/>
          <p:nvPr/>
        </p:nvSpPr>
        <p:spPr>
          <a:xfrm>
            <a:off x="2373480" y="446580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cnologí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eft Brace 22"/>
          <p:cNvSpPr/>
          <p:nvPr/>
        </p:nvSpPr>
        <p:spPr>
          <a:xfrm>
            <a:off x="1916280" y="3475080"/>
            <a:ext cx="304560" cy="129528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1295280"/>
              <a:gd name="textAreaBottom" fmla="*/ 128736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Left Brace 23"/>
          <p:cNvSpPr/>
          <p:nvPr/>
        </p:nvSpPr>
        <p:spPr>
          <a:xfrm>
            <a:off x="1916280" y="4923000"/>
            <a:ext cx="304560" cy="99036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990360"/>
              <a:gd name="textAreaBottom" fmla="*/ 982440 h 99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Box 24"/>
          <p:cNvSpPr/>
          <p:nvPr/>
        </p:nvSpPr>
        <p:spPr>
          <a:xfrm>
            <a:off x="2373480" y="495144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Box 25"/>
          <p:cNvSpPr/>
          <p:nvPr/>
        </p:nvSpPr>
        <p:spPr>
          <a:xfrm>
            <a:off x="2373480" y="538020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now-how”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Left Brace 26"/>
          <p:cNvSpPr/>
          <p:nvPr/>
        </p:nvSpPr>
        <p:spPr>
          <a:xfrm>
            <a:off x="1916280" y="5989680"/>
            <a:ext cx="304560" cy="990720"/>
          </a:xfrm>
          <a:custGeom>
            <a:avLst/>
            <a:gdLst>
              <a:gd name="textAreaLeft" fmla="*/ 194760 w 304560"/>
              <a:gd name="textAreaRight" fmla="*/ 304920 w 304560"/>
              <a:gd name="textAreaTop" fmla="*/ 7920 h 990720"/>
              <a:gd name="textAreaBottom" fmla="*/ 98280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7"/>
                  <a:pt x="10800" y="554"/>
                </a:cubicBezTo>
                <a:lnTo>
                  <a:pt x="10800" y="10246"/>
                </a:lnTo>
                <a:cubicBezTo>
                  <a:pt x="10800" y="10523"/>
                  <a:pt x="5400" y="10800"/>
                  <a:pt x="0" y="10800"/>
                </a:cubicBezTo>
                <a:cubicBezTo>
                  <a:pt x="5400" y="10800"/>
                  <a:pt x="10800" y="11077"/>
                  <a:pt x="10800" y="11354"/>
                </a:cubicBezTo>
                <a:lnTo>
                  <a:pt x="10800" y="21046"/>
                </a:lnTo>
                <a:cubicBezTo>
                  <a:pt x="10800" y="21323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Box 27"/>
          <p:cNvSpPr/>
          <p:nvPr/>
        </p:nvSpPr>
        <p:spPr>
          <a:xfrm>
            <a:off x="2373480" y="606420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stitu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28"/>
          <p:cNvSpPr/>
          <p:nvPr/>
        </p:nvSpPr>
        <p:spPr>
          <a:xfrm>
            <a:off x="2373480" y="6551640"/>
            <a:ext cx="15238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mpetidor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entagon 30"/>
          <p:cNvSpPr/>
          <p:nvPr/>
        </p:nvSpPr>
        <p:spPr>
          <a:xfrm>
            <a:off x="1077840" y="1189080"/>
            <a:ext cx="3276720" cy="685800"/>
          </a:xfrm>
          <a:custGeom>
            <a:avLst/>
            <a:gdLst>
              <a:gd name="textAreaLeft" fmla="*/ 0 w 3276720"/>
              <a:gd name="textAreaRight" fmla="*/ 3277080 w 32767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340" y="0"/>
                </a:lnTo>
                <a:lnTo>
                  <a:pt x="21600" y="10800"/>
                </a:lnTo>
                <a:lnTo>
                  <a:pt x="1934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álisis y Formul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Chevron 31"/>
          <p:cNvSpPr/>
          <p:nvPr/>
        </p:nvSpPr>
        <p:spPr>
          <a:xfrm>
            <a:off x="4354560" y="1189080"/>
            <a:ext cx="2819520" cy="685800"/>
          </a:xfrm>
          <a:custGeom>
            <a:avLst/>
            <a:gdLst>
              <a:gd name="textAreaLeft" fmla="*/ 0 w 2819520"/>
              <a:gd name="textAreaRight" fmla="*/ 2819880 w 281952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973" y="0"/>
                </a:lnTo>
                <a:lnTo>
                  <a:pt x="21600" y="10800"/>
                </a:lnTo>
                <a:lnTo>
                  <a:pt x="18973" y="21600"/>
                </a:lnTo>
                <a:lnTo>
                  <a:pt x="0" y="21600"/>
                </a:lnTo>
                <a:lnTo>
                  <a:pt x="2627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lementació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Chevron 32"/>
          <p:cNvSpPr/>
          <p:nvPr/>
        </p:nvSpPr>
        <p:spPr>
          <a:xfrm>
            <a:off x="7097760" y="1189080"/>
            <a:ext cx="2743200" cy="762120"/>
          </a:xfrm>
          <a:custGeom>
            <a:avLst/>
            <a:gdLst>
              <a:gd name="textAreaLeft" fmla="*/ 0 w 2743200"/>
              <a:gd name="textAreaRight" fmla="*/ 2743560 w 274320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600" y="0"/>
                </a:lnTo>
                <a:lnTo>
                  <a:pt x="21600" y="10800"/>
                </a:lnTo>
                <a:lnTo>
                  <a:pt x="18600" y="21600"/>
                </a:lnTo>
                <a:lnTo>
                  <a:pt x="0" y="21600"/>
                </a:lnTo>
                <a:lnTo>
                  <a:pt x="300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tro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Box 35"/>
          <p:cNvSpPr/>
          <p:nvPr/>
        </p:nvSpPr>
        <p:spPr>
          <a:xfrm>
            <a:off x="4506840" y="202716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Market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TextBox 36"/>
          <p:cNvSpPr/>
          <p:nvPr/>
        </p:nvSpPr>
        <p:spPr>
          <a:xfrm>
            <a:off x="4506840" y="368316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Operaciones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TextBox 37"/>
          <p:cNvSpPr/>
          <p:nvPr/>
        </p:nvSpPr>
        <p:spPr>
          <a:xfrm>
            <a:off x="4506840" y="474984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Finanz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Box 38"/>
          <p:cNvSpPr/>
          <p:nvPr/>
        </p:nvSpPr>
        <p:spPr>
          <a:xfrm>
            <a:off x="4506840" y="6170760"/>
            <a:ext cx="24386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de RRH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Box 39"/>
          <p:cNvSpPr/>
          <p:nvPr/>
        </p:nvSpPr>
        <p:spPr>
          <a:xfrm>
            <a:off x="4964040" y="240840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TextBox 40"/>
          <p:cNvSpPr/>
          <p:nvPr/>
        </p:nvSpPr>
        <p:spPr>
          <a:xfrm>
            <a:off x="4964040" y="27129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mo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Box 41"/>
          <p:cNvSpPr/>
          <p:nvPr/>
        </p:nvSpPr>
        <p:spPr>
          <a:xfrm>
            <a:off x="4964040" y="3017880"/>
            <a:ext cx="152424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z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Box 42"/>
          <p:cNvSpPr/>
          <p:nvPr/>
        </p:nvSpPr>
        <p:spPr>
          <a:xfrm>
            <a:off x="4964040" y="332280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c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Box 43"/>
          <p:cNvSpPr/>
          <p:nvPr/>
        </p:nvSpPr>
        <p:spPr>
          <a:xfrm>
            <a:off x="4964040" y="403704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Box 44"/>
          <p:cNvSpPr/>
          <p:nvPr/>
        </p:nvSpPr>
        <p:spPr>
          <a:xfrm>
            <a:off x="4964040" y="510372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TextBox 45"/>
          <p:cNvSpPr/>
          <p:nvPr/>
        </p:nvSpPr>
        <p:spPr>
          <a:xfrm>
            <a:off x="4964040" y="54561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st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Box 46"/>
          <p:cNvSpPr/>
          <p:nvPr/>
        </p:nvSpPr>
        <p:spPr>
          <a:xfrm>
            <a:off x="4964040" y="43689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tim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TextBox 47"/>
          <p:cNvSpPr/>
          <p:nvPr/>
        </p:nvSpPr>
        <p:spPr>
          <a:xfrm>
            <a:off x="4964040" y="578952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gres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Box 48"/>
          <p:cNvSpPr/>
          <p:nvPr/>
        </p:nvSpPr>
        <p:spPr>
          <a:xfrm>
            <a:off x="4964040" y="652320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at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TextBox 49"/>
          <p:cNvSpPr/>
          <p:nvPr/>
        </p:nvSpPr>
        <p:spPr>
          <a:xfrm>
            <a:off x="4964040" y="6856560"/>
            <a:ext cx="152424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erfi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Box 50"/>
          <p:cNvSpPr/>
          <p:nvPr/>
        </p:nvSpPr>
        <p:spPr>
          <a:xfrm>
            <a:off x="4888080" y="7209000"/>
            <a:ext cx="167616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pecializ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Box 51"/>
          <p:cNvSpPr/>
          <p:nvPr/>
        </p:nvSpPr>
        <p:spPr>
          <a:xfrm>
            <a:off x="7326360" y="2027160"/>
            <a:ext cx="24382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 de Gest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Box 52"/>
          <p:cNvSpPr/>
          <p:nvPr/>
        </p:nvSpPr>
        <p:spPr>
          <a:xfrm>
            <a:off x="7631280" y="2406600"/>
            <a:ext cx="19810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dicadores de gest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Box 53"/>
          <p:cNvSpPr/>
          <p:nvPr/>
        </p:nvSpPr>
        <p:spPr>
          <a:xfrm>
            <a:off x="7631280" y="3017880"/>
            <a:ext cx="19810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uadro de mando integ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Box 54"/>
          <p:cNvSpPr/>
          <p:nvPr/>
        </p:nvSpPr>
        <p:spPr>
          <a:xfrm>
            <a:off x="7326360" y="5559480"/>
            <a:ext cx="24382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s Financier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Box 55"/>
          <p:cNvSpPr/>
          <p:nvPr/>
        </p:nvSpPr>
        <p:spPr>
          <a:xfrm>
            <a:off x="7631280" y="5911920"/>
            <a:ext cx="19810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lanc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Box 56"/>
          <p:cNvSpPr/>
          <p:nvPr/>
        </p:nvSpPr>
        <p:spPr>
          <a:xfrm>
            <a:off x="7631280" y="6265800"/>
            <a:ext cx="19810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lujo de Caj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57"/>
          <p:cNvSpPr/>
          <p:nvPr/>
        </p:nvSpPr>
        <p:spPr>
          <a:xfrm>
            <a:off x="7631280" y="6597720"/>
            <a:ext cx="1981080" cy="60372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stados de resultado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58"/>
          <p:cNvSpPr/>
          <p:nvPr/>
        </p:nvSpPr>
        <p:spPr>
          <a:xfrm>
            <a:off x="7326360" y="3780000"/>
            <a:ext cx="243828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álisis de merca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59"/>
          <p:cNvSpPr/>
          <p:nvPr/>
        </p:nvSpPr>
        <p:spPr>
          <a:xfrm>
            <a:off x="7631280" y="4159080"/>
            <a:ext cx="205740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lta- particip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Box 60"/>
          <p:cNvSpPr/>
          <p:nvPr/>
        </p:nvSpPr>
        <p:spPr>
          <a:xfrm>
            <a:off x="7631280" y="4541760"/>
            <a:ext cx="205740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veles de Ven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Box 61"/>
          <p:cNvSpPr/>
          <p:nvPr/>
        </p:nvSpPr>
        <p:spPr>
          <a:xfrm>
            <a:off x="7631280" y="4923000"/>
            <a:ext cx="2057400" cy="348840"/>
          </a:xfrm>
          <a:prstGeom prst="rect">
            <a:avLst/>
          </a:prstGeom>
          <a:gradFill rotWithShape="0">
            <a:gsLst>
              <a:gs pos="0">
                <a:srgbClr val="ededed"/>
              </a:gs>
              <a:gs pos="100000">
                <a:srgbClr val="bcbcbc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uevos mercad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5T01:58:19Z</dcterms:created>
  <dc:creator>pamela</dc:creator>
  <dc:description/>
  <dc:language>en-US</dc:language>
  <cp:lastModifiedBy>Hernan Flores</cp:lastModifiedBy>
  <dcterms:modified xsi:type="dcterms:W3CDTF">2009-10-25T13:18:40Z</dcterms:modified>
  <cp:revision>95</cp:revision>
  <dc:subject/>
  <dc:title>Diapositiva 1</dc:title>
</cp:coreProperties>
</file>