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109D6-A8AE-4CFC-85EB-CCC8DECA3BA3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333BD-2EC9-4784-BB12-D3A7AD94112A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D53-95C6-490E-816F-E2D1266C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9452-534A-459C-BCB2-C90873FC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0C0F-E38A-4BB5-AB48-95313591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F6E-269E-4F08-9109-F41BD934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6423-67BA-40EB-B560-4B7CA99DF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72E42-3CB3-46AF-827D-C7E6DCF1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2181-B83B-49A2-A2F1-3558FD4E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A1B4-6E49-43ED-8C47-462099B3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62B0-2640-428D-A493-E25F39C1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94A6-2FEC-43C0-9666-F268BA9D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359C-1DC7-477D-86F4-D9AE8B1C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F65-2575-43A9-98AF-77B7AE46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BD0A-8421-4736-98E5-CC6506F8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DB4E-8D03-4639-8708-325E63AA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6E54-7D42-4EFB-967E-A33C4927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104A-D09E-4351-B1B7-19DAA239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2EA6-E3E3-4DD0-BEAF-1F5ADB00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877-EE72-41CF-8491-CF99ADEC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349-A940-4E69-99F3-D36CDF54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DB5-0E37-43E6-8407-C461AEC9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65A-10D7-42CD-B255-FF2C5170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52FD-BB1A-4D11-9FC1-F256203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994-5302-4FBF-8B5B-4BDF2A50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0A9-FFD6-4E9F-834C-53DB125A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348B17-58F1-42FE-A985-57E9FB5A597A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37B49F-606B-44FE-A678-13DDFBDF2BD7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340EB-164C-4138-ADE1-2C69DB45934E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611520" y="3024360"/>
            <a:ext cx="61819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Nº7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Estrategias de nego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3 CuadroTexto"/>
          <p:cNvSpPr/>
          <p:nvPr/>
        </p:nvSpPr>
        <p:spPr>
          <a:xfrm>
            <a:off x="611280" y="1279440"/>
            <a:ext cx="87724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Qué estrategias de negocios presentan las siguientes empresa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925560" y="2255760"/>
            <a:ext cx="1676520" cy="1698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1001880" y="4821120"/>
            <a:ext cx="1473120" cy="147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3"/>
          <a:stretch/>
        </p:blipFill>
        <p:spPr>
          <a:xfrm>
            <a:off x="4014720" y="2332080"/>
            <a:ext cx="186372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4"/>
          <a:stretch/>
        </p:blipFill>
        <p:spPr>
          <a:xfrm>
            <a:off x="4049640" y="431316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5"/>
          <a:stretch/>
        </p:blipFill>
        <p:spPr>
          <a:xfrm>
            <a:off x="7021440" y="2255760"/>
            <a:ext cx="2184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Algunas distinciones importantes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696960" y="1569960"/>
            <a:ext cx="84582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str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po de empresas que producen bienes idénticos, que el consumidor considera como sustitutos perfectos aunque sean físicamente difer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ad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nde confluyen la oferta y la demanda. En un sentido menos amplio, el mercado es el conjunto de todos los compradores reales y potenciales de un produ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uesta de val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c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ún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re productos, servicios, beneficios y valor agregado que la empresa entrega a sus cl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rategia de negoci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a lograr una ventaja sostenible a largo plazo en cada uno de sus negocios respondiendo adecuadamente ante las amenazas y oportunidades en el medio ambiente de la empresa u organización, y las fortalezas y debilidades de la organiz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Qué es una estrategia de negocio?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3 CuadroTexto"/>
          <p:cNvSpPr/>
          <p:nvPr/>
        </p:nvSpPr>
        <p:spPr>
          <a:xfrm>
            <a:off x="316080" y="1341360"/>
            <a:ext cx="832464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concepto de estrategia de negocio abarca la totalidad de las actividades críticas de una empresa, dándole sentido de unidad, dirección y propósito, a la vez que permiten enfrentar de mejor forma los cambios necesarios que ocurren en el entorno del negocio”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ter, 198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6897600" y="3422520"/>
            <a:ext cx="2003400" cy="2565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468360" y="3422520"/>
            <a:ext cx="6095880" cy="23889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término de estrategia de negocio data desde 1955, durante la segunda revolución industrial en los Estados Uni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revolución industrial de 1950 también produjo una revolución empresarial y organiz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ualmente, la estrategia de negocio es una de las principales actividades desarrolladas por el directorio de las empre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delo de las 5 fuerzas Porter </a:t>
            </a: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6 CuadroTexto"/>
          <p:cNvSpPr/>
          <p:nvPr/>
        </p:nvSpPr>
        <p:spPr>
          <a:xfrm>
            <a:off x="3859200" y="2987640"/>
            <a:ext cx="2286000" cy="111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enaza de entrada de nuevos competidores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6 CuadroTexto"/>
          <p:cNvSpPr/>
          <p:nvPr/>
        </p:nvSpPr>
        <p:spPr>
          <a:xfrm>
            <a:off x="6183360" y="4387680"/>
            <a:ext cx="228600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validad entre los competi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6 CuadroTexto"/>
          <p:cNvSpPr/>
          <p:nvPr/>
        </p:nvSpPr>
        <p:spPr>
          <a:xfrm>
            <a:off x="5726160" y="5807160"/>
            <a:ext cx="2286000" cy="111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der de negociación de los provee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6 CuadroTexto"/>
          <p:cNvSpPr/>
          <p:nvPr/>
        </p:nvSpPr>
        <p:spPr>
          <a:xfrm>
            <a:off x="1916280" y="5807160"/>
            <a:ext cx="2286000" cy="85860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der de negociación de los compr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6 CuadroTexto"/>
          <p:cNvSpPr/>
          <p:nvPr/>
        </p:nvSpPr>
        <p:spPr>
          <a:xfrm>
            <a:off x="1382760" y="4313160"/>
            <a:ext cx="228600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ada de nuevos productos sustitu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773280" y="1206360"/>
            <a:ext cx="7924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Porter, existen cinco fuerzas que determinan las consecuencias de rentabilidad a largo plazo de un mercado o de algún segmento de éste. La corporación debe evaluar sus objetivos y recursos frente a éstas cinco fuerzas que rigen la competencia indust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5-Point Star 19"/>
          <p:cNvSpPr/>
          <p:nvPr/>
        </p:nvSpPr>
        <p:spPr>
          <a:xfrm>
            <a:off x="3897360" y="3932280"/>
            <a:ext cx="205740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Barreras de entrada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44680" y="1189080"/>
            <a:ext cx="8305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barrera de entrada es todo aquel obstáculo que surge en el camino de una firma o compañía que desea ingresar en un nuevo merc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7250040" y="3627360"/>
            <a:ext cx="2241720" cy="26193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620640" y="2332080"/>
            <a:ext cx="63248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ías de esc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erenciación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iones de ca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s independientes de la escala (monopolio natur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o a canales de distribu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s gubernamentales (proteccionis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ight Arrow 34"/>
          <p:cNvSpPr/>
          <p:nvPr/>
        </p:nvSpPr>
        <p:spPr>
          <a:xfrm>
            <a:off x="6335640" y="3094200"/>
            <a:ext cx="1219320" cy="2057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ight Arrow 33"/>
          <p:cNvSpPr/>
          <p:nvPr/>
        </p:nvSpPr>
        <p:spPr>
          <a:xfrm>
            <a:off x="3363840" y="3094200"/>
            <a:ext cx="1219320" cy="2057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Elementos de una estrategia de negocios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373480" y="2027160"/>
            <a:ext cx="15238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2373480" y="248436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11160" y="2103480"/>
            <a:ext cx="1600200" cy="4768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TALEZ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rtunid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bilidad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az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ight Arrow 12"/>
          <p:cNvSpPr/>
          <p:nvPr/>
        </p:nvSpPr>
        <p:spPr>
          <a:xfrm>
            <a:off x="1535040" y="24843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ight Arrow 13"/>
          <p:cNvSpPr/>
          <p:nvPr/>
        </p:nvSpPr>
        <p:spPr>
          <a:xfrm>
            <a:off x="1535040" y="38559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ight Arrow 14"/>
          <p:cNvSpPr/>
          <p:nvPr/>
        </p:nvSpPr>
        <p:spPr>
          <a:xfrm>
            <a:off x="1535040" y="5151600"/>
            <a:ext cx="381240" cy="30456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ight Arrow 15"/>
          <p:cNvSpPr/>
          <p:nvPr/>
        </p:nvSpPr>
        <p:spPr>
          <a:xfrm>
            <a:off x="1535040" y="6294600"/>
            <a:ext cx="381240" cy="30456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2373480" y="3475080"/>
            <a:ext cx="15238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o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eft Brace 18"/>
          <p:cNvSpPr/>
          <p:nvPr/>
        </p:nvSpPr>
        <p:spPr>
          <a:xfrm>
            <a:off x="1916280" y="210348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143000"/>
              <a:gd name="textAreaBottom" fmla="*/ 11350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19"/>
          <p:cNvSpPr/>
          <p:nvPr/>
        </p:nvSpPr>
        <p:spPr>
          <a:xfrm>
            <a:off x="2373480" y="2941560"/>
            <a:ext cx="15238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2373480" y="396072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rca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21"/>
          <p:cNvSpPr/>
          <p:nvPr/>
        </p:nvSpPr>
        <p:spPr>
          <a:xfrm>
            <a:off x="2373480" y="446580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nologí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eft Brace 22"/>
          <p:cNvSpPr/>
          <p:nvPr/>
        </p:nvSpPr>
        <p:spPr>
          <a:xfrm>
            <a:off x="1916280" y="347508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295280"/>
              <a:gd name="textAreaBottom" fmla="*/ 128736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eft Brace 23"/>
          <p:cNvSpPr/>
          <p:nvPr/>
        </p:nvSpPr>
        <p:spPr>
          <a:xfrm>
            <a:off x="1916280" y="492300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990360"/>
              <a:gd name="textAreaBottom" fmla="*/ 98244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24"/>
          <p:cNvSpPr/>
          <p:nvPr/>
        </p:nvSpPr>
        <p:spPr>
          <a:xfrm>
            <a:off x="2373480" y="495144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5"/>
          <p:cNvSpPr/>
          <p:nvPr/>
        </p:nvSpPr>
        <p:spPr>
          <a:xfrm>
            <a:off x="2373480" y="538020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-how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eft Brace 26"/>
          <p:cNvSpPr/>
          <p:nvPr/>
        </p:nvSpPr>
        <p:spPr>
          <a:xfrm>
            <a:off x="1916280" y="5989680"/>
            <a:ext cx="304560" cy="99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990720"/>
              <a:gd name="textAreaBottom" fmla="*/ 9828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27"/>
          <p:cNvSpPr/>
          <p:nvPr/>
        </p:nvSpPr>
        <p:spPr>
          <a:xfrm>
            <a:off x="2373480" y="606420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28"/>
          <p:cNvSpPr/>
          <p:nvPr/>
        </p:nvSpPr>
        <p:spPr>
          <a:xfrm>
            <a:off x="2373480" y="655164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entagon 30"/>
          <p:cNvSpPr/>
          <p:nvPr/>
        </p:nvSpPr>
        <p:spPr>
          <a:xfrm>
            <a:off x="1077840" y="1189080"/>
            <a:ext cx="3276720" cy="68580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0" y="0"/>
                </a:lnTo>
                <a:lnTo>
                  <a:pt x="21600" y="10800"/>
                </a:lnTo>
                <a:lnTo>
                  <a:pt x="193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álisis y Formu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Chevron 31"/>
          <p:cNvSpPr/>
          <p:nvPr/>
        </p:nvSpPr>
        <p:spPr>
          <a:xfrm>
            <a:off x="4354560" y="1189080"/>
            <a:ext cx="2819520" cy="6858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3" y="0"/>
                </a:lnTo>
                <a:lnTo>
                  <a:pt x="21600" y="10800"/>
                </a:lnTo>
                <a:lnTo>
                  <a:pt x="18973" y="21600"/>
                </a:lnTo>
                <a:lnTo>
                  <a:pt x="0" y="21600"/>
                </a:lnTo>
                <a:lnTo>
                  <a:pt x="2627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lemen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Chevron 32"/>
          <p:cNvSpPr/>
          <p:nvPr/>
        </p:nvSpPr>
        <p:spPr>
          <a:xfrm>
            <a:off x="7097760" y="1189080"/>
            <a:ext cx="2743200" cy="76212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35"/>
          <p:cNvSpPr/>
          <p:nvPr/>
        </p:nvSpPr>
        <p:spPr>
          <a:xfrm>
            <a:off x="4506840" y="202716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Market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36"/>
          <p:cNvSpPr/>
          <p:nvPr/>
        </p:nvSpPr>
        <p:spPr>
          <a:xfrm>
            <a:off x="4506840" y="368316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Operacion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7"/>
          <p:cNvSpPr/>
          <p:nvPr/>
        </p:nvSpPr>
        <p:spPr>
          <a:xfrm>
            <a:off x="4506840" y="474984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Finan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38"/>
          <p:cNvSpPr/>
          <p:nvPr/>
        </p:nvSpPr>
        <p:spPr>
          <a:xfrm>
            <a:off x="4506840" y="617076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RRH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39"/>
          <p:cNvSpPr/>
          <p:nvPr/>
        </p:nvSpPr>
        <p:spPr>
          <a:xfrm>
            <a:off x="4964040" y="240840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40"/>
          <p:cNvSpPr/>
          <p:nvPr/>
        </p:nvSpPr>
        <p:spPr>
          <a:xfrm>
            <a:off x="4964040" y="27129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41"/>
          <p:cNvSpPr/>
          <p:nvPr/>
        </p:nvSpPr>
        <p:spPr>
          <a:xfrm>
            <a:off x="4964040" y="3017880"/>
            <a:ext cx="152424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42"/>
          <p:cNvSpPr/>
          <p:nvPr/>
        </p:nvSpPr>
        <p:spPr>
          <a:xfrm>
            <a:off x="4964040" y="332280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43"/>
          <p:cNvSpPr/>
          <p:nvPr/>
        </p:nvSpPr>
        <p:spPr>
          <a:xfrm>
            <a:off x="4964040" y="403704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44"/>
          <p:cNvSpPr/>
          <p:nvPr/>
        </p:nvSpPr>
        <p:spPr>
          <a:xfrm>
            <a:off x="4964040" y="510372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45"/>
          <p:cNvSpPr/>
          <p:nvPr/>
        </p:nvSpPr>
        <p:spPr>
          <a:xfrm>
            <a:off x="4964040" y="54561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46"/>
          <p:cNvSpPr/>
          <p:nvPr/>
        </p:nvSpPr>
        <p:spPr>
          <a:xfrm>
            <a:off x="4964040" y="43689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47"/>
          <p:cNvSpPr/>
          <p:nvPr/>
        </p:nvSpPr>
        <p:spPr>
          <a:xfrm>
            <a:off x="4964040" y="578952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48"/>
          <p:cNvSpPr/>
          <p:nvPr/>
        </p:nvSpPr>
        <p:spPr>
          <a:xfrm>
            <a:off x="4964040" y="652320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49"/>
          <p:cNvSpPr/>
          <p:nvPr/>
        </p:nvSpPr>
        <p:spPr>
          <a:xfrm>
            <a:off x="4964040" y="68565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50"/>
          <p:cNvSpPr/>
          <p:nvPr/>
        </p:nvSpPr>
        <p:spPr>
          <a:xfrm>
            <a:off x="4888080" y="7209000"/>
            <a:ext cx="167616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51"/>
          <p:cNvSpPr/>
          <p:nvPr/>
        </p:nvSpPr>
        <p:spPr>
          <a:xfrm>
            <a:off x="7326360" y="2027160"/>
            <a:ext cx="24382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de Gest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52"/>
          <p:cNvSpPr/>
          <p:nvPr/>
        </p:nvSpPr>
        <p:spPr>
          <a:xfrm>
            <a:off x="7631280" y="2406600"/>
            <a:ext cx="19810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dores de gest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53"/>
          <p:cNvSpPr/>
          <p:nvPr/>
        </p:nvSpPr>
        <p:spPr>
          <a:xfrm>
            <a:off x="7631280" y="3017880"/>
            <a:ext cx="19810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dro de mando integ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54"/>
          <p:cNvSpPr/>
          <p:nvPr/>
        </p:nvSpPr>
        <p:spPr>
          <a:xfrm>
            <a:off x="7326360" y="5559480"/>
            <a:ext cx="24382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55"/>
          <p:cNvSpPr/>
          <p:nvPr/>
        </p:nvSpPr>
        <p:spPr>
          <a:xfrm>
            <a:off x="7631280" y="5911920"/>
            <a:ext cx="19810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56"/>
          <p:cNvSpPr/>
          <p:nvPr/>
        </p:nvSpPr>
        <p:spPr>
          <a:xfrm>
            <a:off x="7631280" y="6265800"/>
            <a:ext cx="19810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jo de Ca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57"/>
          <p:cNvSpPr/>
          <p:nvPr/>
        </p:nvSpPr>
        <p:spPr>
          <a:xfrm>
            <a:off x="7631280" y="6597720"/>
            <a:ext cx="19810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s de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58"/>
          <p:cNvSpPr/>
          <p:nvPr/>
        </p:nvSpPr>
        <p:spPr>
          <a:xfrm>
            <a:off x="7326360" y="3780000"/>
            <a:ext cx="24382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59"/>
          <p:cNvSpPr/>
          <p:nvPr/>
        </p:nvSpPr>
        <p:spPr>
          <a:xfrm>
            <a:off x="7631280" y="4159080"/>
            <a:ext cx="205740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ta- particip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60"/>
          <p:cNvSpPr/>
          <p:nvPr/>
        </p:nvSpPr>
        <p:spPr>
          <a:xfrm>
            <a:off x="7631280" y="4541760"/>
            <a:ext cx="205740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veles de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61"/>
          <p:cNvSpPr/>
          <p:nvPr/>
        </p:nvSpPr>
        <p:spPr>
          <a:xfrm>
            <a:off x="7631280" y="4923000"/>
            <a:ext cx="205740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os merc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1:58:19Z</dcterms:created>
  <dc:creator>pamela</dc:creator>
  <dc:description/>
  <dc:language>en-US</dc:language>
  <cp:lastModifiedBy>Hernan Flores</cp:lastModifiedBy>
  <dcterms:modified xsi:type="dcterms:W3CDTF">2009-10-25T13:18:40Z</dcterms:modified>
  <cp:revision>95</cp:revision>
  <dc:subject/>
  <dc:title>Diapositiva 1</dc:title>
</cp:coreProperties>
</file>