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2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2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2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2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2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3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3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3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3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3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3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4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4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4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4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4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4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26716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5970600" cy="47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dt" idx="7"/>
          </p:nvPr>
        </p:nvSpPr>
        <p:spPr>
          <a:xfrm>
            <a:off x="428004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4EBB36-44D0-48A6-86F4-8950436188A3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E61247-820C-48D3-A44D-C12D49C2BE58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6928-7191-451A-A83D-7D848E9F4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08C4-E56D-4344-B289-00656B20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1C51-E531-4352-8C60-820CB3BC3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8563-0731-464B-8FCB-B60932F76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9CAC-9607-4018-A701-6EFD234B1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B889-9823-4C74-8B46-2FA9FF10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AB15-7D32-46CC-844C-30C4D8B0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17B4-3543-429C-A415-CC2C9219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D994-041D-4638-934C-02D6B24F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C233-1ABB-40DC-A551-FC7B0CC3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41B2-0620-43BB-89E3-3AD41498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0514-66ED-4DB2-ABDB-43875FA6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3A08B-A0DE-4878-A3E4-B51FFD49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5599D-3FD0-4E32-B0E6-D351F00A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1796-0D91-4A7D-A2A5-3586A0C5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DF25-CCE5-4B38-B415-993F35AD3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8CD3-B3C4-438B-8DED-DAFAFC9F2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07A5-5E51-4F2D-9AF6-E7A28176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ECFE-78F5-4FEF-96B6-9BC6C83D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E4FF-4C29-466E-8764-8C353A60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6E6F-C7EB-4F5F-B97D-D3B844C7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A5EA-AB38-4FB7-BA6E-7EF7F5B7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1342-52D9-43EA-97D8-DFC9F9F3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8963-956B-4D5D-9037-1DF9C034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27160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EAB3264-7FBA-4C36-A84B-E7A0FC7D48BC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9720360" y="181080"/>
            <a:ext cx="1440" cy="7378560"/>
          </a:xfrm>
          <a:prstGeom prst="line">
            <a:avLst/>
          </a:prstGeom>
          <a:ln w="720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181440" y="177840"/>
            <a:ext cx="899316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6053040" y="708120"/>
            <a:ext cx="2766960" cy="7318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8999640" y="181080"/>
            <a:ext cx="900000" cy="7378560"/>
          </a:xfrm>
          <a:prstGeom prst="rect">
            <a:avLst/>
          </a:prstGeom>
          <a:solidFill>
            <a:srgbClr val="b3b3b3">
              <a:alpha val="50000"/>
            </a:srgbClr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640360" y="8098920"/>
            <a:ext cx="2622600" cy="10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94840" indent="-294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22C5229-79FD-4C2D-9CF1-A366179BCE47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8"/>
          <p:cNvSpPr/>
          <p:nvPr/>
        </p:nvSpPr>
        <p:spPr>
          <a:xfrm>
            <a:off x="0" y="108000"/>
            <a:ext cx="10080720" cy="1440"/>
          </a:xfrm>
          <a:prstGeom prst="line">
            <a:avLst/>
          </a:prstGeom>
          <a:ln w="21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3"/>
          <a:stretch/>
        </p:blipFill>
        <p:spPr>
          <a:xfrm>
            <a:off x="360360" y="1465200"/>
            <a:ext cx="5878440" cy="3575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3959280" y="3060720"/>
            <a:ext cx="5940360" cy="1979640"/>
          </a:xfrm>
          <a:prstGeom prst="rect">
            <a:avLst/>
          </a:prstGeom>
          <a:solidFill>
            <a:srgbClr val="e6e6ff">
              <a:alpha val="20000"/>
            </a:srgbClr>
          </a:solidFill>
          <a:ln w="9360">
            <a:solidFill>
              <a:srgbClr val="cc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6300720" y="5221440"/>
            <a:ext cx="3238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2400" spc="-1" strike="noStrike">
                <a:solidFill>
                  <a:srgbClr val="4c4c4c"/>
                </a:solidFill>
                <a:latin typeface="Times New Roman"/>
              </a:rPr>
              <a:t>IN3001-Otoño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3 Marcador de número de diapositiva"/>
          <p:cNvSpPr/>
          <p:nvPr/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D0EB0-5F2E-4612-8DB2-758E8624443B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3611520" y="3024360"/>
            <a:ext cx="618192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512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Clase Nº4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Liderazgo.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10 Rectángulo"/>
          <p:cNvSpPr/>
          <p:nvPr/>
        </p:nvSpPr>
        <p:spPr>
          <a:xfrm>
            <a:off x="6254640" y="5351400"/>
            <a:ext cx="2643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3001 Primavera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El liderazgo, así como la innovación, es un juicio…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2" name="3 CuadroTexto"/>
          <p:cNvSpPr/>
          <p:nvPr/>
        </p:nvSpPr>
        <p:spPr>
          <a:xfrm>
            <a:off x="611280" y="1279440"/>
            <a:ext cx="792936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ecuerdo de los elementos constitutivos de un  juicio…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5 CuadroTexto"/>
          <p:cNvSpPr/>
          <p:nvPr/>
        </p:nvSpPr>
        <p:spPr>
          <a:xfrm>
            <a:off x="396720" y="1994040"/>
            <a:ext cx="6929640" cy="40604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ementos constitutivos de un juici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rador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 compromiso es de proveer fundamen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yente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 compromiso es de aceptar fundamen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fectan el espacio de las posibili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ependen del observad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ueden ser fundados o infund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e restringen a determinados ámbitos de ac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Qué es liderazgo?…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5" name="3 CuadroTexto"/>
          <p:cNvSpPr/>
          <p:nvPr/>
        </p:nvSpPr>
        <p:spPr>
          <a:xfrm>
            <a:off x="754200" y="1494000"/>
            <a:ext cx="792936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trabajo del líder consiste en llevar a la gente del lugar en el que esté, al que nunca han ido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H. Kissinge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4 CuadroTexto"/>
          <p:cNvSpPr/>
          <p:nvPr/>
        </p:nvSpPr>
        <p:spPr>
          <a:xfrm>
            <a:off x="396720" y="2922480"/>
            <a:ext cx="5929560" cy="16509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iderazgo se puede entender como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la influencia interpersonal,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jercida en una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situación específica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, mediante el proceso de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comunicación humana,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on el fin de obtener un cierto objetiv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6897600" y="3422520"/>
            <a:ext cx="200340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Algunas de las cualidades de un líder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9" name="6 CuadroTexto"/>
          <p:cNvSpPr/>
          <p:nvPr/>
        </p:nvSpPr>
        <p:spPr>
          <a:xfrm>
            <a:off x="3325680" y="1279440"/>
            <a:ext cx="2286000" cy="1113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sa sus habilidades para dirigir y no su autoridad  para manda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7 CuadroTexto"/>
          <p:cNvSpPr/>
          <p:nvPr/>
        </p:nvSpPr>
        <p:spPr>
          <a:xfrm>
            <a:off x="5826240" y="1922400"/>
            <a:ext cx="2286000" cy="1368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oce las actividades y el rendimiento de cada miembro de su equip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8 CuadroTexto"/>
          <p:cNvSpPr/>
          <p:nvPr/>
        </p:nvSpPr>
        <p:spPr>
          <a:xfrm>
            <a:off x="6469200" y="3398760"/>
            <a:ext cx="2286000" cy="1368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grita, no culpa a otros, no engaña, no tiene juicios que cierran oportunidad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9 CuadroTexto"/>
          <p:cNvSpPr/>
          <p:nvPr/>
        </p:nvSpPr>
        <p:spPr>
          <a:xfrm>
            <a:off x="5826240" y="4898880"/>
            <a:ext cx="2286000" cy="1113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muestra un interés personal por cada miembro del equip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10 CuadroTexto"/>
          <p:cNvSpPr/>
          <p:nvPr/>
        </p:nvSpPr>
        <p:spPr>
          <a:xfrm>
            <a:off x="3468600" y="5708520"/>
            <a:ext cx="2286000" cy="1113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precia y reconoce el esfuerzo…celebra cuando hay que celebra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11 CuadroTexto"/>
          <p:cNvSpPr/>
          <p:nvPr/>
        </p:nvSpPr>
        <p:spPr>
          <a:xfrm>
            <a:off x="968400" y="2065320"/>
            <a:ext cx="2286000" cy="603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nsible y empátic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12 CuadroTexto"/>
          <p:cNvSpPr/>
          <p:nvPr/>
        </p:nvSpPr>
        <p:spPr>
          <a:xfrm>
            <a:off x="254160" y="3228840"/>
            <a:ext cx="2286000" cy="1113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éxito es gracias a mi equipo, los fracasos son culpa mía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13 Flecha curvada hacia la izquierda"/>
          <p:cNvSpPr/>
          <p:nvPr/>
        </p:nvSpPr>
        <p:spPr>
          <a:xfrm>
            <a:off x="4611600" y="2851200"/>
            <a:ext cx="857160" cy="2214360"/>
          </a:xfrm>
          <a:custGeom>
            <a:avLst/>
            <a:gdLst>
              <a:gd name="textAreaLeft" fmla="*/ 114840 w 857160"/>
              <a:gd name="textAreaRight" fmla="*/ 742320 w 857160"/>
              <a:gd name="textAreaTop" fmla="*/ 473040 h 2214360"/>
              <a:gd name="textAreaBottom" fmla="*/ 1634040 h 221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32" stAng="-5400000" swAng="5400000"/>
                <a:lnTo>
                  <a:pt x="21600" y="11323"/>
                </a:lnTo>
                <a:arcTo wR="21600" hR="9232" stAng="0" swAng="3531817"/>
                <a:lnTo>
                  <a:pt x="5400" y="21307"/>
                </a:lnTo>
                <a:lnTo>
                  <a:pt x="0" y="19510"/>
                </a:lnTo>
                <a:lnTo>
                  <a:pt x="5400" y="17126"/>
                </a:lnTo>
                <a:lnTo>
                  <a:pt x="5400" y="18171"/>
                </a:lnTo>
                <a:arcTo wR="21600" hR="9232" stAng="3531817" swAng="-3364476"/>
                <a:lnTo>
                  <a:pt x="21461" y="10278"/>
                </a:lnTo>
                <a:arcTo wR="21600" hR="9232" stAng="-167342" swAng="-5232658"/>
                <a:close/>
              </a:path>
              <a:path fill="darkenLess" w="21600" h="21600">
                <a:moveTo>
                  <a:pt x="0" y="0"/>
                </a:moveTo>
                <a:arcTo wR="21600" hR="9232" stAng="-5400000" swAng="5400000"/>
                <a:lnTo>
                  <a:pt x="21600" y="11323"/>
                </a:lnTo>
                <a:arcTo wR="21600" hR="9232" stAng="0" swAng="-167342"/>
                <a:lnTo>
                  <a:pt x="21461" y="10278"/>
                </a:lnTo>
                <a:arcTo wR="21600" hR="9232" stAng="-167342" swAng="-5232658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14 Flecha curvada hacia la izquierda"/>
          <p:cNvSpPr/>
          <p:nvPr/>
        </p:nvSpPr>
        <p:spPr>
          <a:xfrm flipH="1" flipV="1">
            <a:off x="3539520" y="2779560"/>
            <a:ext cx="866520" cy="2143440"/>
          </a:xfrm>
          <a:custGeom>
            <a:avLst/>
            <a:gdLst>
              <a:gd name="textAreaLeft" fmla="*/ 115920 w 866520"/>
              <a:gd name="textAreaRight" fmla="*/ 750600 w 866520"/>
              <a:gd name="textAreaTop" fmla="*/ 454320 h 2143440"/>
              <a:gd name="textAreaBottom" fmla="*/ 1580400 h 214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162" stAng="-5400000" swAng="5400000"/>
                <a:lnTo>
                  <a:pt x="21600" y="11346"/>
                </a:lnTo>
                <a:arcTo wR="21600" hR="9162" stAng="0" swAng="3520216"/>
                <a:lnTo>
                  <a:pt x="5400" y="21309"/>
                </a:lnTo>
                <a:lnTo>
                  <a:pt x="0" y="19416"/>
                </a:lnTo>
                <a:lnTo>
                  <a:pt x="5400" y="16941"/>
                </a:lnTo>
                <a:lnTo>
                  <a:pt x="5400" y="18033"/>
                </a:lnTo>
                <a:arcTo wR="21600" hR="9162" stAng="3520216" swAng="-3345323"/>
                <a:lnTo>
                  <a:pt x="21446" y="10254"/>
                </a:lnTo>
                <a:arcTo wR="21600" hR="9162" stAng="-174894" swAng="-5225106"/>
                <a:close/>
              </a:path>
              <a:path fill="darkenLess" w="21600" h="21600">
                <a:moveTo>
                  <a:pt x="0" y="0"/>
                </a:moveTo>
                <a:arcTo wR="21600" hR="9162" stAng="-5400000" swAng="5400000"/>
                <a:lnTo>
                  <a:pt x="21600" y="11346"/>
                </a:lnTo>
                <a:arcTo wR="21600" hR="9162" stAng="0" swAng="-174894"/>
                <a:lnTo>
                  <a:pt x="21446" y="10254"/>
                </a:lnTo>
                <a:arcTo wR="21600" hR="9162" stAng="-174894" swAng="-5225106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15 CuadroTexto"/>
          <p:cNvSpPr/>
          <p:nvPr/>
        </p:nvSpPr>
        <p:spPr>
          <a:xfrm>
            <a:off x="825480" y="4708440"/>
            <a:ext cx="2286000" cy="1113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fía en lo miembros de su equipo y delega en ell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99316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El liderazgo en cinco niveles, según Jim Collins.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70" name="2 Diagrama" descr=""/>
          <p:cNvPicPr/>
          <p:nvPr/>
        </p:nvPicPr>
        <p:blipFill>
          <a:blip r:embed="rId1"/>
          <a:stretch/>
        </p:blipFill>
        <p:spPr>
          <a:xfrm>
            <a:off x="237960" y="1122480"/>
            <a:ext cx="9491760" cy="60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Líder vs. Jefe.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68400" y="1065240"/>
          <a:ext cx="8572320" cy="5951520"/>
        </p:xfrm>
        <a:graphic>
          <a:graphicData uri="http://schemas.openxmlformats.org/drawingml/2006/table">
            <a:tbl>
              <a:tblPr/>
              <a:tblGrid>
                <a:gridCol w="4286160"/>
                <a:gridCol w="428616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íder  (Visió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e (Autoridad)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ía  a sus hombr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“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rea” a sus hombre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tiene “obediencia” apelando al sentido de los miembros del equip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tiene obediencia imponiendo su autoridad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pira confianza y despierta entusiasm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pira temor o inquietud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ce “nosotros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ce “Yo”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lega antes de la hora señala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ce: “preséntese a tiempo”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ñala la infracció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ñala la pena a la infracció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seña y muestra como se hace el trabaj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be” como se hac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ce “vamos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ce “vaya usted”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be que el crecimiento de su equipo es parte de los objetivo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 preocupa sólo por el objetiv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Dinámica de discusión en equipos de trabajo (I)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4" name="2 CuadroTexto"/>
          <p:cNvSpPr/>
          <p:nvPr/>
        </p:nvSpPr>
        <p:spPr>
          <a:xfrm>
            <a:off x="539640" y="1065240"/>
            <a:ext cx="828684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leccione a un líder reconocido  por la cultura naciona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. Comente su estilo de liderazgo, enfatizando en los siguientes aspect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82560" y="1994040"/>
          <a:ext cx="8643960" cy="5216400"/>
        </p:xfrm>
        <a:graphic>
          <a:graphicData uri="http://schemas.openxmlformats.org/drawingml/2006/table">
            <a:tbl>
              <a:tblPr/>
              <a:tblGrid>
                <a:gridCol w="3783240"/>
                <a:gridCol w="48607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entario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unidad que lo valora como líde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pacio de posibilidades que ha generado su liderazg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os que han fundamentado el juicio de liderazgo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Ámbitos o contexto en los cuales ejerce liderazgo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cipales características de su liderazg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Dinámica de discusión en equipos de trabajo (II)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7" name="2 CuadroTexto"/>
          <p:cNvSpPr/>
          <p:nvPr/>
        </p:nvSpPr>
        <p:spPr>
          <a:xfrm>
            <a:off x="539640" y="1065240"/>
            <a:ext cx="8286840" cy="43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criba un breve ensayo, con la siguiente temátic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importancia del liderazgo para los ingenieros civiles industriale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ormato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dividua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áximo 1 pla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etra Tamaño 12 e interlineado simple (1,0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be ser entregado el miércoles 23 de septiembr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4 CuadroTexto"/>
          <p:cNvSpPr/>
          <p:nvPr/>
        </p:nvSpPr>
        <p:spPr>
          <a:xfrm>
            <a:off x="682560" y="5065560"/>
            <a:ext cx="82868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t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 ensayo es un breve documento en el cual el autor entrega sus juicios frente a un tema en particular, es muy importante que los juicios ahí expuestos sean justificad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mela</dc:creator>
  <dc:description/>
  <dc:language>en-US</dc:language>
  <cp:lastModifiedBy>WinuE</cp:lastModifiedBy>
  <dcterms:modified xsi:type="dcterms:W3CDTF">2009-09-20T15:53:55Z</dcterms:modified>
  <cp:revision>41</cp:revision>
  <dc:subject/>
  <dc:title>Diapositiva 1</dc:title>
</cp:coreProperties>
</file>