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1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1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1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1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1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1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1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1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1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1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2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2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2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2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2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2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2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2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3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3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3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3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3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3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3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3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3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3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4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4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4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4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4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4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4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4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4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26716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5970600" cy="47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dt" idx="7"/>
          </p:nvPr>
        </p:nvSpPr>
        <p:spPr>
          <a:xfrm>
            <a:off x="4280040" y="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F7F69A-7C7C-48FF-8FAD-5551B07C173D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54"/>
          <p:cNvSpPr/>
          <p:nvPr/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BB63AF-CE57-4DC0-9E52-0FDCD94786A0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597204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5B61-4DC7-431F-8A82-D644F3A46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2171-D220-4CC5-9974-6B0345C69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D870-4AB7-496D-95F2-645F4B2CF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4492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8548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36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4492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8548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6227-5EE3-4EC8-B360-D6529A22B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F359A-D65F-4EC0-BE52-8A624A621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5951F-0CD3-4DBA-858C-4D52EC29B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A1439-4E75-44C1-9200-A0013183C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E214E-0262-48AB-AE5B-FF14B1E54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8C6E6-735D-4F18-BB33-E7A5EAE2D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04360" y="48960"/>
            <a:ext cx="8993160" cy="54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2F6E6-2599-423D-BA56-99F5EB4CA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34365-0A4B-461D-8AB0-254B96D6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DCB1-996E-4DAF-8282-64ACABF20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49F58-0467-449B-B15D-226BF5C6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6DAE1-F72B-4EF3-86C5-163695F1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A9126-45EE-4D8B-8EF4-A0B09DFBE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C3A7B-D2A4-4204-B3AC-41F62A69F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4492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8548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0436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4492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8548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CABCC-C1AD-49FC-99C8-EAE4973E2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B10E-1CAE-4CCB-BCF9-FA24921A9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F94D-1F86-4635-9929-AA467445D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39F6-8496-484D-A126-D3A36CDBB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04360" y="48960"/>
            <a:ext cx="8993160" cy="54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9C4C-E591-46E8-9D2F-67507E1D2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3D82-72CF-4CFE-9FE4-F583995A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F588-CE8D-4683-A21C-900A308D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29B6-641E-4918-8930-E408243B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720" y="6886080"/>
            <a:ext cx="226872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1796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27160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CL" sz="14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DC3A4DD-BF0F-4682-8367-51E0E94BCBB9}" type="slidenum">
              <a:rPr b="0" lang="es-CL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0" y="737856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Line 8"/>
          <p:cNvSpPr/>
          <p:nvPr/>
        </p:nvSpPr>
        <p:spPr>
          <a:xfrm>
            <a:off x="9720360" y="181080"/>
            <a:ext cx="1440" cy="7378560"/>
          </a:xfrm>
          <a:prstGeom prst="line">
            <a:avLst/>
          </a:prstGeom>
          <a:ln w="720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181440" y="177840"/>
            <a:ext cx="8993160" cy="11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6053040" y="708120"/>
            <a:ext cx="2766960" cy="7318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8999640" y="181080"/>
            <a:ext cx="900000" cy="7378560"/>
          </a:xfrm>
          <a:prstGeom prst="rect">
            <a:avLst/>
          </a:prstGeom>
          <a:solidFill>
            <a:srgbClr val="b3b3b3">
              <a:alpha val="50000"/>
            </a:srgbClr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8640360" y="8098920"/>
            <a:ext cx="2622600" cy="100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marL="294840" indent="-29484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504720" y="6886080"/>
            <a:ext cx="226872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47720" y="6886080"/>
            <a:ext cx="311796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651720" y="6840360"/>
            <a:ext cx="227016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911B445-12DB-4D0E-9AEB-85F7A49723D0}" type="slidenum">
              <a:rPr b="0" lang="es-CL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8"/>
          <p:cNvSpPr/>
          <p:nvPr/>
        </p:nvSpPr>
        <p:spPr>
          <a:xfrm>
            <a:off x="0" y="108000"/>
            <a:ext cx="10080720" cy="1440"/>
          </a:xfrm>
          <a:prstGeom prst="line">
            <a:avLst/>
          </a:prstGeom>
          <a:ln w="216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0" y="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0" y="737856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11" descr=""/>
          <p:cNvPicPr/>
          <p:nvPr/>
        </p:nvPicPr>
        <p:blipFill>
          <a:blip r:embed="rId3"/>
          <a:stretch/>
        </p:blipFill>
        <p:spPr>
          <a:xfrm>
            <a:off x="360360" y="1465200"/>
            <a:ext cx="5878440" cy="35751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2"/>
          <p:cNvSpPr/>
          <p:nvPr/>
        </p:nvSpPr>
        <p:spPr>
          <a:xfrm>
            <a:off x="3959280" y="3060720"/>
            <a:ext cx="5940360" cy="1979640"/>
          </a:xfrm>
          <a:prstGeom prst="rect">
            <a:avLst/>
          </a:prstGeom>
          <a:solidFill>
            <a:srgbClr val="e6e6ff">
              <a:alpha val="20000"/>
            </a:srgbClr>
          </a:solidFill>
          <a:ln w="9360">
            <a:solidFill>
              <a:srgbClr val="cc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6300720" y="5221440"/>
            <a:ext cx="3238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7480" bIns="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CL" sz="2400" spc="-1" strike="noStrike">
                <a:solidFill>
                  <a:srgbClr val="4c4c4c"/>
                </a:solidFill>
                <a:latin typeface="Times New Roman"/>
              </a:rPr>
              <a:t>IN3001-Otoño 200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3 Marcador de número de diapositiva"/>
          <p:cNvSpPr/>
          <p:nvPr/>
        </p:nvSpPr>
        <p:spPr>
          <a:xfrm>
            <a:off x="6651720" y="6840360"/>
            <a:ext cx="22701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3919F9-2D8C-4F24-8DF7-E7942E90C226}" type="slidenum">
              <a:rPr b="0" lang="es-CL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"/>
          <p:cNvSpPr/>
          <p:nvPr/>
        </p:nvSpPr>
        <p:spPr>
          <a:xfrm>
            <a:off x="3611520" y="3024360"/>
            <a:ext cx="618192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5120" bIns="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Clase Nº4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6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Liderazgo.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10 Rectángulo"/>
          <p:cNvSpPr/>
          <p:nvPr/>
        </p:nvSpPr>
        <p:spPr>
          <a:xfrm>
            <a:off x="6254640" y="5351400"/>
            <a:ext cx="2643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3001 Primavera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El liderazgo, así como la innovación, es un juicio…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2" name="3 CuadroTexto"/>
          <p:cNvSpPr/>
          <p:nvPr/>
        </p:nvSpPr>
        <p:spPr>
          <a:xfrm>
            <a:off x="611280" y="1279440"/>
            <a:ext cx="7929360" cy="4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Recuerdo de los elementos constitutivos de un  juicio…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5 CuadroTexto"/>
          <p:cNvSpPr/>
          <p:nvPr/>
        </p:nvSpPr>
        <p:spPr>
          <a:xfrm>
            <a:off x="396720" y="1994040"/>
            <a:ext cx="6929640" cy="40604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lementos constitutivos de un juici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Orador: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u compromiso es de proveer fundamen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Oyente: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u compromiso es de aceptar fundamen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fectan el espacio de las posibilida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Dependen del observad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ueden ser fundados o infund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Se restringen a determinados ámbitos de ac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Qué es liderazgo?…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5" name="3 CuadroTexto"/>
          <p:cNvSpPr/>
          <p:nvPr/>
        </p:nvSpPr>
        <p:spPr>
          <a:xfrm>
            <a:off x="754200" y="1494000"/>
            <a:ext cx="792936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l trabajo del líder consiste en llevar a la gente del lugar en el que esté, al que nunca han ido”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H. Kissinger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4 CuadroTexto"/>
          <p:cNvSpPr/>
          <p:nvPr/>
        </p:nvSpPr>
        <p:spPr>
          <a:xfrm>
            <a:off x="396720" y="2922480"/>
            <a:ext cx="5929560" cy="16509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iderazgo se puede entender como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la influencia interpersonal,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jercida en una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situación específica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, mediante el proceso de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comunicación humana,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on el fin de obtener un cierto objetivo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6897600" y="3422520"/>
            <a:ext cx="200340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Algunas de las cualidades de un líder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9" name="6 CuadroTexto"/>
          <p:cNvSpPr/>
          <p:nvPr/>
        </p:nvSpPr>
        <p:spPr>
          <a:xfrm>
            <a:off x="3325680" y="1279440"/>
            <a:ext cx="2286000" cy="1113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sa sus habilidades para dirigir y no su autoridad  para manda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7 CuadroTexto"/>
          <p:cNvSpPr/>
          <p:nvPr/>
        </p:nvSpPr>
        <p:spPr>
          <a:xfrm>
            <a:off x="5826240" y="1922400"/>
            <a:ext cx="2286000" cy="1368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oce las actividades y el rendimiento de cada miembro de su equip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8 CuadroTexto"/>
          <p:cNvSpPr/>
          <p:nvPr/>
        </p:nvSpPr>
        <p:spPr>
          <a:xfrm>
            <a:off x="6469200" y="3398760"/>
            <a:ext cx="2286000" cy="1368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 grita, no culpa a otros, no engaña, no tiene juicios que cierran oportunidad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9 CuadroTexto"/>
          <p:cNvSpPr/>
          <p:nvPr/>
        </p:nvSpPr>
        <p:spPr>
          <a:xfrm>
            <a:off x="5826240" y="4898880"/>
            <a:ext cx="2286000" cy="1113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muestra un interés personal por cada miembro del equip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10 CuadroTexto"/>
          <p:cNvSpPr/>
          <p:nvPr/>
        </p:nvSpPr>
        <p:spPr>
          <a:xfrm>
            <a:off x="3468600" y="5708520"/>
            <a:ext cx="2286000" cy="1113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precia y reconoce el esfuerzo…celebra cuando hay que celebra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11 CuadroTexto"/>
          <p:cNvSpPr/>
          <p:nvPr/>
        </p:nvSpPr>
        <p:spPr>
          <a:xfrm>
            <a:off x="968400" y="2065320"/>
            <a:ext cx="2286000" cy="603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nsible y empátic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12 CuadroTexto"/>
          <p:cNvSpPr/>
          <p:nvPr/>
        </p:nvSpPr>
        <p:spPr>
          <a:xfrm>
            <a:off x="254160" y="3228840"/>
            <a:ext cx="2286000" cy="1113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éxito es gracias a mi equipo, los fracasos son culpa mía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13 Flecha curvada hacia la izquierda"/>
          <p:cNvSpPr/>
          <p:nvPr/>
        </p:nvSpPr>
        <p:spPr>
          <a:xfrm>
            <a:off x="4611600" y="2851200"/>
            <a:ext cx="857160" cy="2214360"/>
          </a:xfrm>
          <a:custGeom>
            <a:avLst/>
            <a:gdLst>
              <a:gd name="textAreaLeft" fmla="*/ 114840 w 857160"/>
              <a:gd name="textAreaRight" fmla="*/ 742320 w 857160"/>
              <a:gd name="textAreaTop" fmla="*/ 473040 h 2214360"/>
              <a:gd name="textAreaBottom" fmla="*/ 1634040 h 221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232" stAng="-5400000" swAng="5400000"/>
                <a:lnTo>
                  <a:pt x="21600" y="11323"/>
                </a:lnTo>
                <a:arcTo wR="21600" hR="9232" stAng="0" swAng="3531817"/>
                <a:lnTo>
                  <a:pt x="5400" y="21307"/>
                </a:lnTo>
                <a:lnTo>
                  <a:pt x="0" y="19510"/>
                </a:lnTo>
                <a:lnTo>
                  <a:pt x="5400" y="17126"/>
                </a:lnTo>
                <a:lnTo>
                  <a:pt x="5400" y="18171"/>
                </a:lnTo>
                <a:arcTo wR="21600" hR="9232" stAng="3531817" swAng="-3364476"/>
                <a:lnTo>
                  <a:pt x="21461" y="10278"/>
                </a:lnTo>
                <a:arcTo wR="21600" hR="9232" stAng="-167342" swAng="-5232658"/>
                <a:close/>
              </a:path>
              <a:path fill="darkenLess" w="21600" h="21600">
                <a:moveTo>
                  <a:pt x="0" y="0"/>
                </a:moveTo>
                <a:arcTo wR="21600" hR="9232" stAng="-5400000" swAng="5400000"/>
                <a:lnTo>
                  <a:pt x="21600" y="11323"/>
                </a:lnTo>
                <a:arcTo wR="21600" hR="9232" stAng="0" swAng="-167342"/>
                <a:lnTo>
                  <a:pt x="21461" y="10278"/>
                </a:lnTo>
                <a:arcTo wR="21600" hR="9232" stAng="-167342" swAng="-5232658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14 Flecha curvada hacia la izquierda"/>
          <p:cNvSpPr/>
          <p:nvPr/>
        </p:nvSpPr>
        <p:spPr>
          <a:xfrm flipH="1" flipV="1">
            <a:off x="3539520" y="2779560"/>
            <a:ext cx="866520" cy="2143440"/>
          </a:xfrm>
          <a:custGeom>
            <a:avLst/>
            <a:gdLst>
              <a:gd name="textAreaLeft" fmla="*/ 115920 w 866520"/>
              <a:gd name="textAreaRight" fmla="*/ 750600 w 866520"/>
              <a:gd name="textAreaTop" fmla="*/ 454320 h 2143440"/>
              <a:gd name="textAreaBottom" fmla="*/ 1580400 h 214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162" stAng="-5400000" swAng="5400000"/>
                <a:lnTo>
                  <a:pt x="21600" y="11346"/>
                </a:lnTo>
                <a:arcTo wR="21600" hR="9162" stAng="0" swAng="3520216"/>
                <a:lnTo>
                  <a:pt x="5400" y="21309"/>
                </a:lnTo>
                <a:lnTo>
                  <a:pt x="0" y="19416"/>
                </a:lnTo>
                <a:lnTo>
                  <a:pt x="5400" y="16941"/>
                </a:lnTo>
                <a:lnTo>
                  <a:pt x="5400" y="18033"/>
                </a:lnTo>
                <a:arcTo wR="21600" hR="9162" stAng="3520216" swAng="-3345323"/>
                <a:lnTo>
                  <a:pt x="21446" y="10254"/>
                </a:lnTo>
                <a:arcTo wR="21600" hR="9162" stAng="-174894" swAng="-5225106"/>
                <a:close/>
              </a:path>
              <a:path fill="darkenLess" w="21600" h="21600">
                <a:moveTo>
                  <a:pt x="0" y="0"/>
                </a:moveTo>
                <a:arcTo wR="21600" hR="9162" stAng="-5400000" swAng="5400000"/>
                <a:lnTo>
                  <a:pt x="21600" y="11346"/>
                </a:lnTo>
                <a:arcTo wR="21600" hR="9162" stAng="0" swAng="-174894"/>
                <a:lnTo>
                  <a:pt x="21446" y="10254"/>
                </a:lnTo>
                <a:arcTo wR="21600" hR="9162" stAng="-174894" swAng="-5225106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15 CuadroTexto"/>
          <p:cNvSpPr/>
          <p:nvPr/>
        </p:nvSpPr>
        <p:spPr>
          <a:xfrm>
            <a:off x="825480" y="4708440"/>
            <a:ext cx="2286000" cy="1113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fía en lo miembros de su equipo y delega en ell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993160" cy="11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El liderazgo en cinco niveles, según Jim Collins. 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70" name="2 Diagrama" descr=""/>
          <p:cNvPicPr/>
          <p:nvPr/>
        </p:nvPicPr>
        <p:blipFill>
          <a:blip r:embed="rId1"/>
          <a:stretch/>
        </p:blipFill>
        <p:spPr>
          <a:xfrm>
            <a:off x="237960" y="1122480"/>
            <a:ext cx="9491760" cy="60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Líder vs. Jefe. 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968400" y="1065240"/>
          <a:ext cx="8572320" cy="5951520"/>
        </p:xfrm>
        <a:graphic>
          <a:graphicData uri="http://schemas.openxmlformats.org/drawingml/2006/table">
            <a:tbl>
              <a:tblPr/>
              <a:tblGrid>
                <a:gridCol w="4286160"/>
                <a:gridCol w="4286160"/>
              </a:tblGrid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íder  (Visión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e (Autoridad)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uía  a sus hombre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“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rea” a sus hombre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tiene “obediencia” apelando al sentido de los miembros del equip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tiene obediencia imponiendo su autoridad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pira confianza y despierta entusiasm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pira temor o inquietud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ce “nosotros”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ce “Yo”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lega antes de la hora señalad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ce: “preséntese a tiempo”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ñala la infracción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ñala la pena a la infracció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seña y muestra como se hace el trabaj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be” como se hace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ce “vamos”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ce “vaya usted”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be que el crecimiento de su equipo es parte de los objetivo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 preocupa sólo por el objetivo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Dinámica de discusión en equipos de trabajo (I) 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4" name="2 CuadroTexto"/>
          <p:cNvSpPr/>
          <p:nvPr/>
        </p:nvSpPr>
        <p:spPr>
          <a:xfrm>
            <a:off x="539640" y="1065240"/>
            <a:ext cx="828684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leccione a un líder reconocido  por la cultura nacional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. Comente su estilo de liderazgo, enfatizando en los siguientes aspecto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682560" y="1994040"/>
          <a:ext cx="8643960" cy="5216400"/>
        </p:xfrm>
        <a:graphic>
          <a:graphicData uri="http://schemas.openxmlformats.org/drawingml/2006/table">
            <a:tbl>
              <a:tblPr/>
              <a:tblGrid>
                <a:gridCol w="3783240"/>
                <a:gridCol w="48607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mentario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unidad que lo valora como líder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pacio de posibilidades que ha generado su liderazgo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os que han fundamentado el juicio de liderazgo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Ámbitos o contexto en los cuales ejerce liderazgo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cipales características de su liderazgo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Dinámica de discusión en equipos de trabajo (II) 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7" name="2 CuadroTexto"/>
          <p:cNvSpPr/>
          <p:nvPr/>
        </p:nvSpPr>
        <p:spPr>
          <a:xfrm>
            <a:off x="539640" y="1065240"/>
            <a:ext cx="8286840" cy="43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criba un breve ensayo, con la siguiente temática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 importancia del liderazgo para los ingenieros civiles industriale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ormato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dividual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áximo 1 plan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etra Tamaño 12 e interlineado simple (1,0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be ser entregado el miércoles 23 de septiembr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4 CuadroTexto"/>
          <p:cNvSpPr/>
          <p:nvPr/>
        </p:nvSpPr>
        <p:spPr>
          <a:xfrm>
            <a:off x="682560" y="5065560"/>
            <a:ext cx="82868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ta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n ensayo es un breve documento en el cual el autor entrega sus juicios frente a un tema en particular, es muy importante que los juicios ahí expuestos sean justificado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mela</dc:creator>
  <dc:description/>
  <dc:language>en-US</dc:language>
  <cp:lastModifiedBy>WinuE</cp:lastModifiedBy>
  <dcterms:modified xsi:type="dcterms:W3CDTF">2009-09-20T15:53:55Z</dcterms:modified>
  <cp:revision>41</cp:revision>
  <dc:subject/>
  <dc:title>Diapositiva 1</dc:title>
</cp:coreProperties>
</file>