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6BF44-4B54-46B7-B099-7708FF7627C1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D0B39-E38B-419F-A968-29D41A39F84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4A2-39FC-4A75-BB3D-C0AE75D5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F27-C030-46EF-9311-16695DD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2C7-0192-46C2-9F14-BCC096F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D07-0274-4097-8B42-EE8CF9DA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95E0-2D69-4B24-B14F-31BE5168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276-0FE8-4044-BA56-2124901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2A03-3691-4A46-896C-F6A7BF2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A33C-866D-45E5-8595-248B5131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42BC-FB09-432B-90DF-131EDED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1395-00F2-4506-9B58-F684FD2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9EE-EBCA-49ED-95AD-475CB5D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1EC-F1D9-4883-A812-FBB782A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B15A-9659-4474-A822-267CD1A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335-0CA7-44A8-80D8-79D13A6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C790-4DFB-4D6D-B5CE-5E318039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645-ED5E-486F-A668-72DAC657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6F9E-8D10-4BBB-AAB0-7B511DA9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112-6962-432E-B843-5579A219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A24-FCC8-45FA-BF72-687B9A5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3A1-0323-43F0-A4EE-CBBCCAD7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389-1798-4C58-9648-E9002D3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429-C775-4949-88EA-45E2C06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201-4F8F-451D-B0D4-E8FA34E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072-E98D-465A-871A-7AFA7DA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5ACD9A-D2FC-434C-9506-457A5541C182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B53E8E-DC71-4C65-88D7-1EB706C2BCE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1D209-8828-4789-97FB-78DE9D1C3D2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4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Liderazgo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liderazgo, así como la innovación, es un juicio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611280" y="1279440"/>
            <a:ext cx="79293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cuerdo de los elementos constitutivos de un  juicio…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5 CuadroTexto"/>
          <p:cNvSpPr/>
          <p:nvPr/>
        </p:nvSpPr>
        <p:spPr>
          <a:xfrm>
            <a:off x="396720" y="1994040"/>
            <a:ext cx="6929640" cy="4060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mentos constitutivos de un juic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ador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compromiso es de proveer fund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yente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 compromiso es de aceptar fund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fectan el espacio de las posi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penden del observ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ueden ser fundados o infund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restringen a determinados ámbito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Qué es liderazgo?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3 CuadroTexto"/>
          <p:cNvSpPr/>
          <p:nvPr/>
        </p:nvSpPr>
        <p:spPr>
          <a:xfrm>
            <a:off x="754200" y="1494000"/>
            <a:ext cx="7929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trabajo del líder consiste en llevar a la gente del lugar en el que esté, al que nunca han ido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. Kissing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4 CuadroTexto"/>
          <p:cNvSpPr/>
          <p:nvPr/>
        </p:nvSpPr>
        <p:spPr>
          <a:xfrm>
            <a:off x="396720" y="2922480"/>
            <a:ext cx="5929560" cy="1650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derazgo se puede entender como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influencia interpersonal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jercida en un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tuación específic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mediante el proceso d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humana,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 el fin de obtener un cierto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897600" y="3422520"/>
            <a:ext cx="2003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lgunas de las cualidades de un líder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6 CuadroTexto"/>
          <p:cNvSpPr/>
          <p:nvPr/>
        </p:nvSpPr>
        <p:spPr>
          <a:xfrm>
            <a:off x="3325680" y="12794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a sus habilidades para dirigir y no su autoridad  para mand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7 CuadroTexto"/>
          <p:cNvSpPr/>
          <p:nvPr/>
        </p:nvSpPr>
        <p:spPr>
          <a:xfrm>
            <a:off x="5826240" y="1922400"/>
            <a:ext cx="2286000" cy="136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e las actividades y el rendimiento de cada miembro de su equi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8 CuadroTexto"/>
          <p:cNvSpPr/>
          <p:nvPr/>
        </p:nvSpPr>
        <p:spPr>
          <a:xfrm>
            <a:off x="6469200" y="3398760"/>
            <a:ext cx="2286000" cy="136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grita, no culpa a otros, no engaña, no tiene juicios que cierran oportun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9 CuadroTexto"/>
          <p:cNvSpPr/>
          <p:nvPr/>
        </p:nvSpPr>
        <p:spPr>
          <a:xfrm>
            <a:off x="5826240" y="489888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muestra un interés personal por cada miembro del equi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0 CuadroTexto"/>
          <p:cNvSpPr/>
          <p:nvPr/>
        </p:nvSpPr>
        <p:spPr>
          <a:xfrm>
            <a:off x="3468600" y="570852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ecia y reconoce el esfuerzo…celebra cuando hay que celebr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1 CuadroTexto"/>
          <p:cNvSpPr/>
          <p:nvPr/>
        </p:nvSpPr>
        <p:spPr>
          <a:xfrm>
            <a:off x="968400" y="2065320"/>
            <a:ext cx="2286000" cy="603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sible y empát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2 CuadroTexto"/>
          <p:cNvSpPr/>
          <p:nvPr/>
        </p:nvSpPr>
        <p:spPr>
          <a:xfrm>
            <a:off x="254160" y="32288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éxito es gracias a mi equipo, los fracasos son culpa mía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3 Flecha curvada hacia la izquierda"/>
          <p:cNvSpPr/>
          <p:nvPr/>
        </p:nvSpPr>
        <p:spPr>
          <a:xfrm>
            <a:off x="4611600" y="2851200"/>
            <a:ext cx="857160" cy="2214360"/>
          </a:xfrm>
          <a:custGeom>
            <a:avLst/>
            <a:gdLst>
              <a:gd name="textAreaLeft" fmla="*/ 114840 w 857160"/>
              <a:gd name="textAreaRight" fmla="*/ 742320 w 857160"/>
              <a:gd name="textAreaTop" fmla="*/ 473040 h 2214360"/>
              <a:gd name="textAreaBottom" fmla="*/ 1634040 h 22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2" stAng="-5400000" swAng="5400000"/>
                <a:lnTo>
                  <a:pt x="21600" y="11323"/>
                </a:lnTo>
                <a:arcTo wR="21600" hR="9232" stAng="0" swAng="3531817"/>
                <a:lnTo>
                  <a:pt x="5400" y="21307"/>
                </a:lnTo>
                <a:lnTo>
                  <a:pt x="0" y="19510"/>
                </a:lnTo>
                <a:lnTo>
                  <a:pt x="5400" y="17126"/>
                </a:lnTo>
                <a:lnTo>
                  <a:pt x="5400" y="18171"/>
                </a:lnTo>
                <a:arcTo wR="21600" hR="9232" stAng="3531817" swAng="-3364476"/>
                <a:lnTo>
                  <a:pt x="21461" y="10278"/>
                </a:lnTo>
                <a:arcTo wR="21600" hR="9232" stAng="-167342" swAng="-5232658"/>
                <a:close/>
              </a:path>
              <a:path fill="darkenLess" w="21600" h="21600">
                <a:moveTo>
                  <a:pt x="0" y="0"/>
                </a:moveTo>
                <a:arcTo wR="21600" hR="9232" stAng="-5400000" swAng="5400000"/>
                <a:lnTo>
                  <a:pt x="21600" y="11323"/>
                </a:lnTo>
                <a:arcTo wR="21600" hR="9232" stAng="0" swAng="-167342"/>
                <a:lnTo>
                  <a:pt x="21461" y="10278"/>
                </a:lnTo>
                <a:arcTo wR="21600" hR="9232" stAng="-167342" swAng="-523265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4 Flecha curvada hacia la izquierda"/>
          <p:cNvSpPr/>
          <p:nvPr/>
        </p:nvSpPr>
        <p:spPr>
          <a:xfrm flipH="1" flipV="1">
            <a:off x="3539520" y="2779560"/>
            <a:ext cx="866520" cy="2143440"/>
          </a:xfrm>
          <a:custGeom>
            <a:avLst/>
            <a:gdLst>
              <a:gd name="textAreaLeft" fmla="*/ 115920 w 866520"/>
              <a:gd name="textAreaRight" fmla="*/ 750600 w 866520"/>
              <a:gd name="textAreaTop" fmla="*/ 454320 h 2143440"/>
              <a:gd name="textAreaBottom" fmla="*/ 1580400 h 214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2" stAng="-5400000" swAng="5400000"/>
                <a:lnTo>
                  <a:pt x="21600" y="11346"/>
                </a:lnTo>
                <a:arcTo wR="21600" hR="9162" stAng="0" swAng="3520216"/>
                <a:lnTo>
                  <a:pt x="5400" y="21309"/>
                </a:lnTo>
                <a:lnTo>
                  <a:pt x="0" y="19416"/>
                </a:lnTo>
                <a:lnTo>
                  <a:pt x="5400" y="16941"/>
                </a:lnTo>
                <a:lnTo>
                  <a:pt x="5400" y="18033"/>
                </a:lnTo>
                <a:arcTo wR="21600" hR="9162" stAng="3520216" swAng="-3345323"/>
                <a:lnTo>
                  <a:pt x="21446" y="10254"/>
                </a:lnTo>
                <a:arcTo wR="21600" hR="9162" stAng="-174894" swAng="-5225106"/>
                <a:close/>
              </a:path>
              <a:path fill="darkenLess" w="21600" h="21600">
                <a:moveTo>
                  <a:pt x="0" y="0"/>
                </a:moveTo>
                <a:arcTo wR="21600" hR="9162" stAng="-5400000" swAng="5400000"/>
                <a:lnTo>
                  <a:pt x="21600" y="11346"/>
                </a:lnTo>
                <a:arcTo wR="21600" hR="9162" stAng="0" swAng="-174894"/>
                <a:lnTo>
                  <a:pt x="21446" y="10254"/>
                </a:lnTo>
                <a:arcTo wR="21600" hR="9162" stAng="-174894" swAng="-522510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5 CuadroTexto"/>
          <p:cNvSpPr/>
          <p:nvPr/>
        </p:nvSpPr>
        <p:spPr>
          <a:xfrm>
            <a:off x="825480" y="4708440"/>
            <a:ext cx="2286000" cy="111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ía en lo miembros de su equipo y delega en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liderazgo en cinco niveles, según Jim Collins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0" name="2 Diagrama" descr=""/>
          <p:cNvPicPr/>
          <p:nvPr/>
        </p:nvPicPr>
        <p:blipFill>
          <a:blip r:embed="rId1"/>
          <a:stretch/>
        </p:blipFill>
        <p:spPr>
          <a:xfrm>
            <a:off x="237960" y="1122480"/>
            <a:ext cx="949176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íder vs. Jefe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68400" y="1065240"/>
          <a:ext cx="8572320" cy="595152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der  (Visió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e (Autoridad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ía  a sus homb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ea” a sus homb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tiene “obediencia” apelando al sentido de los miembros del equ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tiene obediencia imponiendo su autorida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ira confianza y despierta entusias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pira temor o inquiet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nosotro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Yo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ega antes de la hora señal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: “preséntese a tiempo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ñala la infra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ñala la pena a la infracció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seña y muestra como se hace el trabaj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” como se ha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vamo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e “vaya usted”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 que el crecimiento de su equipo es parte de los objetivo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preocupa sólo por el objetiv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námica de discusión en equipos de trabajo (I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2 CuadroTexto"/>
          <p:cNvSpPr/>
          <p:nvPr/>
        </p:nvSpPr>
        <p:spPr>
          <a:xfrm>
            <a:off x="539640" y="1065240"/>
            <a:ext cx="82868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eccione a un líder reconocido  por la cultur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Comente su estilo de liderazgo, enfatizando en los siguientes aspect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2560" y="1994040"/>
          <a:ext cx="8643960" cy="5216400"/>
        </p:xfrm>
        <a:graphic>
          <a:graphicData uri="http://schemas.openxmlformats.org/drawingml/2006/table">
            <a:tbl>
              <a:tblPr/>
              <a:tblGrid>
                <a:gridCol w="3783240"/>
                <a:gridCol w="4860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entari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dad que lo valora como líd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posibilidades que ha generado su liderazg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s que han fundamentado el juicio de liderazg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mbitos o contexto en los cuales ejerce liderazg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cipales características de su liderazg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námica de discusión en equipos de trabajo (II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2 CuadroTexto"/>
          <p:cNvSpPr/>
          <p:nvPr/>
        </p:nvSpPr>
        <p:spPr>
          <a:xfrm>
            <a:off x="539640" y="1065240"/>
            <a:ext cx="828684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riba un breve ensayo, con la siguiente temátic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importancia del liderazgo para los ingenieros civiles industrial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ma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áximo 1 pl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tra Tamaño 12 e interlineado simple (1,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be ser entregado el miércoles 23 de septiemb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4 CuadroTexto"/>
          <p:cNvSpPr/>
          <p:nvPr/>
        </p:nvSpPr>
        <p:spPr>
          <a:xfrm>
            <a:off x="682560" y="5065560"/>
            <a:ext cx="8286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ensayo es un breve documento en el cual el autor entrega sus juicios frente a un tema en particular, es muy importante que los juicios ahí expuestos sean justific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9-20T15:53:55Z</dcterms:modified>
  <cp:revision>41</cp:revision>
  <dc:subject/>
  <dc:title>Diapositiva 1</dc:title>
</cp:coreProperties>
</file>