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A27A7-56E7-4D4F-A561-BA2FDB2E1CF8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EFA8C-C4D6-4C97-A0BD-0B9279FE740C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CAB49-734F-4EE9-B94D-5DB3A3429CA2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9240" y="812880"/>
            <a:ext cx="5243400" cy="3932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BEF-A874-4539-A0C5-487491AF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148-1331-4F41-A380-59DD86CD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86A-A710-48F8-80C3-08C1B785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FC34-1261-44F4-BE1D-8E2BC583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835B-3A6E-47C8-9D09-D9A6D02F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150B-192A-47A3-8ACA-0BD9F942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2E8B-6A4D-4225-834B-26462ACA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2BA5-C17A-4DE1-A514-9A8039DD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C6B7-71EE-41ED-A640-EAB459DC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7DEB-C544-44D2-A4F5-74CD072F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7F8C-1D2A-46A8-9E14-8B069D9D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50B-EA13-4955-A882-BB17AC6F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2F1E-0AB3-4A7B-8FF0-99CC6D48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D22A-2FED-4E18-9215-63CA3F29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4D01-2D25-4F47-9C69-586F8B9C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F334-7E5F-4A0E-8869-2CEB7133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6AC0-AC15-42B4-93F7-23A30B6C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808-92E2-41DE-890B-EE6FA2A4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BA8-3F14-48B2-93CB-6EA7525B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820-05D6-42AE-B417-51FB995F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129-57A7-4888-A085-8DED7D60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0FD-98A2-4AA4-B87C-BA6253DF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D61-0046-4A96-88AE-AFF0A7B1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4B0-60A2-4618-9DF5-E457EA64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82162E-C6CA-4EB6-BFDD-2A6A0C8962F7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C955FA-9E0D-47D9-8B24-19007CEC5D84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78D3F-7493-4E64-88EA-717F142E8804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Auxiliar Nº3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Propuesta de Valor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otiv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04360" y="1136160"/>
            <a:ext cx="899316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¿ En qué se diferencias las siguientes empresas o productos de su competencia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825480" y="2279520"/>
            <a:ext cx="2143080" cy="1071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4040280" y="213660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6183360" y="2065320"/>
            <a:ext cx="2214360" cy="1609920"/>
          </a:xfrm>
          <a:prstGeom prst="rect">
            <a:avLst/>
          </a:prstGeom>
          <a:ln w="0">
            <a:noFill/>
          </a:ln>
        </p:spPr>
      </p:pic>
      <p:sp>
        <p:nvSpPr>
          <p:cNvPr id="156" name="20 Rectángulo"/>
          <p:cNvSpPr/>
          <p:nvPr/>
        </p:nvSpPr>
        <p:spPr>
          <a:xfrm>
            <a:off x="611280" y="4708440"/>
            <a:ext cx="8358120" cy="27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ientarse al cliente no es hacer que el cliente se gire y nos mire, sino hacer que nuestra estructura se adapte a sus necesidade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lli-Pekka Kallasvuo, NOKIA CE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400" spc="-1" strike="noStrike">
                <a:solidFill>
                  <a:srgbClr val="ff0000"/>
                </a:solidFill>
                <a:latin typeface="Times New Roman"/>
              </a:rPr>
              <a:t>Desarrollo de un Proyecto de Ingeniería Industrial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4360" y="1207800"/>
            <a:ext cx="899316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ecesidad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larar el quiebre que genera el “neg-ocio”. Pongan atención a los supuestos (paradigmas) consid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lientes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omunidad de la cual ustedes se hacen car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portunidad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Por qué es propicio desarrollar el “neg-ocio” aho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reación de valor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esperado tras la implementación del “negoci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mbién visualicen los costos asociados a dicha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delo y diseño de negocio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blecer, de manera clara, cuál es el mecanismo generador de valor (puede ser monetario, aumento en calidad de vid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yecciones y Tendencias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se alinea el proyecto con las tendencias sociales, políticas, culturales, etc. en su entor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6 Elipse"/>
          <p:cNvSpPr/>
          <p:nvPr/>
        </p:nvSpPr>
        <p:spPr>
          <a:xfrm>
            <a:off x="396720" y="2922480"/>
            <a:ext cx="900144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15 Flecha circular"/>
          <p:cNvSpPr/>
          <p:nvPr/>
        </p:nvSpPr>
        <p:spPr>
          <a:xfrm rot="15751800">
            <a:off x="2288160" y="2003760"/>
            <a:ext cx="4722840" cy="5194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esarrollo de una propuesta de valor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2" name="3 CuadroTexto"/>
          <p:cNvSpPr/>
          <p:nvPr/>
        </p:nvSpPr>
        <p:spPr>
          <a:xfrm>
            <a:off x="3540240" y="4078440"/>
            <a:ext cx="2286000" cy="801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Creación de valo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4 CuadroTexto"/>
          <p:cNvSpPr/>
          <p:nvPr/>
        </p:nvSpPr>
        <p:spPr>
          <a:xfrm>
            <a:off x="6611760" y="1687680"/>
            <a:ext cx="17146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cri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5 CuadroTexto"/>
          <p:cNvSpPr/>
          <p:nvPr/>
        </p:nvSpPr>
        <p:spPr>
          <a:xfrm>
            <a:off x="6611760" y="2116080"/>
            <a:ext cx="17146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ces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6 CuadroTexto"/>
          <p:cNvSpPr/>
          <p:nvPr/>
        </p:nvSpPr>
        <p:spPr>
          <a:xfrm>
            <a:off x="6611760" y="2556000"/>
            <a:ext cx="17146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2 Flecha derecha"/>
          <p:cNvSpPr/>
          <p:nvPr/>
        </p:nvSpPr>
        <p:spPr>
          <a:xfrm>
            <a:off x="6040440" y="2077920"/>
            <a:ext cx="42876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6 Triángulo isósceles"/>
          <p:cNvSpPr/>
          <p:nvPr/>
        </p:nvSpPr>
        <p:spPr>
          <a:xfrm>
            <a:off x="2611440" y="2435400"/>
            <a:ext cx="4286160" cy="2928600"/>
          </a:xfrm>
          <a:prstGeom prst="triangle">
            <a:avLst>
              <a:gd name="adj" fmla="val 49333"/>
            </a:avLst>
          </a:prstGeom>
          <a:noFill/>
          <a:ln w="28440">
            <a:solidFill>
              <a:srgbClr val="40404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13 CuadroTexto"/>
          <p:cNvSpPr/>
          <p:nvPr/>
        </p:nvSpPr>
        <p:spPr>
          <a:xfrm>
            <a:off x="6183360" y="5221440"/>
            <a:ext cx="200016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14 CuadroTexto"/>
          <p:cNvSpPr/>
          <p:nvPr/>
        </p:nvSpPr>
        <p:spPr>
          <a:xfrm>
            <a:off x="1397160" y="5221440"/>
            <a:ext cx="200016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17 CuadroTexto"/>
          <p:cNvSpPr/>
          <p:nvPr/>
        </p:nvSpPr>
        <p:spPr>
          <a:xfrm>
            <a:off x="6683400" y="5985000"/>
            <a:ext cx="23572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cri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8 CuadroTexto"/>
          <p:cNvSpPr/>
          <p:nvPr/>
        </p:nvSpPr>
        <p:spPr>
          <a:xfrm>
            <a:off x="6683400" y="6435720"/>
            <a:ext cx="2357280" cy="660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ándar del 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19 CuadroTexto"/>
          <p:cNvSpPr/>
          <p:nvPr/>
        </p:nvSpPr>
        <p:spPr>
          <a:xfrm>
            <a:off x="6683400" y="6913440"/>
            <a:ext cx="23572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20 CuadroTexto"/>
          <p:cNvSpPr/>
          <p:nvPr/>
        </p:nvSpPr>
        <p:spPr>
          <a:xfrm>
            <a:off x="896760" y="6056280"/>
            <a:ext cx="200052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21 CuadroTexto"/>
          <p:cNvSpPr/>
          <p:nvPr/>
        </p:nvSpPr>
        <p:spPr>
          <a:xfrm>
            <a:off x="896760" y="6507000"/>
            <a:ext cx="200052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22 CuadroTexto"/>
          <p:cNvSpPr/>
          <p:nvPr/>
        </p:nvSpPr>
        <p:spPr>
          <a:xfrm>
            <a:off x="896760" y="6973920"/>
            <a:ext cx="200052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mo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23 Flecha abajo"/>
          <p:cNvSpPr/>
          <p:nvPr/>
        </p:nvSpPr>
        <p:spPr>
          <a:xfrm>
            <a:off x="1682640" y="56498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24 Flecha abajo"/>
          <p:cNvSpPr/>
          <p:nvPr/>
        </p:nvSpPr>
        <p:spPr>
          <a:xfrm>
            <a:off x="7254720" y="564984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7 CuadroTexto"/>
          <p:cNvSpPr/>
          <p:nvPr/>
        </p:nvSpPr>
        <p:spPr>
          <a:xfrm>
            <a:off x="3683160" y="2198520"/>
            <a:ext cx="200016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s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25 CuadroTexto"/>
          <p:cNvSpPr/>
          <p:nvPr/>
        </p:nvSpPr>
        <p:spPr>
          <a:xfrm>
            <a:off x="539640" y="851040"/>
            <a:ext cx="9215640" cy="603720"/>
          </a:xfrm>
          <a:prstGeom prst="rect">
            <a:avLst/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novar no tiene que ver con crear tecnología…sino con crear valo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Bert  Nordberg, Sony Ericsson CEO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400" spc="-1" strike="noStrike">
                <a:solidFill>
                  <a:srgbClr val="ff0000"/>
                </a:solidFill>
                <a:latin typeface="Times New Roman"/>
              </a:rPr>
              <a:t>Algunas propuestas de valor conocidas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Wal-Mart tiene como propuesta de valor a sus clientes, precios bajos y amplia variedad de product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SONY tiene como propuesta de valor productos de altísima calida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DII tiene como propuesta de valor egresados destacados en el área de la gestión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El Club Deportivo Real Madrid tiene como propuesta de valor reunir en un equipo de fútbol a los mayores exponentes de este deport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Buscando los océanos azules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968400" y="1065240"/>
            <a:ext cx="6929280" cy="3405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4540320" y="4637160"/>
            <a:ext cx="3348000" cy="221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3611520" y="4637160"/>
            <a:ext cx="15001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AA463-6A03-4D52-A8C4-CCD6A80899E9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49320"/>
            <a:ext cx="8994960" cy="11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A modo de resumen…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682720" y="851040"/>
            <a:ext cx="685800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La Propuesta de Valor es una mezcla única de productos o servicios, beneficios o valores agregados que la institución ofrece a sus clientes, los cuales la hacen una oferta diferente y “oportuna” en el mercad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lementos de una Propuesta de Val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Descripción , necesidades y motivaciones del cli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Descripción del producto o servicio y sus característ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stándares de Servicio ofreci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Precio y condiciones de ven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Fuerza de ven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Canales de acceso a los servic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Sistema de promoción y comunicaciones con el cli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Sistema de Postven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304920" y="1800360"/>
            <a:ext cx="22143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Actividad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4360" y="1065240"/>
            <a:ext cx="899316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En los equipos de trabajos desarrolle su propuesta de valor, identificando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Clien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ienes son?, ¿Dónde se ubican?, ¿Características principal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necesidades hemos detec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valoran nuestros client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oducto o servicio ofreci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ofrecemos realmente a nuestros client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beneficios podemos generarles?, ¿Qué necesidades satisfacem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Cuánto podemos cobr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Negoc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beneficios generam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Cómo nos damos a cono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Cómo nos sustentaremos en el tiemp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04360" y="1767960"/>
            <a:ext cx="89931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08-30T04:11:27Z</dcterms:modified>
  <cp:revision>15</cp:revision>
  <dc:subject/>
  <dc:title>Diapositiva 1</dc:title>
</cp:coreProperties>
</file>