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01BC-5900-4A29-AC7F-3D347469A82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D4069-7D20-4E44-830F-2ADAFCBEDB8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9126-7D51-4548-8B22-C33DE157410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FC6-AEFC-4C50-9DF0-6C4D1255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F3C-C80B-4DC6-AFC5-02EE9099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A54-10AA-47D9-BF2E-8E7E07F2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F19-DADB-4C40-8759-A7C915AE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AC99-8108-4C8F-AFD6-6C7F204D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953D-1284-4276-8B86-75F06F43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B44F-ADD3-4D33-A7F4-3E0FA481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C730-819F-428B-97B4-EFF1396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5FFB-D102-4FB9-8909-B1386B8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C5FA-55F7-42B6-872E-B467D4F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12B-62CC-4F8F-9310-D22FA95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CE1-B424-457E-B7D8-2612A96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4DBB-E794-402D-9DAB-6D2999E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5CDD-57F7-4519-BAF1-9029C99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34D6-0157-492C-BFA1-3253ADC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07A-CE12-4CD4-B95D-1C127003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ECC-05C3-4DDE-A835-B89A91D5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250-2591-476C-9EF5-2371AAF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CA8-86D0-4051-8B3D-189F64B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469-AB90-41B1-A60F-5501BD05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59E-CE2D-4A68-BF5D-190EA651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67C-6244-4A22-9B4B-3C0B247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E3E-7623-4CBD-86F8-0D8FC5E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D41-E65C-46DE-90ED-67882C2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30C8BE-B59D-4088-A71E-72A4214FB06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4AB694-1089-47B4-AE48-63FD08CF5B72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2F176-4647-452B-ACC9-647274DCB11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3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ropuesta de Valo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4360" y="1136160"/>
            <a:ext cx="899316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¿ En qué se diferencias las siguientes empresas o productos de su competenci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25480" y="227952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040280" y="213660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183360" y="2065320"/>
            <a:ext cx="2214360" cy="1609920"/>
          </a:xfrm>
          <a:prstGeom prst="rect">
            <a:avLst/>
          </a:prstGeom>
          <a:ln w="0">
            <a:noFill/>
          </a:ln>
        </p:spPr>
      </p:pic>
      <p:sp>
        <p:nvSpPr>
          <p:cNvPr id="156" name="20 Rectángulo"/>
          <p:cNvSpPr/>
          <p:nvPr/>
        </p:nvSpPr>
        <p:spPr>
          <a:xfrm>
            <a:off x="611280" y="4708440"/>
            <a:ext cx="83581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ientarse al cliente no es hacer que el cliente se gire y nos mire, sino hacer que nuestra estructura se adapte a sus necesid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lli-Pekka Kallasvuo, NOKIA C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Desarrollo de un Proyecto de Ingeniería Industrial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4360" y="1207800"/>
            <a:ext cx="89931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larar el quiebre que genera el “neg-ocio”. Pongan atención a los supuestos (paradigmas)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liente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omunidad de la cual ustedes se hacen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portun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Por qué es propicio desarrollar el “neg-ocio” a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eación de valor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esperado tras la implementación del “negoci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mbién visualicen los costos asociados a dich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o y diseño de negocio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lecer, de manera clara, cuál es el mecanismo generador de valor (puede ser monetario, aumento en calidad de vi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ciones y Tendencia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se alinea el proyecto con las tendencias sociales, políticas, culturales, etc. en su ento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6 Elipse"/>
          <p:cNvSpPr/>
          <p:nvPr/>
        </p:nvSpPr>
        <p:spPr>
          <a:xfrm>
            <a:off x="396720" y="2922480"/>
            <a:ext cx="90014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15 Flecha circular"/>
          <p:cNvSpPr/>
          <p:nvPr/>
        </p:nvSpPr>
        <p:spPr>
          <a:xfrm rot="15751800">
            <a:off x="2288160" y="2003760"/>
            <a:ext cx="4722840" cy="519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rrollo de una propuesta de valor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3 CuadroTexto"/>
          <p:cNvSpPr/>
          <p:nvPr/>
        </p:nvSpPr>
        <p:spPr>
          <a:xfrm>
            <a:off x="3540240" y="4078440"/>
            <a:ext cx="2286000" cy="801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Creación de val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 CuadroTexto"/>
          <p:cNvSpPr/>
          <p:nvPr/>
        </p:nvSpPr>
        <p:spPr>
          <a:xfrm>
            <a:off x="6611760" y="16876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6611760" y="21160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6611760" y="255600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2 Flecha derecha"/>
          <p:cNvSpPr/>
          <p:nvPr/>
        </p:nvSpPr>
        <p:spPr>
          <a:xfrm>
            <a:off x="6040440" y="20779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Triángulo isósceles"/>
          <p:cNvSpPr/>
          <p:nvPr/>
        </p:nvSpPr>
        <p:spPr>
          <a:xfrm>
            <a:off x="2611440" y="2435400"/>
            <a:ext cx="4286160" cy="2928600"/>
          </a:xfrm>
          <a:prstGeom prst="triangle">
            <a:avLst>
              <a:gd name="adj" fmla="val 49333"/>
            </a:avLst>
          </a:prstGeom>
          <a:noFill/>
          <a:ln w="28440">
            <a:solidFill>
              <a:srgbClr val="40404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3 CuadroTexto"/>
          <p:cNvSpPr/>
          <p:nvPr/>
        </p:nvSpPr>
        <p:spPr>
          <a:xfrm>
            <a:off x="61833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4 CuadroTexto"/>
          <p:cNvSpPr/>
          <p:nvPr/>
        </p:nvSpPr>
        <p:spPr>
          <a:xfrm>
            <a:off x="13971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6683400" y="598500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6683400" y="6435720"/>
            <a:ext cx="2357280" cy="66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9 CuadroTexto"/>
          <p:cNvSpPr/>
          <p:nvPr/>
        </p:nvSpPr>
        <p:spPr>
          <a:xfrm>
            <a:off x="6683400" y="691344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20 CuadroTexto"/>
          <p:cNvSpPr/>
          <p:nvPr/>
        </p:nvSpPr>
        <p:spPr>
          <a:xfrm>
            <a:off x="896760" y="605628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21 CuadroTexto"/>
          <p:cNvSpPr/>
          <p:nvPr/>
        </p:nvSpPr>
        <p:spPr>
          <a:xfrm>
            <a:off x="896760" y="650700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22 CuadroTexto"/>
          <p:cNvSpPr/>
          <p:nvPr/>
        </p:nvSpPr>
        <p:spPr>
          <a:xfrm>
            <a:off x="896760" y="697392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mo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23 Flecha abajo"/>
          <p:cNvSpPr/>
          <p:nvPr/>
        </p:nvSpPr>
        <p:spPr>
          <a:xfrm>
            <a:off x="1682640" y="5649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24 Flecha abajo"/>
          <p:cNvSpPr/>
          <p:nvPr/>
        </p:nvSpPr>
        <p:spPr>
          <a:xfrm>
            <a:off x="7254720" y="5649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7 CuadroTexto"/>
          <p:cNvSpPr/>
          <p:nvPr/>
        </p:nvSpPr>
        <p:spPr>
          <a:xfrm>
            <a:off x="3683160" y="219852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5 CuadroTexto"/>
          <p:cNvSpPr/>
          <p:nvPr/>
        </p:nvSpPr>
        <p:spPr>
          <a:xfrm>
            <a:off x="539640" y="851040"/>
            <a:ext cx="9215640" cy="6037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novar no tiene que ver con crear tecnología…sino con crear va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rt  Nordberg, Sony Ericsson CEO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Algunas propuestas de valor conocida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Wal-Mart tiene como propuesta de valor a sus clientes, precios bajos y amplia variedad de product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ONY tiene como propuesta de valor productos de altísim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II tiene como propuesta de valor egresados destacados en el área de la gest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l Club Deportivo Real Madrid tiene como propuesta de valor reunir en un equipo de fútbol a los mayores exponentes de este depo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uscando los océanos azule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68400" y="1065240"/>
            <a:ext cx="6929280" cy="340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540320" y="4637160"/>
            <a:ext cx="334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611520" y="463716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E5FCD-0BE1-4C0B-8E5E-58FD1450F332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A modo de resumen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82720" y="851040"/>
            <a:ext cx="685800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La Propuesta de Valor es una mezcla única de productos o servicios, beneficios o valores agregados que la institución ofrece a sus clientes, los cuales la hacen una oferta diferente y “oportuna” en el merca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lementos de una Propuesta de Val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, necesidades y motivaciones d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del producto o servicio y sus 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stándares de Servicio ofrec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Precio y condiciones de 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Fuerza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Canales de acceso 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romoción y comunicaciones con 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ost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360" y="1065240"/>
            <a:ext cx="89931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n los equipos de trabajos desarrolle su propuesta de valor, identificando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ienes son?, ¿Dónde se ubican?, ¿Características princip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necesidades hemos detec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valoran nuestros clien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ducto o servicio ofreci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ofrecemos realmente a nuestros cl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podemos generarles?, ¿Qué necesidades satisface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uánto podemos cob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eg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genera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damos a cono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sustentaremos en el tiemp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4360" y="1767960"/>
            <a:ext cx="8993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30T04:11:27Z</dcterms:modified>
  <cp:revision>15</cp:revision>
  <dc:subject/>
  <dc:title>Diapositiva 1</dc:title>
</cp:coreProperties>
</file>