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2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2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2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2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2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3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3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3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3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3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3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4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4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4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4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4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4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26716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5970600" cy="47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dt" idx="7"/>
          </p:nvPr>
        </p:nvSpPr>
        <p:spPr>
          <a:xfrm>
            <a:off x="428004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2B8FA-0B51-4AF6-9F44-959D9827587E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7CFE3-76B8-4A56-B434-0DFFE0780AB2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56AFA1-9B22-467F-8C25-434DD86F0F2A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19240" y="812880"/>
            <a:ext cx="5243400" cy="39322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3B91-DCE5-4959-8229-B94A7729E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FE2B-75E3-4F9A-A9E7-9D21A576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299A-597B-49CF-80BC-59B2D12C0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6DE3-ADF4-467B-A8D7-91CB70EC9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7098-D8A4-4EBD-9AAB-18A4C0DD1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CB10-7449-4CD4-99A7-564E02F9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8F5B-8AFC-41F6-B1E0-2AEDE43A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19B4-B457-41DE-B96B-B1B13FB2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0EB8-0AA5-45F4-8608-C2EF5DE3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648CF-EE35-43F2-8C44-73F17641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5192-4634-4271-9881-AC49F22C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F13A-F476-4F28-80E1-69267473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21B3-43AE-4D5E-A792-EE26550F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6B31-91A0-4673-85BA-D53F2270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0E40-626A-4A4E-9165-2B49CD23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CCEE-B333-47E7-88E9-219D6914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E51B-8FF5-4EF8-9332-BE6649941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50F3-2E24-4881-8CFB-84B63148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F8ED-088C-4FA1-A13E-57EFBFF5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3634-C5AD-42F0-92FE-8FCC636D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F74D-7CF0-449F-84E2-BBC7B9F0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A0AF-1341-4365-A10C-75A0F9CC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C76A-3B88-49B8-8637-8EFA676C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F376-CE16-41D9-A210-113F3F95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27160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61284F8-99BA-4622-BDD1-20975C9F4F7C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9720360" y="181080"/>
            <a:ext cx="1440" cy="7378560"/>
          </a:xfrm>
          <a:prstGeom prst="line">
            <a:avLst/>
          </a:prstGeom>
          <a:ln w="720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181440" y="177840"/>
            <a:ext cx="899316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6053040" y="708120"/>
            <a:ext cx="2766960" cy="7318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8999640" y="181080"/>
            <a:ext cx="900000" cy="7378560"/>
          </a:xfrm>
          <a:prstGeom prst="rect">
            <a:avLst/>
          </a:prstGeom>
          <a:solidFill>
            <a:srgbClr val="b3b3b3">
              <a:alpha val="50000"/>
            </a:srgbClr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640360" y="8098920"/>
            <a:ext cx="2622600" cy="10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94840" indent="-294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C7CFF3C-33FE-4AEA-B3E0-3A8F9847E603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8"/>
          <p:cNvSpPr/>
          <p:nvPr/>
        </p:nvSpPr>
        <p:spPr>
          <a:xfrm>
            <a:off x="0" y="108000"/>
            <a:ext cx="10080720" cy="1440"/>
          </a:xfrm>
          <a:prstGeom prst="line">
            <a:avLst/>
          </a:prstGeom>
          <a:ln w="21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3"/>
          <a:stretch/>
        </p:blipFill>
        <p:spPr>
          <a:xfrm>
            <a:off x="360360" y="1465200"/>
            <a:ext cx="5878440" cy="3575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3959280" y="3060720"/>
            <a:ext cx="5940360" cy="1979640"/>
          </a:xfrm>
          <a:prstGeom prst="rect">
            <a:avLst/>
          </a:prstGeom>
          <a:solidFill>
            <a:srgbClr val="e6e6ff">
              <a:alpha val="20000"/>
            </a:srgbClr>
          </a:solidFill>
          <a:ln w="9360">
            <a:solidFill>
              <a:srgbClr val="cc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6300720" y="5221440"/>
            <a:ext cx="3238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2400" spc="-1" strike="noStrike">
                <a:solidFill>
                  <a:srgbClr val="4c4c4c"/>
                </a:solidFill>
                <a:latin typeface="Times New Roman"/>
              </a:rPr>
              <a:t>IN3001-Otoño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3 Marcador de número de diapositiva"/>
          <p:cNvSpPr/>
          <p:nvPr/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4453B-B4CA-40EB-96C6-2C21C585FF79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4284720" y="3024360"/>
            <a:ext cx="550872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512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Clase Auxiliar Nº3: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Propuesta de Valor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10 Rectángulo"/>
          <p:cNvSpPr/>
          <p:nvPr/>
        </p:nvSpPr>
        <p:spPr>
          <a:xfrm>
            <a:off x="6254640" y="5351400"/>
            <a:ext cx="2643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3001 Primavera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Motivación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04360" y="1136160"/>
            <a:ext cx="8993160" cy="12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¿ En qué se diferencias las siguientes empresas o productos de su competencia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825480" y="2279520"/>
            <a:ext cx="2143080" cy="1071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4040280" y="2136600"/>
            <a:ext cx="1357200" cy="1357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3"/>
          <a:stretch/>
        </p:blipFill>
        <p:spPr>
          <a:xfrm>
            <a:off x="6183360" y="2065320"/>
            <a:ext cx="2214360" cy="1609920"/>
          </a:xfrm>
          <a:prstGeom prst="rect">
            <a:avLst/>
          </a:prstGeom>
          <a:ln w="0">
            <a:noFill/>
          </a:ln>
        </p:spPr>
      </p:pic>
      <p:sp>
        <p:nvSpPr>
          <p:cNvPr id="156" name="20 Rectángulo"/>
          <p:cNvSpPr/>
          <p:nvPr/>
        </p:nvSpPr>
        <p:spPr>
          <a:xfrm>
            <a:off x="611280" y="4708440"/>
            <a:ext cx="8358120" cy="27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Orientarse al cliente no es hacer que el cliente se gire y nos mire, sino hacer que nuestra estructura se adapte a sus necesidades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Olli-Pekka Kallasvuo, NOKIA CE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3400" spc="-1" strike="noStrike">
                <a:solidFill>
                  <a:srgbClr val="ff0000"/>
                </a:solidFill>
                <a:latin typeface="Times New Roman"/>
              </a:rPr>
              <a:t>Desarrollo de un Proyecto de Ingeniería Industrial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04360" y="1207800"/>
            <a:ext cx="8993160" cy="54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ecesidad: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clarar el quiebre que genera el “neg-ocio”. Pongan atención a los supuestos (paradigmas) consid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lientes: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comunidad de la cual ustedes se hacen car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Oportunidad: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Por qué es propicio desarrollar el “neg-ocio” aho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reación de valor: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esperado tras la implementación del “negoci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mbién visualicen los costos asociados a dicha creación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odelo y diseño de negocio: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ablecer, de manera clara, cuál es el mecanismo generador de valor (puede ser monetario, aumento en calidad de vid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oyecciones y Tendencias: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ómo se alinea el proyecto con las tendencias sociales, políticas, culturales, etc. en su entor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6 Elipse"/>
          <p:cNvSpPr/>
          <p:nvPr/>
        </p:nvSpPr>
        <p:spPr>
          <a:xfrm>
            <a:off x="396720" y="2922480"/>
            <a:ext cx="900144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15 Flecha circular"/>
          <p:cNvSpPr/>
          <p:nvPr/>
        </p:nvSpPr>
        <p:spPr>
          <a:xfrm rot="15751800">
            <a:off x="2288160" y="2003760"/>
            <a:ext cx="4722840" cy="5194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99316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Desarrollo de una propuesta de valor.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2" name="3 CuadroTexto"/>
          <p:cNvSpPr/>
          <p:nvPr/>
        </p:nvSpPr>
        <p:spPr>
          <a:xfrm>
            <a:off x="3540240" y="4078440"/>
            <a:ext cx="2286000" cy="8017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imes New Roman"/>
              </a:rPr>
              <a:t>Creación de valor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4 CuadroTexto"/>
          <p:cNvSpPr/>
          <p:nvPr/>
        </p:nvSpPr>
        <p:spPr>
          <a:xfrm>
            <a:off x="6611760" y="1687680"/>
            <a:ext cx="1714680" cy="377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scrip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5 CuadroTexto"/>
          <p:cNvSpPr/>
          <p:nvPr/>
        </p:nvSpPr>
        <p:spPr>
          <a:xfrm>
            <a:off x="6611760" y="2116080"/>
            <a:ext cx="1714680" cy="377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eces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6 CuadroTexto"/>
          <p:cNvSpPr/>
          <p:nvPr/>
        </p:nvSpPr>
        <p:spPr>
          <a:xfrm>
            <a:off x="6611760" y="2556000"/>
            <a:ext cx="1714680" cy="377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spir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12 Flecha derecha"/>
          <p:cNvSpPr/>
          <p:nvPr/>
        </p:nvSpPr>
        <p:spPr>
          <a:xfrm>
            <a:off x="6040440" y="2077920"/>
            <a:ext cx="428760" cy="42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16 Triángulo isósceles"/>
          <p:cNvSpPr/>
          <p:nvPr/>
        </p:nvSpPr>
        <p:spPr>
          <a:xfrm>
            <a:off x="2611440" y="2435400"/>
            <a:ext cx="4286160" cy="2928600"/>
          </a:xfrm>
          <a:prstGeom prst="triangle">
            <a:avLst>
              <a:gd name="adj" fmla="val 49333"/>
            </a:avLst>
          </a:prstGeom>
          <a:noFill/>
          <a:ln w="28440">
            <a:solidFill>
              <a:srgbClr val="40404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13 CuadroTexto"/>
          <p:cNvSpPr/>
          <p:nvPr/>
        </p:nvSpPr>
        <p:spPr>
          <a:xfrm>
            <a:off x="6183360" y="5221440"/>
            <a:ext cx="2000160" cy="377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14 CuadroTexto"/>
          <p:cNvSpPr/>
          <p:nvPr/>
        </p:nvSpPr>
        <p:spPr>
          <a:xfrm>
            <a:off x="1397160" y="5221440"/>
            <a:ext cx="2000160" cy="377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ego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17 CuadroTexto"/>
          <p:cNvSpPr/>
          <p:nvPr/>
        </p:nvSpPr>
        <p:spPr>
          <a:xfrm>
            <a:off x="6683400" y="5985000"/>
            <a:ext cx="2357280" cy="377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scrip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18 CuadroTexto"/>
          <p:cNvSpPr/>
          <p:nvPr/>
        </p:nvSpPr>
        <p:spPr>
          <a:xfrm>
            <a:off x="6683400" y="6435720"/>
            <a:ext cx="2357280" cy="6606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tándar del Servi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19 CuadroTexto"/>
          <p:cNvSpPr/>
          <p:nvPr/>
        </p:nvSpPr>
        <p:spPr>
          <a:xfrm>
            <a:off x="6683400" y="6913440"/>
            <a:ext cx="2357280" cy="377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20 CuadroTexto"/>
          <p:cNvSpPr/>
          <p:nvPr/>
        </p:nvSpPr>
        <p:spPr>
          <a:xfrm>
            <a:off x="896760" y="6056280"/>
            <a:ext cx="2000520" cy="377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uerza de ven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21 CuadroTexto"/>
          <p:cNvSpPr/>
          <p:nvPr/>
        </p:nvSpPr>
        <p:spPr>
          <a:xfrm>
            <a:off x="896760" y="6507000"/>
            <a:ext cx="2000520" cy="377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22 CuadroTexto"/>
          <p:cNvSpPr/>
          <p:nvPr/>
        </p:nvSpPr>
        <p:spPr>
          <a:xfrm>
            <a:off x="896760" y="6973920"/>
            <a:ext cx="2000520" cy="377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mo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23 Flecha abajo"/>
          <p:cNvSpPr/>
          <p:nvPr/>
        </p:nvSpPr>
        <p:spPr>
          <a:xfrm>
            <a:off x="1682640" y="5649840"/>
            <a:ext cx="3571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24 Flecha abajo"/>
          <p:cNvSpPr/>
          <p:nvPr/>
        </p:nvSpPr>
        <p:spPr>
          <a:xfrm>
            <a:off x="7254720" y="5649840"/>
            <a:ext cx="35748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7 CuadroTexto"/>
          <p:cNvSpPr/>
          <p:nvPr/>
        </p:nvSpPr>
        <p:spPr>
          <a:xfrm>
            <a:off x="3683160" y="2198520"/>
            <a:ext cx="2000160" cy="377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lientes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25 CuadroTexto"/>
          <p:cNvSpPr/>
          <p:nvPr/>
        </p:nvSpPr>
        <p:spPr>
          <a:xfrm>
            <a:off x="539640" y="851040"/>
            <a:ext cx="9215640" cy="603720"/>
          </a:xfrm>
          <a:prstGeom prst="rect">
            <a:avLst/>
          </a:prstGeom>
          <a:gradFill rotWithShape="0">
            <a:gsLst>
              <a:gs pos="0">
                <a:srgbClr val="a0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nnovar no tiene que ver con crear tecnología…sino con crear valor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Bert  Nordberg, Sony Ericsson CEO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3400" spc="-1" strike="noStrike">
                <a:solidFill>
                  <a:srgbClr val="ff0000"/>
                </a:solidFill>
                <a:latin typeface="Times New Roman"/>
              </a:rPr>
              <a:t>Algunas propuestas de valor conocidas…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94840" indent="-29484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Wal-Mart tiene como propuesta de valor a sus clientes, precios bajos y amplia variedad de productos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SONY tiene como propuesta de valor productos de altísima calidad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DII tiene como propuesta de valor egresados destacados en el área de la gestión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Times New Roman"/>
              </a:rPr>
              <a:t>El Club Deportivo Real Madrid tiene como propuesta de valor reunir en un equipo de fútbol a los mayores exponentes de este deport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Buscando los océanos azules…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968400" y="1065240"/>
            <a:ext cx="6929280" cy="3405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/>
          <p:cNvPicPr/>
          <p:nvPr/>
        </p:nvPicPr>
        <p:blipFill>
          <a:blip r:embed="rId2"/>
          <a:stretch/>
        </p:blipFill>
        <p:spPr>
          <a:xfrm>
            <a:off x="4540320" y="4637160"/>
            <a:ext cx="3348000" cy="2214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3"/>
          <a:stretch/>
        </p:blipFill>
        <p:spPr>
          <a:xfrm>
            <a:off x="3611520" y="4637160"/>
            <a:ext cx="150012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4 Marcador de número de diapositiva"/>
          <p:cNvSpPr/>
          <p:nvPr/>
        </p:nvSpPr>
        <p:spPr>
          <a:xfrm>
            <a:off x="7226280" y="6886440"/>
            <a:ext cx="22716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DCA316-34EA-4B3B-B16C-D99801F6170E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49320"/>
            <a:ext cx="8994960" cy="11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Times New Roman"/>
              </a:rPr>
              <a:t>A modo de resumen…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2682720" y="851040"/>
            <a:ext cx="6858000" cy="60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La Propuesta de Valor es una mezcla única de productos o servicios, beneficios o valores agregados que la institución ofrece a sus clientes, los cuales la hacen una oferta diferente y “oportuna” en el mercad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Elementos de una Propuesta de Valo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76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Descripción , necesidades y motivaciones del clien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Descripción del producto o servicio y sus característic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Estándares de Servicio ofrecid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Precio y condiciones de vent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Fuerza de vent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Canales de acceso a los servici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Sistema de promoción y comunicaciones con el clien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</a:rPr>
              <a:t>Sistema de Postvent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304920" y="1800360"/>
            <a:ext cx="2214360" cy="38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Actividad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04360" y="1065240"/>
            <a:ext cx="899316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just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imes New Roman"/>
              </a:rPr>
              <a:t>En los equipos de trabajos desarrolle su propuesta de valor, identificando: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Client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 algn="just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¿Quienes son?, ¿Dónde se ubican?, ¿Características principal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 algn="just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¿Qué necesidades hemos detectad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 algn="just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¿Qué valoran nuestros client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Producto o servicio ofrecid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 algn="just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¿Qué ofrecemos realmente a nuestros client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 algn="just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¿Qué beneficios podemos generarles?, ¿Qué necesidades satisfacemo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 algn="just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¿Cuánto podemos cobra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Negoci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 algn="just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¿Qué beneficios generamo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 algn="just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¿Cómo nos damos a conoce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457200" algn="just">
              <a:lnSpc>
                <a:spcPct val="74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¿Cómo nos sustentaremos en el tiemp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04360" y="1767960"/>
            <a:ext cx="899316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mela</dc:creator>
  <dc:description/>
  <dc:language>en-US</dc:language>
  <cp:lastModifiedBy>WinuE</cp:lastModifiedBy>
  <dcterms:modified xsi:type="dcterms:W3CDTF">2009-08-30T04:11:27Z</dcterms:modified>
  <cp:revision>15</cp:revision>
  <dc:subject/>
  <dc:title>Diapositiva 1</dc:title>
</cp:coreProperties>
</file>