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142A6-95AD-4521-B227-E75C6AA39A3B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F1906-863D-47E7-A004-2EEFBC2D008C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87FA7-116A-4851-97A6-D029AB42A919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E2F-1B04-4846-A127-93513E55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DB3-D39B-46D1-94ED-B02173F6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A6F-254B-430B-B10F-DD08C9B9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00F-D2F5-49F1-8DE7-06AC0C11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BBA7-56BF-41C9-8ABF-9044701B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C4A8-D36F-4177-80DA-6A9E4E06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C98B-475A-446A-8E10-B2AC167D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5467-C6E0-4367-AD4D-8CF60FC9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3359-8961-4F24-9066-0D5E1554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E266-B774-43F7-835E-A63F81CC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925A-CEAD-42D3-B23F-F5DC49E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53A-F833-4D15-B1D0-D3FF828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18FA-AA0D-4EDC-97F4-879CAA8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F471-4F93-4546-B06B-E9DAA9D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0F68-D791-4E96-B97F-D03112A2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534F-F973-4BD9-8B94-D5A8AC95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0BAC-9EDE-492A-BD44-7F681179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F7F-C417-481E-B55A-25A892D8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1BE-66D1-4752-BF77-2F7891B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417-3C6C-4AD5-A087-715AC70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018-D1A6-48F1-85A1-C680D10E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D38-413E-4DCE-A2F0-A5ABEC08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0E8-B9E9-4E78-898C-8F0088B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523-6DFC-493E-BE0D-B2686C6C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9F1292-B639-4237-891C-79DCE671A854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962FB7-3D0F-4C7A-A64D-AD973886B9AF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F3AC5-DCDE-4718-A166-A832ADC864F9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3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ropuesta de Valor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4360" y="1136160"/>
            <a:ext cx="899316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¿ En qué se diferencias las siguientes empresas o productos de su competencia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825480" y="2279520"/>
            <a:ext cx="2143080" cy="107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040280" y="213660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6183360" y="2065320"/>
            <a:ext cx="2214360" cy="1609920"/>
          </a:xfrm>
          <a:prstGeom prst="rect">
            <a:avLst/>
          </a:prstGeom>
          <a:ln w="0">
            <a:noFill/>
          </a:ln>
        </p:spPr>
      </p:pic>
      <p:sp>
        <p:nvSpPr>
          <p:cNvPr id="156" name="20 Rectángulo"/>
          <p:cNvSpPr/>
          <p:nvPr/>
        </p:nvSpPr>
        <p:spPr>
          <a:xfrm>
            <a:off x="611280" y="4708440"/>
            <a:ext cx="835812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ientarse al cliente no es hacer que el cliente se gire y nos mire, sino hacer que nuestra estructura se adapte a sus necesidade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lli-Pekka Kallasvuo, NOKIA CE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Desarrollo de un Proyecto de Ingeniería Industrial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4360" y="1207800"/>
            <a:ext cx="899316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eces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larar el quiebre que genera el “neg-ocio”. Pongan atención a los supuestos (paradigmas) consid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liente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omunidad de la cual ustedes se hacen c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portun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Por qué es propicio desarrollar el “neg-ocio” a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reación de valor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esperado tras la implementación del “negoci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mbién visualicen los costos asociados a dicha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o y diseño de negocio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lecer, de manera clara, cuál es el mecanismo generador de valor (puede ser monetario, aumento en calidad de vid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ciones y Tendencia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se alinea el proyecto con las tendencias sociales, políticas, culturales, etc. en su entor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6 Elipse"/>
          <p:cNvSpPr/>
          <p:nvPr/>
        </p:nvSpPr>
        <p:spPr>
          <a:xfrm>
            <a:off x="396720" y="2922480"/>
            <a:ext cx="900144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15 Flecha circular"/>
          <p:cNvSpPr/>
          <p:nvPr/>
        </p:nvSpPr>
        <p:spPr>
          <a:xfrm rot="15751800">
            <a:off x="2288160" y="2003760"/>
            <a:ext cx="4722840" cy="5194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esarrollo de una propuesta de valor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3 CuadroTexto"/>
          <p:cNvSpPr/>
          <p:nvPr/>
        </p:nvSpPr>
        <p:spPr>
          <a:xfrm>
            <a:off x="3540240" y="4078440"/>
            <a:ext cx="2286000" cy="801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Creación de valo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4 CuadroTexto"/>
          <p:cNvSpPr/>
          <p:nvPr/>
        </p:nvSpPr>
        <p:spPr>
          <a:xfrm>
            <a:off x="6611760" y="16876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6611760" y="21160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CuadroTexto"/>
          <p:cNvSpPr/>
          <p:nvPr/>
        </p:nvSpPr>
        <p:spPr>
          <a:xfrm>
            <a:off x="6611760" y="255600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2 Flecha derecha"/>
          <p:cNvSpPr/>
          <p:nvPr/>
        </p:nvSpPr>
        <p:spPr>
          <a:xfrm>
            <a:off x="6040440" y="207792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6 Triángulo isósceles"/>
          <p:cNvSpPr/>
          <p:nvPr/>
        </p:nvSpPr>
        <p:spPr>
          <a:xfrm>
            <a:off x="2611440" y="2435400"/>
            <a:ext cx="4286160" cy="2928600"/>
          </a:xfrm>
          <a:prstGeom prst="triangle">
            <a:avLst>
              <a:gd name="adj" fmla="val 49333"/>
            </a:avLst>
          </a:prstGeom>
          <a:noFill/>
          <a:ln w="28440">
            <a:solidFill>
              <a:srgbClr val="40404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13 CuadroTexto"/>
          <p:cNvSpPr/>
          <p:nvPr/>
        </p:nvSpPr>
        <p:spPr>
          <a:xfrm>
            <a:off x="61833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4 CuadroTexto"/>
          <p:cNvSpPr/>
          <p:nvPr/>
        </p:nvSpPr>
        <p:spPr>
          <a:xfrm>
            <a:off x="13971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17 CuadroTexto"/>
          <p:cNvSpPr/>
          <p:nvPr/>
        </p:nvSpPr>
        <p:spPr>
          <a:xfrm>
            <a:off x="6683400" y="598500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8 CuadroTexto"/>
          <p:cNvSpPr/>
          <p:nvPr/>
        </p:nvSpPr>
        <p:spPr>
          <a:xfrm>
            <a:off x="6683400" y="6435720"/>
            <a:ext cx="2357280" cy="660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 d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19 CuadroTexto"/>
          <p:cNvSpPr/>
          <p:nvPr/>
        </p:nvSpPr>
        <p:spPr>
          <a:xfrm>
            <a:off x="6683400" y="691344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20 CuadroTexto"/>
          <p:cNvSpPr/>
          <p:nvPr/>
        </p:nvSpPr>
        <p:spPr>
          <a:xfrm>
            <a:off x="896760" y="605628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21 CuadroTexto"/>
          <p:cNvSpPr/>
          <p:nvPr/>
        </p:nvSpPr>
        <p:spPr>
          <a:xfrm>
            <a:off x="896760" y="650700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22 CuadroTexto"/>
          <p:cNvSpPr/>
          <p:nvPr/>
        </p:nvSpPr>
        <p:spPr>
          <a:xfrm>
            <a:off x="896760" y="697392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mo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23 Flecha abajo"/>
          <p:cNvSpPr/>
          <p:nvPr/>
        </p:nvSpPr>
        <p:spPr>
          <a:xfrm>
            <a:off x="1682640" y="5649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24 Flecha abajo"/>
          <p:cNvSpPr/>
          <p:nvPr/>
        </p:nvSpPr>
        <p:spPr>
          <a:xfrm>
            <a:off x="7254720" y="56498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7 CuadroTexto"/>
          <p:cNvSpPr/>
          <p:nvPr/>
        </p:nvSpPr>
        <p:spPr>
          <a:xfrm>
            <a:off x="3683160" y="219852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25 CuadroTexto"/>
          <p:cNvSpPr/>
          <p:nvPr/>
        </p:nvSpPr>
        <p:spPr>
          <a:xfrm>
            <a:off x="539640" y="851040"/>
            <a:ext cx="9215640" cy="60372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novar no tiene que ver con crear tecnología…sino con crear valo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ert  Nordberg, Sony Ericsson CEO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Algunas propuestas de valor conocida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Wal-Mart tiene como propuesta de valor a sus clientes, precios bajos y amplia variedad de product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ONY tiene como propuesta de valor productos de altísima calida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II tiene como propuesta de valor egresados destacados en el área de la gestió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El Club Deportivo Real Madrid tiene como propuesta de valor reunir en un equipo de fútbol a los mayores exponentes de este depor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Buscando los océanos azule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68400" y="1065240"/>
            <a:ext cx="6929280" cy="3405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540320" y="4637160"/>
            <a:ext cx="334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611520" y="4637160"/>
            <a:ext cx="1500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16A48-6BB0-4E64-8833-2F81DCFE2F1B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A modo de resumen…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82720" y="851040"/>
            <a:ext cx="685800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La Propuesta de Valor es una mezcla única de productos o servicios, beneficios o valores agregados que la institución ofrece a sus clientes, los cuales la hacen una oferta diferente y “oportuna” en el mercad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lementos de una Propuesta de Val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, necesidades y motivaciones d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del producto o servicio y sus 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stándares de Servicio ofrec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Precio y condiciones de 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Fuerza de ven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Canales de acceso a los servic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romoción y comunicaciones con 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ost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304920" y="1800360"/>
            <a:ext cx="2214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ctividad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4360" y="1065240"/>
            <a:ext cx="899316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En los equipos de trabajos desarrolle su propuesta de valor, identificando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li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ienes son?, ¿Dónde se ubican?, ¿Características principal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necesidades hemos detec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valoran nuestros client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ducto o servicio ofreci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ofrecemos realmente a nuestros client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podemos generarles?, ¿Qué necesidades satisface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uánto podemos cobr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Nego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genera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damos a cono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sustentaremos en el tiemp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04360" y="1767960"/>
            <a:ext cx="8993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30T04:11:27Z</dcterms:modified>
  <cp:revision>15</cp:revision>
  <dc:subject/>
  <dc:title>Diapositiva 1</dc:title>
</cp:coreProperties>
</file>