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22A76-4EC0-4B86-8E80-CAE88FC1C139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A444F-B796-49BB-817C-F8AFAE2833E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36538-6A0B-44E8-B00F-85F55848B01D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587-12BE-492A-B52F-AFF87AF2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E7F-FD40-4E25-9B13-8942EC63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A3D-8498-43CD-8DA0-0129F5F4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3FD-C513-4C8C-8BCA-981A0D6F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D0E9-5498-43F7-BACB-1FD7877A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6844-8390-4AF3-85D6-CD0ADDD5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F3B7-304B-4040-B853-893A415C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6F7-47A8-4A87-B095-6ED29ABF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18CD-75EC-4B2A-893C-A2F4BE14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2BA-3D99-4163-894A-D10B4201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EF28-DEC3-4E98-9BFA-3FE93C2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3DC-FA32-4DBF-A99A-52F5507F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FB08-E22A-4CFB-B05E-FA0683F0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EA89-4D3D-472C-A3F0-265D30BD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0D07-717B-4F48-A297-E32FF122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C632-0CF9-4777-887A-F27A5540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6455-405E-4A35-81C8-1FFC6B8F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7AC-155B-4603-A097-EABA5178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A2E-C8D5-4F6F-BBAA-D8C6A633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1EB-194D-40C7-99B8-89C09876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534-3DFA-4CE6-AB3C-F9C6FF6D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0E3-1FE4-46D6-A951-C8080EBB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603-9FED-4801-9CD4-E6BB4D9D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FE2-807D-4BFE-9A26-DEDB067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289BE7-516B-46CE-96D7-307D6B82B2CD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144311-689F-45B2-B050-04F7E79A1174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F1C9A-773C-4238-A8A3-CA19481A7FAB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3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ropuesta de Valo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4360" y="1136160"/>
            <a:ext cx="899316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¿ En qué se diferencias las siguientes empresas o productos de su competenci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825480" y="2279520"/>
            <a:ext cx="2143080" cy="107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040280" y="213660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183360" y="2065320"/>
            <a:ext cx="2214360" cy="1609920"/>
          </a:xfrm>
          <a:prstGeom prst="rect">
            <a:avLst/>
          </a:prstGeom>
          <a:ln w="0">
            <a:noFill/>
          </a:ln>
        </p:spPr>
      </p:pic>
      <p:sp>
        <p:nvSpPr>
          <p:cNvPr id="156" name="20 Rectángulo"/>
          <p:cNvSpPr/>
          <p:nvPr/>
        </p:nvSpPr>
        <p:spPr>
          <a:xfrm>
            <a:off x="611280" y="4708440"/>
            <a:ext cx="835812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ientarse al cliente no es hacer que el cliente se gire y nos mire, sino hacer que nuestra estructura se adapte a sus necesidade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lli-Pekka Kallasvuo, NOKIA CE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Desarrollo de un Proyecto de Ingeniería Industrial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4360" y="1207800"/>
            <a:ext cx="899316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eces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larar el quiebre que genera el “neg-ocio”. Pongan atención a los supuestos (paradigmas) consid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liente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omunidad de la cual ustedes se hacen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portun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Por qué es propicio desarrollar el “neg-ocio” a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reación de valor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esperado tras la implementación del “negoci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mbién visualicen los costos asociados a dicha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o y diseño de negocio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lecer, de manera clara, cuál es el mecanismo generador de valor (puede ser monetario, aumento en calidad de vid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ciones y Tendencia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se alinea el proyecto con las tendencias sociales, políticas, culturales, etc. en su ento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6 Elipse"/>
          <p:cNvSpPr/>
          <p:nvPr/>
        </p:nvSpPr>
        <p:spPr>
          <a:xfrm>
            <a:off x="396720" y="2922480"/>
            <a:ext cx="90014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15 Flecha circular"/>
          <p:cNvSpPr/>
          <p:nvPr/>
        </p:nvSpPr>
        <p:spPr>
          <a:xfrm rot="15751800">
            <a:off x="2288160" y="2003760"/>
            <a:ext cx="4722840" cy="5194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rrollo de una propuesta de valor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3 CuadroTexto"/>
          <p:cNvSpPr/>
          <p:nvPr/>
        </p:nvSpPr>
        <p:spPr>
          <a:xfrm>
            <a:off x="3540240" y="4078440"/>
            <a:ext cx="2286000" cy="801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Creación de val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4 CuadroTexto"/>
          <p:cNvSpPr/>
          <p:nvPr/>
        </p:nvSpPr>
        <p:spPr>
          <a:xfrm>
            <a:off x="6611760" y="16876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6611760" y="21160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6611760" y="255600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2 Flecha derecha"/>
          <p:cNvSpPr/>
          <p:nvPr/>
        </p:nvSpPr>
        <p:spPr>
          <a:xfrm>
            <a:off x="6040440" y="207792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6 Triángulo isósceles"/>
          <p:cNvSpPr/>
          <p:nvPr/>
        </p:nvSpPr>
        <p:spPr>
          <a:xfrm>
            <a:off x="2611440" y="2435400"/>
            <a:ext cx="4286160" cy="2928600"/>
          </a:xfrm>
          <a:prstGeom prst="triangle">
            <a:avLst>
              <a:gd name="adj" fmla="val 49333"/>
            </a:avLst>
          </a:prstGeom>
          <a:noFill/>
          <a:ln w="28440">
            <a:solidFill>
              <a:srgbClr val="40404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3 CuadroTexto"/>
          <p:cNvSpPr/>
          <p:nvPr/>
        </p:nvSpPr>
        <p:spPr>
          <a:xfrm>
            <a:off x="61833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4 CuadroTexto"/>
          <p:cNvSpPr/>
          <p:nvPr/>
        </p:nvSpPr>
        <p:spPr>
          <a:xfrm>
            <a:off x="13971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17 CuadroTexto"/>
          <p:cNvSpPr/>
          <p:nvPr/>
        </p:nvSpPr>
        <p:spPr>
          <a:xfrm>
            <a:off x="6683400" y="598500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8 CuadroTexto"/>
          <p:cNvSpPr/>
          <p:nvPr/>
        </p:nvSpPr>
        <p:spPr>
          <a:xfrm>
            <a:off x="6683400" y="6435720"/>
            <a:ext cx="2357280" cy="660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 d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19 CuadroTexto"/>
          <p:cNvSpPr/>
          <p:nvPr/>
        </p:nvSpPr>
        <p:spPr>
          <a:xfrm>
            <a:off x="6683400" y="691344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20 CuadroTexto"/>
          <p:cNvSpPr/>
          <p:nvPr/>
        </p:nvSpPr>
        <p:spPr>
          <a:xfrm>
            <a:off x="896760" y="605628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21 CuadroTexto"/>
          <p:cNvSpPr/>
          <p:nvPr/>
        </p:nvSpPr>
        <p:spPr>
          <a:xfrm>
            <a:off x="896760" y="650700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22 CuadroTexto"/>
          <p:cNvSpPr/>
          <p:nvPr/>
        </p:nvSpPr>
        <p:spPr>
          <a:xfrm>
            <a:off x="896760" y="697392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mo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23 Flecha abajo"/>
          <p:cNvSpPr/>
          <p:nvPr/>
        </p:nvSpPr>
        <p:spPr>
          <a:xfrm>
            <a:off x="1682640" y="5649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24 Flecha abajo"/>
          <p:cNvSpPr/>
          <p:nvPr/>
        </p:nvSpPr>
        <p:spPr>
          <a:xfrm>
            <a:off x="7254720" y="5649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7 CuadroTexto"/>
          <p:cNvSpPr/>
          <p:nvPr/>
        </p:nvSpPr>
        <p:spPr>
          <a:xfrm>
            <a:off x="3683160" y="219852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25 CuadroTexto"/>
          <p:cNvSpPr/>
          <p:nvPr/>
        </p:nvSpPr>
        <p:spPr>
          <a:xfrm>
            <a:off x="539640" y="851040"/>
            <a:ext cx="9215640" cy="6037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novar no tiene que ver con crear tecnología…sino con crear val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ert  Nordberg, Sony Ericsson CEO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Algunas propuestas de valor conocida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Wal-Mart tiene como propuesta de valor a sus clientes, precios bajos y amplia variedad de product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ONY tiene como propuesta de valor productos de altísima calida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II tiene como propuesta de valor egresados destacados en el área de la gestió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l Club Deportivo Real Madrid tiene como propuesta de valor reunir en un equipo de fútbol a los mayores exponentes de este depor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uscando los océanos azule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68400" y="1065240"/>
            <a:ext cx="6929280" cy="340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540320" y="4637160"/>
            <a:ext cx="334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611520" y="463716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B90DE-E9E6-4212-AF51-F742BD636407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A modo de resumen…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82720" y="851040"/>
            <a:ext cx="685800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La Propuesta de Valor es una mezcla única de productos o servicios, beneficios o valores agregados que la institución ofrece a sus clientes, los cuales la hacen una oferta diferente y “oportuna” en el merca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lementos de una Propuesta de Val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, necesidades y motivaciones d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del producto o servicio y sus 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stándares de Servicio ofrec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Precio y condiciones de 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Fuerza de v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Canales de acceso a los servic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romoción y comunicaciones con 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ost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4360" y="1065240"/>
            <a:ext cx="899316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n los equipos de trabajos desarrolle su propuesta de valor, identificando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li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ienes son?, ¿Dónde se ubican?, ¿Características principa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necesidades hemos detec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valoran nuestros client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ducto o servicio ofreci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ofrecemos realmente a nuestros client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podemos generarles?, ¿Qué necesidades satisface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uánto podemos cobr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eg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genera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damos a cono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sustentaremos en el tiemp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04360" y="1767960"/>
            <a:ext cx="8993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30T04:11:27Z</dcterms:modified>
  <cp:revision>15</cp:revision>
  <dc:subject/>
  <dc:title>Diapositiva 1</dc:title>
</cp:coreProperties>
</file>