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3880F-288C-4281-AD4C-3ABD254B735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4355-4290-46EB-BF48-FF6B18FAD4B8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E78D-C43F-4188-B114-70C4FEFA25D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24439-73BF-4E68-9AEA-C4901FCD00AE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F2E-1DD9-4A2C-8FEE-BE8DF3A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969-D7B5-4082-A1F5-F2688027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F2C-D4DD-4979-AA88-DAEE8A0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668-FF57-4F11-A0FF-140AE92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5F54-2CF8-4A94-A55A-70E3FCB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57C4-F71E-43AF-8D78-4C7CB493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DD7F-CF47-4F02-9D55-5AF76D2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D32B-F6DF-44BB-9E7D-38DA2C6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7599-1487-4F85-A256-743CAD76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0482-BE55-46B8-AF82-219C7D1D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F44A-6A7B-4B1F-8839-CE34ED2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4FB-90B6-41B4-AA92-A3BA578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252-3A57-4810-BBF9-DFACE11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E751-C508-45CE-A1DF-0A7C93C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0ED1-7C9A-48E5-A9AE-A9BEAC4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7E4F-B582-453D-A6EB-F5C24723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B6D-2D38-45B0-9040-466EF29E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638-ECAD-457D-B3AB-CCC89C0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735-8042-42BD-A298-112B1C8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AC1-06CD-4984-AC35-16ED010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D8D-6D51-4B8A-9783-D6F8441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C64-508C-490A-9298-8D0A63D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076-EAB3-4A6E-BEDA-2A00230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38E-92A3-47B8-983A-3404E22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2BCB2-2B42-41EC-873A-DE790B9B2FB7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2D444D-BE81-4DBB-AFF4-288C288B0C5C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untogov.com/res/Image/agenda.jpg&amp;imgrefurl=http://www.puntogov.com/UltimasNoticias.asp%3FidSeccion%3D%26Pagina%3D12&amp;usg=__HVZa5xoR9KBkpl-GQuObdCdaptc=&amp;h=294&amp;w=397&amp;sz=13&amp;hl=es&amp;start=3&amp;sig2=hISmsp7EeCbXW5ItqtI6rQ&amp;um=1&amp;tbnid=oczM06AiIgruNM:&amp;tbnh=92&amp;tbnw=124&amp;prev=/images%3Fq%3Dagenda%26hl%3Des%26sa%3DN%26um%3D1&amp;ei=dzOHSs62KNTtlAeh-oSXA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ECD01-FFD5-4B0C-9FB2-3DCD4E6E7FA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25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Reglas del Jue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Módulo de Innovación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55A38-586B-4706-9F85-21422D0E2C0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genda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9 CuadroTexto"/>
          <p:cNvSpPr/>
          <p:nvPr/>
        </p:nvSpPr>
        <p:spPr>
          <a:xfrm>
            <a:off x="825480" y="1351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s del presente módul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odología pedagógica de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gables sem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guntas y co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tbn0.google.com/images?q=tbn:oczM06AiIgruNM:http://www.puntogov.com/res/Image/agen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4560" y="3137040"/>
            <a:ext cx="404028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Objetivos del presente módulo de trabaj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2 CuadroTexto"/>
          <p:cNvSpPr/>
          <p:nvPr/>
        </p:nvSpPr>
        <p:spPr>
          <a:xfrm>
            <a:off x="896760" y="1636560"/>
            <a:ext cx="8072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finalizar este módulo, el alumno será capaz 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r en la concepción y diseño de un proyecto de innovación en un ambiente colaborativ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ender la innovación dentro de las labores habituales de un 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ar una mirada crítica durante las fases de concepción y diseño de productos o servic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r e integrar los conocimientos adquiridos durante la carrera, como una herramienta de apoyo a la innovación y emprend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1FE48-50C5-4DD9-81A7-805987473771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etodología pedagógica de aprendizaje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9 CuadroTexto"/>
          <p:cNvSpPr/>
          <p:nvPr/>
        </p:nvSpPr>
        <p:spPr>
          <a:xfrm>
            <a:off x="825480" y="9223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 (AB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la renovación curricular de la FCF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signif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ilita el desarrollo de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 de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Enseñanza y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swe-sc.org/WOW/CIMG6041.jpg"/>
          <p:cNvPicPr/>
          <p:nvPr/>
        </p:nvPicPr>
        <p:blipFill>
          <a:blip r:embed="rId1"/>
          <a:stretch/>
        </p:blipFill>
        <p:spPr>
          <a:xfrm>
            <a:off x="7112160" y="163656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rosolva.org/spip/local/cache-vignettes/L440xH283/1_experimental_en_1-c1ffb.jpg"/>
          <p:cNvPicPr/>
          <p:nvPr/>
        </p:nvPicPr>
        <p:blipFill>
          <a:blip r:embed="rId2"/>
          <a:stretch/>
        </p:blipFill>
        <p:spPr>
          <a:xfrm>
            <a:off x="1897200" y="4040280"/>
            <a:ext cx="51195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valuacion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9 CuadroTexto"/>
          <p:cNvSpPr/>
          <p:nvPr/>
        </p:nvSpPr>
        <p:spPr>
          <a:xfrm>
            <a:off x="825480" y="922320"/>
            <a:ext cx="76438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ales aspectos a ser evalu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vances semanales de trabajo (45%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y presentaciones de cierre del módulo (35%)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intragrupos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istencia y puntualidad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lista se pasará a las 8:30 y se retirará a las  8:3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os atrasos cuentan como inasis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s inasistencias en el segundo módulo son evaluadas por cada equip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tbn1.google.com/images?q=tbn:B_R1E5n0NhLcAM:http://www.nqtraining.co.za/shop/images/uploads/Qualifications.jpg"/>
          <p:cNvPicPr/>
          <p:nvPr/>
        </p:nvPicPr>
        <p:blipFill>
          <a:blip r:embed="rId1"/>
          <a:stretch/>
        </p:blipFill>
        <p:spPr>
          <a:xfrm>
            <a:off x="7969320" y="636480"/>
            <a:ext cx="157140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4 CuadroTexto"/>
          <p:cNvSpPr/>
          <p:nvPr/>
        </p:nvSpPr>
        <p:spPr>
          <a:xfrm>
            <a:off x="825480" y="5872320"/>
            <a:ext cx="6786720" cy="113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Ayudantes del curso son los encargados de evaluar el trabajo de los equipos semana a seman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ntregables semanal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9 CuadroTexto"/>
          <p:cNvSpPr/>
          <p:nvPr/>
        </p:nvSpPr>
        <p:spPr>
          <a:xfrm>
            <a:off x="825480" y="92232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uración del módulo es de seis semanas, en las cuales se debe entregar los siguientes reportes de avan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dentificación del quiebre y oportunidad de negocio detec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miércoles 02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lientes y propuesta de va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09 de septiem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3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imera versión del Diseño 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23 de septie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4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trega final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30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 se incorporará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ntaciones de avance del proyecto oblig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Preguntas y comentario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4611600" y="4637160"/>
            <a:ext cx="4500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uchas graci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www.3dissue.com/questions.jpg"/>
          <p:cNvPicPr/>
          <p:nvPr/>
        </p:nvPicPr>
        <p:blipFill>
          <a:blip r:embed="rId1"/>
          <a:stretch/>
        </p:blipFill>
        <p:spPr>
          <a:xfrm>
            <a:off x="5397480" y="12081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17T20:09:45Z</dcterms:modified>
  <cp:revision>43</cp:revision>
  <dc:subject/>
  <dc:title>Diapositiva 1</dc:title>
</cp:coreProperties>
</file>