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DA1FE-8594-4224-8459-F097F9D06A1A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55B0E-E04C-4D17-ADB6-73085ABE2713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5D735-6DF4-4591-943A-E823DD1E4D8C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06640" y="812880"/>
            <a:ext cx="5271840" cy="39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F0B5F-1659-4B69-A9B5-5DD5D49C0B73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06640" y="812880"/>
            <a:ext cx="5271840" cy="39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101-B48E-4DE1-BE30-88B2E7D6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07F9-4FF8-4FC1-BAD8-B279EC9F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279-E4BF-406F-875B-317AB5E0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1BA-6B57-4299-9FFE-4A512DD6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6616-861B-47E9-B730-5B59BAD4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BB7B-BA01-40AA-B1BF-894B538C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05B6-638B-471B-B7D5-92EE925C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B751-6F19-43EA-9ECF-E922A39F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BE0C-45E5-4E1E-9419-9F2161DF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1BDF-AB84-4B37-BC18-37333EF3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4132-C041-489F-9FD2-03D39436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A20-3194-4664-BF55-3149FF6F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201B-F546-48F6-B9E6-5D8DE0DE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6FA5-9198-479A-8AA5-BDE91F11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4F4C-E2C9-45DE-883B-45A87685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0130-A91B-45D1-A995-9CDF50F2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981C-4C15-47B9-B6A6-FB04571D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4EA-B91F-4FF9-BC6B-1E6468C3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5BF-E163-4687-8DF3-512619BC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290-CBD3-4CED-94FE-B3209CCB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ED4-E414-4FBA-ADF2-40CC2CBA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608A-FC8F-4DCD-B46C-7726E074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8F9-C561-4D97-A2AB-360BD269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EF7-BFBD-4910-B0D3-9D765A1D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EBE45D-4EC7-45E5-930A-29903FC738CD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C1D31B-76CB-40B7-A46B-C3A6A5734451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puntogov.com/res/Image/agenda.jpg&amp;imgrefurl=http://www.puntogov.com/UltimasNoticias.asp%3FidSeccion%3D%26Pagina%3D12&amp;usg=__HVZa5xoR9KBkpl-GQuObdCdaptc=&amp;h=294&amp;w=397&amp;sz=13&amp;hl=es&amp;start=3&amp;sig2=hISmsp7EeCbXW5ItqtI6rQ&amp;um=1&amp;tbnid=oczM06AiIgruNM:&amp;tbnh=92&amp;tbnw=124&amp;prev=/images%3Fq%3Dagenda%26hl%3Des%26sa%3DN%26um%3D1&amp;ei=dzOHSs62KNTtlAeh-oSXA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1E44A-2DD5-4139-83C1-A9A1F64D787E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2500" spc="-1" strike="noStrike">
                <a:solidFill>
                  <a:srgbClr val="000080"/>
                </a:solidFill>
                <a:latin typeface="Times New Roman"/>
              </a:rPr>
              <a:t>Clase Auxilia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Reglas del Jueg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Módulo de Innovación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055E0-791B-4282-8CCC-EC5487C522B3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360" y="93600"/>
            <a:ext cx="899820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Agenda.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9 CuadroTexto"/>
          <p:cNvSpPr/>
          <p:nvPr/>
        </p:nvSpPr>
        <p:spPr>
          <a:xfrm>
            <a:off x="825480" y="1351080"/>
            <a:ext cx="764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bjetivos del presente módulo de trabaj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todología pedagógica de aprendiz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regables sema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guntas y comen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http://tbn0.google.com/images?q=tbn:oczM06AiIgruNM:http://www.puntogov.com/res/Image/agend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4560" y="3137040"/>
            <a:ext cx="4040280" cy="29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Objetivos del presente módulo de trabajo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6" name="2 CuadroTexto"/>
          <p:cNvSpPr/>
          <p:nvPr/>
        </p:nvSpPr>
        <p:spPr>
          <a:xfrm>
            <a:off x="896760" y="1636560"/>
            <a:ext cx="8072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 finalizar este módulo, el alumno será capaz d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ticipar en la concepción y diseño de un proyecto de innovación en un ambiente colaborativo de trabaj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render la innovación dentro de las labores habituales de un IC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arrollar una mirada crítica durante las fases de concepción y diseño de productos o servic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licar e integrar los conocimientos adquiridos durante la carrera, como una herramienta de apoyo a la innovación y emprendimien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21820-44BC-4A21-A9E2-3A8EE467D028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360" y="93600"/>
            <a:ext cx="899820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etodología pedagógica de aprendizaje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9 CuadroTexto"/>
          <p:cNvSpPr/>
          <p:nvPr/>
        </p:nvSpPr>
        <p:spPr>
          <a:xfrm>
            <a:off x="825480" y="922320"/>
            <a:ext cx="7643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basado en proyecto (AB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herente con la renovación curricular de la FCF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significa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cilita el desarrollo de compet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gración de conoc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clo de Enseñanza y Aprendiz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http://www.swe-sc.org/WOW/CIMG6041.jpg"/>
          <p:cNvPicPr/>
          <p:nvPr/>
        </p:nvPicPr>
        <p:blipFill>
          <a:blip r:embed="rId1"/>
          <a:stretch/>
        </p:blipFill>
        <p:spPr>
          <a:xfrm>
            <a:off x="7112160" y="163656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ttp://www.prosolva.org/spip/local/cache-vignettes/L440xH283/1_experimental_en_1-c1ffb.jpg"/>
          <p:cNvPicPr/>
          <p:nvPr/>
        </p:nvPicPr>
        <p:blipFill>
          <a:blip r:embed="rId2"/>
          <a:stretch/>
        </p:blipFill>
        <p:spPr>
          <a:xfrm>
            <a:off x="1897200" y="4040280"/>
            <a:ext cx="511956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valuaciones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9 CuadroTexto"/>
          <p:cNvSpPr/>
          <p:nvPr/>
        </p:nvSpPr>
        <p:spPr>
          <a:xfrm>
            <a:off x="825480" y="922320"/>
            <a:ext cx="76438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ncipales aspectos a ser evaluad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vances semanales de trabajo (45%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formes y presentaciones de cierre del módulo (35%).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ón intragrupos (10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sistencia y puntualidad (10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DejaVu Sans"/>
              </a:rPr>
              <a:t>La lista se pasará a las 8:30 y se retirará a las  8:3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DejaVu Sans"/>
              </a:rPr>
              <a:t>Los atrasos cuentan como inasist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DejaVu Sans"/>
              </a:rPr>
              <a:t>Las inasistencias en el segundo módulo son evaluadas por cada equipo de trabaj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http://tbn1.google.com/images?q=tbn:B_R1E5n0NhLcAM:http://www.nqtraining.co.za/shop/images/uploads/Qualifications.jpg"/>
          <p:cNvPicPr/>
          <p:nvPr/>
        </p:nvPicPr>
        <p:blipFill>
          <a:blip r:embed="rId1"/>
          <a:stretch/>
        </p:blipFill>
        <p:spPr>
          <a:xfrm>
            <a:off x="7969320" y="636480"/>
            <a:ext cx="1571400" cy="1449360"/>
          </a:xfrm>
          <a:prstGeom prst="rect">
            <a:avLst/>
          </a:prstGeom>
          <a:ln w="0">
            <a:noFill/>
          </a:ln>
        </p:spPr>
      </p:pic>
      <p:sp>
        <p:nvSpPr>
          <p:cNvPr id="165" name="4 CuadroTexto"/>
          <p:cNvSpPr/>
          <p:nvPr/>
        </p:nvSpPr>
        <p:spPr>
          <a:xfrm>
            <a:off x="825480" y="5872320"/>
            <a:ext cx="6786720" cy="113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os Ayudantes del curso son los encargados de evaluar el trabajo de los equipos semana a semana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ntregables semanales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7" name="9 CuadroTexto"/>
          <p:cNvSpPr/>
          <p:nvPr/>
        </p:nvSpPr>
        <p:spPr>
          <a:xfrm>
            <a:off x="825480" y="922320"/>
            <a:ext cx="85010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duración del módulo es de seis semanas, en las cuales se debe entregar los siguientes reportes de avanc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1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Identificación del quiebre y oportunidad de negocio detect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miércoles 02 de septiemb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Clientes y propuesta de val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09 de septiemb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3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Primera versión del Diseño lóg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23 de septiemb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4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Entrega final de proy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30 de septiemb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emás se incorporará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sentaciones de avance del proyecto obligato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Preguntas y comentarios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1 Título"/>
          <p:cNvSpPr/>
          <p:nvPr/>
        </p:nvSpPr>
        <p:spPr>
          <a:xfrm>
            <a:off x="4611600" y="4637160"/>
            <a:ext cx="4500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uchas gracia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http://www.3dissue.com/questions.jpg"/>
          <p:cNvPicPr/>
          <p:nvPr/>
        </p:nvPicPr>
        <p:blipFill>
          <a:blip r:embed="rId1"/>
          <a:stretch/>
        </p:blipFill>
        <p:spPr>
          <a:xfrm>
            <a:off x="5397480" y="120816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08-17T20:09:45Z</dcterms:modified>
  <cp:revision>43</cp:revision>
  <dc:subject/>
  <dc:title>Diapositiva 1</dc:title>
</cp:coreProperties>
</file>