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8EFD4-243C-472C-BBF4-4DC6A02D080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1A5D-5774-4490-9FFF-16425E080AB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3ED5B-D310-429B-95F0-E2D21277621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0DEE0-FA8F-4DAF-BA7A-504A640692EB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44F-7A8A-4A2C-B640-044DA8C8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2AE-8804-4E5F-A42D-2F54C663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7F4-5437-47C0-8046-BF86C755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4F0-89C9-4FAF-AA11-E8CCAD63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0508-CF7E-48AD-8C15-D57E78A0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30E-05EE-4236-9B0B-EA33D219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7BFF-0443-49A3-8093-6784A53C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358-358F-49EF-9EF3-1963EDDF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AF4-35BD-46A9-96D2-59910A0E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D5CA-149D-4FDA-ACEB-D64CCD5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3FF3-337A-4DC8-BB59-0107A28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5A3-E24E-4D72-BCDA-7092961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702E-96F8-46AD-A9F0-2C9590B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3CA-380A-43AF-BF1A-2D7DF9A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3F34-435B-4783-8B91-606F0AB5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230A-616E-4CB4-A64A-5028C425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BF1-83F6-4628-89DF-30C3912C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F50-60E5-4EC3-8CF7-1C8C0D7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57F-D78C-4726-B1A8-4CAED350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DB6-46EC-4BA8-8329-8F22E931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8AC-F906-4705-A8E9-F631CA4E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193-F69F-40CC-A38D-71A10DA0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DB5-5E2A-4D8F-B416-4864079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609-6C32-4DDF-B473-B9E8D77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2FCD5E-BEF2-42C9-970F-D9303FA76B9D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8C2E14-11A5-4FB4-A5D1-5F3C765ED63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puntogov.com/res/Image/agenda.jpg&amp;imgrefurl=http://www.puntogov.com/UltimasNoticias.asp%3FidSeccion%3D%26Pagina%3D12&amp;usg=__HVZa5xoR9KBkpl-GQuObdCdaptc=&amp;h=294&amp;w=397&amp;sz=13&amp;hl=es&amp;start=3&amp;sig2=hISmsp7EeCbXW5ItqtI6rQ&amp;um=1&amp;tbnid=oczM06AiIgruNM:&amp;tbnh=92&amp;tbnw=124&amp;prev=/images%3Fq%3Dagenda%26hl%3Des%26sa%3DN%26um%3D1&amp;ei=dzOHSs62KNTtlAeh-oSXA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1C7C-0688-4C24-800C-E670B7D18B93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2500" spc="-1" strike="noStrike">
                <a:solidFill>
                  <a:srgbClr val="000080"/>
                </a:solidFill>
                <a:latin typeface="Times New Roman"/>
              </a:rPr>
              <a:t>Clase Auxili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000" spc="-1" strike="noStrike">
                <a:solidFill>
                  <a:srgbClr val="000080"/>
                </a:solidFill>
                <a:latin typeface="Times New Roman"/>
              </a:rPr>
              <a:t>Reglas del Jue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Módulo de Innovación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903E8-38AA-4064-AE4B-18FF4C9898D3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Agenda.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9 CuadroTexto"/>
          <p:cNvSpPr/>
          <p:nvPr/>
        </p:nvSpPr>
        <p:spPr>
          <a:xfrm>
            <a:off x="825480" y="135108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s del presente módul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todología pedagógica de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gables sem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guntas y co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tbn0.google.com/images?q=tbn:oczM06AiIgruNM:http://www.puntogov.com/res/Image/agen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4560" y="3137040"/>
            <a:ext cx="4040280" cy="29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Objetivos del presente módulo de trabaj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2 CuadroTexto"/>
          <p:cNvSpPr/>
          <p:nvPr/>
        </p:nvSpPr>
        <p:spPr>
          <a:xfrm>
            <a:off x="896760" y="1636560"/>
            <a:ext cx="8072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finalizar este módulo, el alumno será capaz 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r en la concepción y diseño de un proyecto de innovación en un ambiente colaborativ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render la innovación dentro de las labores habituales de un 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ar una mirada crítica durante las fases de concepción y diseño de productos o servic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r e integrar los conocimientos adquiridos durante la carrera, como una herramienta de apoyo a la innovación y emprend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0B058-DF15-4430-8457-7CB600097BC7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etodología pedagógica de aprendizaje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9 CuadroTexto"/>
          <p:cNvSpPr/>
          <p:nvPr/>
        </p:nvSpPr>
        <p:spPr>
          <a:xfrm>
            <a:off x="825480" y="9223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basado en proyecto (AB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la renovación curricular de la FCF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significa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ilita el desarrollo de compet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gración de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de Enseñanza y Aprendiz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swe-sc.org/WOW/CIMG6041.jpg"/>
          <p:cNvPicPr/>
          <p:nvPr/>
        </p:nvPicPr>
        <p:blipFill>
          <a:blip r:embed="rId1"/>
          <a:stretch/>
        </p:blipFill>
        <p:spPr>
          <a:xfrm>
            <a:off x="7112160" y="163656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rosolva.org/spip/local/cache-vignettes/L440xH283/1_experimental_en_1-c1ffb.jpg"/>
          <p:cNvPicPr/>
          <p:nvPr/>
        </p:nvPicPr>
        <p:blipFill>
          <a:blip r:embed="rId2"/>
          <a:stretch/>
        </p:blipFill>
        <p:spPr>
          <a:xfrm>
            <a:off x="1897200" y="4040280"/>
            <a:ext cx="511956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valuacion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9 CuadroTexto"/>
          <p:cNvSpPr/>
          <p:nvPr/>
        </p:nvSpPr>
        <p:spPr>
          <a:xfrm>
            <a:off x="825480" y="922320"/>
            <a:ext cx="76438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ales aspectos a ser evaluad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vances semanales de trabajo (45%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formes y presentaciones de cierre del módulo (35%)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intragrupos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istencia y puntualidad (1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lista se pasará a las 8:30 y se retirará a las  8:3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os atrasos cuentan como inasis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s inasistencias en el segundo módulo son evaluadas por cada equipo de traba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tbn1.google.com/images?q=tbn:B_R1E5n0NhLcAM:http://www.nqtraining.co.za/shop/images/uploads/Qualifications.jpg"/>
          <p:cNvPicPr/>
          <p:nvPr/>
        </p:nvPicPr>
        <p:blipFill>
          <a:blip r:embed="rId1"/>
          <a:stretch/>
        </p:blipFill>
        <p:spPr>
          <a:xfrm>
            <a:off x="7969320" y="636480"/>
            <a:ext cx="1571400" cy="1449360"/>
          </a:xfrm>
          <a:prstGeom prst="rect">
            <a:avLst/>
          </a:prstGeom>
          <a:ln w="0">
            <a:noFill/>
          </a:ln>
        </p:spPr>
      </p:pic>
      <p:sp>
        <p:nvSpPr>
          <p:cNvPr id="165" name="4 CuadroTexto"/>
          <p:cNvSpPr/>
          <p:nvPr/>
        </p:nvSpPr>
        <p:spPr>
          <a:xfrm>
            <a:off x="825480" y="5872320"/>
            <a:ext cx="6786720" cy="113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Ayudantes del curso son los encargados de evaluar el trabajo de los equipos semana a seman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ntregables semanales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7" name="9 CuadroTexto"/>
          <p:cNvSpPr/>
          <p:nvPr/>
        </p:nvSpPr>
        <p:spPr>
          <a:xfrm>
            <a:off x="825480" y="922320"/>
            <a:ext cx="85010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duración del módulo es de seis semanas, en las cuales se debe entregar los siguientes reportes de avan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Identificación del quiebre y oportunidad de negocio detec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miércoles 02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Clientes y propuesta de val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09 de septiem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3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rimera versión del Diseño 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23 de septie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 4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trega final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Fecha de entrega: 30 de septiemb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 se incorporará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entaciones de avance del proyecto oblig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Preguntas y comentario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1 Título"/>
          <p:cNvSpPr/>
          <p:nvPr/>
        </p:nvSpPr>
        <p:spPr>
          <a:xfrm>
            <a:off x="4611600" y="4637160"/>
            <a:ext cx="45007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uchas gracia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www.3dissue.com/questions.jpg"/>
          <p:cNvPicPr/>
          <p:nvPr/>
        </p:nvPicPr>
        <p:blipFill>
          <a:blip r:embed="rId1"/>
          <a:stretch/>
        </p:blipFill>
        <p:spPr>
          <a:xfrm>
            <a:off x="5397480" y="12081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17T20:09:45Z</dcterms:modified>
  <cp:revision>43</cp:revision>
  <dc:subject/>
  <dc:title>Diapositiva 1</dc:title>
</cp:coreProperties>
</file>