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B0A53-F6CB-4C5B-BD86-389F06D3986B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AF9CF-4FED-4627-BD32-68C5A57FBD1C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679C8-8191-41FA-862F-F90DF9DA4C5C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106640" y="812880"/>
            <a:ext cx="5271840" cy="39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1C24F-9AFE-4718-9CF7-AA3941C2E692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106640" y="812880"/>
            <a:ext cx="5271840" cy="39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7F02-09A3-4FC3-9A84-2B5D06A0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0A16-D0BC-4457-963D-8DE1AC61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43F3-D9C1-4E05-B38C-F6587621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C1B-1D38-488C-ACC3-CFF0B650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8567-DE40-48AF-9EE0-4B0D9CD7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1FEF-D974-4913-BB7A-D054AFC1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E750-4785-46EB-AB00-24D51F96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FC1C-0C6F-4A86-A78E-D79B34C9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72E8-82F3-42F1-9A8C-E8BEA83E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D3DA-323A-424A-A1F6-1F37DA26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5C46-613B-4A0A-BFD3-074564DF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8F19-8890-41B6-8A18-552B4F54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0A4D-1F32-4A4B-A256-61756738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27CC-F200-4F09-BED6-CA8E13E6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B14A-66D7-47A5-A40A-9F78A792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70AB-E2A8-4F49-996A-B7BDDE15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3FAE-5B1D-41D6-86E1-A6C69C1A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90F-B651-411F-962D-3789BC2F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0F80-1E32-4C92-826A-4FE7EF0C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552-F8D9-416D-9567-CEC78F64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FB5-CFA4-4216-82C5-D5FF3E89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2C2-A237-4A73-BF1F-7A62EE00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9227-171D-4C8E-ADC4-0F15D001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F53-219A-466A-92D1-FA9CA8D1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EEF605-DBD1-48FE-91A0-F6AC483F998B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B2E6F0-D1F6-46A5-8F3E-B4019DB4E648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puntogov.com/res/Image/agenda.jpg&amp;imgrefurl=http://www.puntogov.com/UltimasNoticias.asp%3FidSeccion%3D%26Pagina%3D12&amp;usg=__HVZa5xoR9KBkpl-GQuObdCdaptc=&amp;h=294&amp;w=397&amp;sz=13&amp;hl=es&amp;start=3&amp;sig2=hISmsp7EeCbXW5ItqtI6rQ&amp;um=1&amp;tbnid=oczM06AiIgruNM:&amp;tbnh=92&amp;tbnw=124&amp;prev=/images%3Fq%3Dagenda%26hl%3Des%26sa%3DN%26um%3D1&amp;ei=dzOHSs62KNTtlAeh-oSXA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28C35-5E98-4FE6-9512-A7940B02C207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2500" spc="-1" strike="noStrike">
                <a:solidFill>
                  <a:srgbClr val="000080"/>
                </a:solidFill>
                <a:latin typeface="Times New Roman"/>
              </a:rPr>
              <a:t>Clase Auxilia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Reglas del Jueg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Módulo de Innovación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0FB3B-7803-4020-A53C-1153ECA7B071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360" y="93600"/>
            <a:ext cx="899820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Agenda.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" name="9 CuadroTexto"/>
          <p:cNvSpPr/>
          <p:nvPr/>
        </p:nvSpPr>
        <p:spPr>
          <a:xfrm>
            <a:off x="825480" y="1351080"/>
            <a:ext cx="764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bjetivos del presente módulo de trabaj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todología pedagógica de aprendiz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tregables sema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guntas y coment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http://tbn0.google.com/images?q=tbn:oczM06AiIgruNM:http://www.puntogov.com/res/Image/agend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4560" y="3137040"/>
            <a:ext cx="4040280" cy="29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Objetivos del presente módulo de trabajo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6" name="2 CuadroTexto"/>
          <p:cNvSpPr/>
          <p:nvPr/>
        </p:nvSpPr>
        <p:spPr>
          <a:xfrm>
            <a:off x="896760" y="1636560"/>
            <a:ext cx="8072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 finalizar este módulo, el alumno será capaz d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ticipar en la concepción y diseño de un proyecto de innovación en un ambiente colaborativo de trabaj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render la innovación dentro de las labores habituales de un IC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arrollar una mirada crítica durante las fases de concepción y diseño de productos o servic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licar e integrar los conocimientos adquiridos durante la carrera, como una herramienta de apoyo a la innovación y emprendimient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8619D-8E40-40BC-865F-C9A4F0B1AFFE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360" y="93600"/>
            <a:ext cx="899820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Metodología pedagógica de aprendizaje.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" name="9 CuadroTexto"/>
          <p:cNvSpPr/>
          <p:nvPr/>
        </p:nvSpPr>
        <p:spPr>
          <a:xfrm>
            <a:off x="825480" y="922320"/>
            <a:ext cx="76438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 basado en proyecto (AB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herente con la renovación curricular de la FCF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 significa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cilita el desarrollo de compet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gración de conoc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clo de Enseñanza y Aprendiz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http://www.swe-sc.org/WOW/CIMG6041.jpg"/>
          <p:cNvPicPr/>
          <p:nvPr/>
        </p:nvPicPr>
        <p:blipFill>
          <a:blip r:embed="rId1"/>
          <a:stretch/>
        </p:blipFill>
        <p:spPr>
          <a:xfrm>
            <a:off x="7112160" y="163656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http://www.prosolva.org/spip/local/cache-vignettes/L440xH283/1_experimental_en_1-c1ffb.jpg"/>
          <p:cNvPicPr/>
          <p:nvPr/>
        </p:nvPicPr>
        <p:blipFill>
          <a:blip r:embed="rId2"/>
          <a:stretch/>
        </p:blipFill>
        <p:spPr>
          <a:xfrm>
            <a:off x="1897200" y="4040280"/>
            <a:ext cx="511956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valuaciones.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3" name="9 CuadroTexto"/>
          <p:cNvSpPr/>
          <p:nvPr/>
        </p:nvSpPr>
        <p:spPr>
          <a:xfrm>
            <a:off x="825480" y="922320"/>
            <a:ext cx="76438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ncipales aspectos a ser evaluad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vances semanales de trabajo (45%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formes y presentaciones de cierre del módulo (35%).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ón intragrupos (10%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sistencia y puntualidad (10%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DejaVu Sans"/>
              </a:rPr>
              <a:t>La lista se pasará a las 8:30 y se retirará a las  8:3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DejaVu Sans"/>
              </a:rPr>
              <a:t>Los atrasos cuentan como inasiste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DejaVu Sans"/>
              </a:rPr>
              <a:t>Las inasistencias en el segundo módulo son evaluadas por cada equipo de trabaj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http://tbn1.google.com/images?q=tbn:B_R1E5n0NhLcAM:http://www.nqtraining.co.za/shop/images/uploads/Qualifications.jpg"/>
          <p:cNvPicPr/>
          <p:nvPr/>
        </p:nvPicPr>
        <p:blipFill>
          <a:blip r:embed="rId1"/>
          <a:stretch/>
        </p:blipFill>
        <p:spPr>
          <a:xfrm>
            <a:off x="7969320" y="636480"/>
            <a:ext cx="1571400" cy="1449360"/>
          </a:xfrm>
          <a:prstGeom prst="rect">
            <a:avLst/>
          </a:prstGeom>
          <a:ln w="0">
            <a:noFill/>
          </a:ln>
        </p:spPr>
      </p:pic>
      <p:sp>
        <p:nvSpPr>
          <p:cNvPr id="165" name="4 CuadroTexto"/>
          <p:cNvSpPr/>
          <p:nvPr/>
        </p:nvSpPr>
        <p:spPr>
          <a:xfrm>
            <a:off x="825480" y="5872320"/>
            <a:ext cx="6786720" cy="113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os Ayudantes del curso son los encargados de evaluar el trabajo de los equipos semana a semana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ntregables semanales.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7" name="9 CuadroTexto"/>
          <p:cNvSpPr/>
          <p:nvPr/>
        </p:nvSpPr>
        <p:spPr>
          <a:xfrm>
            <a:off x="825480" y="922320"/>
            <a:ext cx="85010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duración del módulo es de seis semanas, en las cuales se debe entregar los siguientes reportes de avanc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 1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Identificación del quiebre y oportunidad de negocio detect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echa de entrega: miércoles 02 de septiemb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Clientes y propuesta de val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echa de entrega: 09 de septiemb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 3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Primera versión del Diseño lóg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echa de entrega: 23 de septiemb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 4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Entrega final de proy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echa de entrega: 30 de septiemb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demás se incorporará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sentaciones de avance del proyecto obligato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Preguntas y comentarios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1 Título"/>
          <p:cNvSpPr/>
          <p:nvPr/>
        </p:nvSpPr>
        <p:spPr>
          <a:xfrm>
            <a:off x="4611600" y="4637160"/>
            <a:ext cx="45007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Muchas gracia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http://www.3dissue.com/questions.jpg"/>
          <p:cNvPicPr/>
          <p:nvPr/>
        </p:nvPicPr>
        <p:blipFill>
          <a:blip r:embed="rId1"/>
          <a:stretch/>
        </p:blipFill>
        <p:spPr>
          <a:xfrm>
            <a:off x="5397480" y="120816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09-08-17T20:09:45Z</dcterms:modified>
  <cp:revision>43</cp:revision>
  <dc:subject/>
  <dc:title>Diapositiva 1</dc:title>
</cp:coreProperties>
</file>