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8F16B-DF2E-45B5-AA5A-09427E36543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D02AA-3576-4DEF-B3A6-AC6913B3A4A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229EF-8349-4AA5-A1FB-E36DBE8ECE3F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5D1F6-FDC8-4ACF-B451-4E01DAA9718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F11-CEC5-465C-8710-5A8582CC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D3D-F9A5-45AB-AA51-3056B45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E49-A3B5-4FEE-9257-B465AAF8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14D-83B5-460C-B066-43CE3508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96AD-349D-46F7-93E9-523B283B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315-2FC0-41E0-84FF-1D141320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328-B41D-4434-A712-E024DCB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810C-A7D3-427F-8DDA-00D5EF2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9A09-4BF4-4FF1-9A74-8942826F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4650-F7F6-4879-B04F-5E589354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4BC7-929C-4197-A744-6E07898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889-D2BD-4137-8482-750BB9E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168A-C51E-4BD7-9311-A9E205C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37A-3493-48F9-8808-6FC6986C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BA10-FB08-4B79-A3DD-9DCE9898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C51E-DE50-4BE0-B618-05653368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BE27-8893-4669-BC38-84E9F929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4EC-8DF0-4937-B806-EEC2B8B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C2B-82FD-4406-83DB-606BD061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AA3-FDB3-4C78-87D3-3E5D4DD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299-6588-4715-A632-56383F05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3F4-C7D6-452C-8AD7-94CE10C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84C-9DCB-40B8-958C-57540BA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DF7-D5DD-4BAF-A854-7629DE11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799E49-34E1-497C-93EF-572ACC0BA161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B930C2-0258-4692-8BEA-83F6B6FFCCB9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untogov.com/res/Image/agenda.jpg&amp;imgrefurl=http://www.puntogov.com/UltimasNoticias.asp%3FidSeccion%3D%26Pagina%3D12&amp;usg=__HVZa5xoR9KBkpl-GQuObdCdaptc=&amp;h=294&amp;w=397&amp;sz=13&amp;hl=es&amp;start=3&amp;sig2=hISmsp7EeCbXW5ItqtI6rQ&amp;um=1&amp;tbnid=oczM06AiIgruNM:&amp;tbnh=92&amp;tbnw=124&amp;prev=/images%3Fq%3Dagenda%26hl%3Des%26sa%3DN%26um%3D1&amp;ei=dzOHSs62KNTtlAeh-oSXA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52880-91A1-48B9-AF28-3956F85DE5DC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25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Reglas del Jue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Módulo de Innovación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03C8B-FBE2-4F61-ABDF-D25E78734F0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genda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9 CuadroTexto"/>
          <p:cNvSpPr/>
          <p:nvPr/>
        </p:nvSpPr>
        <p:spPr>
          <a:xfrm>
            <a:off x="825480" y="1351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s del presente módul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todología pedagógica de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gables sem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guntas y co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tbn0.google.com/images?q=tbn:oczM06AiIgruNM:http://www.puntogov.com/res/Image/agen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4560" y="3137040"/>
            <a:ext cx="404028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Objetivos del presente módulo de trabaj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2 CuadroTexto"/>
          <p:cNvSpPr/>
          <p:nvPr/>
        </p:nvSpPr>
        <p:spPr>
          <a:xfrm>
            <a:off x="896760" y="1636560"/>
            <a:ext cx="8072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finalizar este módulo, el alumno será capaz 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r en la concepción y diseño de un proyecto de innovación en un ambiente colaborativ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ender la innovación dentro de las labores habituales de un 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ar una mirada crítica durante las fases de concepción y diseño de productos o servic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r e integrar los conocimientos adquiridos durante la carrera, como una herramienta de apoyo a la innovación y emprend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9D25-2D99-42FF-A59A-DB837DF4A58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etodología pedagógica de aprendizaje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9 CuadroTexto"/>
          <p:cNvSpPr/>
          <p:nvPr/>
        </p:nvSpPr>
        <p:spPr>
          <a:xfrm>
            <a:off x="825480" y="9223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basado en proyecto (AB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la renovación curricular de la FCF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signif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ilita el desarrollo de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gración de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de Enseñanza y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swe-sc.org/WOW/CIMG6041.jpg"/>
          <p:cNvPicPr/>
          <p:nvPr/>
        </p:nvPicPr>
        <p:blipFill>
          <a:blip r:embed="rId1"/>
          <a:stretch/>
        </p:blipFill>
        <p:spPr>
          <a:xfrm>
            <a:off x="7112160" y="163656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rosolva.org/spip/local/cache-vignettes/L440xH283/1_experimental_en_1-c1ffb.jpg"/>
          <p:cNvPicPr/>
          <p:nvPr/>
        </p:nvPicPr>
        <p:blipFill>
          <a:blip r:embed="rId2"/>
          <a:stretch/>
        </p:blipFill>
        <p:spPr>
          <a:xfrm>
            <a:off x="1897200" y="4040280"/>
            <a:ext cx="51195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valuacion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9 CuadroTexto"/>
          <p:cNvSpPr/>
          <p:nvPr/>
        </p:nvSpPr>
        <p:spPr>
          <a:xfrm>
            <a:off x="825480" y="922320"/>
            <a:ext cx="76438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ales aspectos a ser evalu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vances semanales de trabajo (45%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s y presentaciones de cierre del módulo (35%)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intragrupos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istencia y puntualidad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lista se pasará a las 8:30 y se retirará a las  8:3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os atrasos cuentan como inasis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s inasistencias en el segundo módulo son evaluadas por cada equip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tbn1.google.com/images?q=tbn:B_R1E5n0NhLcAM:http://www.nqtraining.co.za/shop/images/uploads/Qualifications.jpg"/>
          <p:cNvPicPr/>
          <p:nvPr/>
        </p:nvPicPr>
        <p:blipFill>
          <a:blip r:embed="rId1"/>
          <a:stretch/>
        </p:blipFill>
        <p:spPr>
          <a:xfrm>
            <a:off x="7969320" y="636480"/>
            <a:ext cx="157140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4 CuadroTexto"/>
          <p:cNvSpPr/>
          <p:nvPr/>
        </p:nvSpPr>
        <p:spPr>
          <a:xfrm>
            <a:off x="825480" y="5872320"/>
            <a:ext cx="6786720" cy="113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Ayudantes del curso son los encargados de evaluar el trabajo de los equipos semana a seman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ntregables semanal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9 CuadroTexto"/>
          <p:cNvSpPr/>
          <p:nvPr/>
        </p:nvSpPr>
        <p:spPr>
          <a:xfrm>
            <a:off x="825480" y="92232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uración del módulo es de seis semanas, en las cuales se debe entregar los siguientes reportes de avan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Identificación del quiebre y oportunidad de negocio detec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miércoles 02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lientes y propuesta de va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09 de septiem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3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imera versión del Diseño 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23 de septie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4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trega final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30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 se incorporará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entaciones de avance del proyecto oblig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Preguntas y comentario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1 Título"/>
          <p:cNvSpPr/>
          <p:nvPr/>
        </p:nvSpPr>
        <p:spPr>
          <a:xfrm>
            <a:off x="4611600" y="4637160"/>
            <a:ext cx="4500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uchas graci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www.3dissue.com/questions.jpg"/>
          <p:cNvPicPr/>
          <p:nvPr/>
        </p:nvPicPr>
        <p:blipFill>
          <a:blip r:embed="rId1"/>
          <a:stretch/>
        </p:blipFill>
        <p:spPr>
          <a:xfrm>
            <a:off x="5397480" y="12081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17T20:09:45Z</dcterms:modified>
  <cp:revision>43</cp:revision>
  <dc:subject/>
  <dc:title>Diapositiva 1</dc:title>
</cp:coreProperties>
</file>