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E96BD-96D0-446D-8473-50EF9DBD4A4C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C4CF1-5F35-4EEF-9AC6-A0E14C7CC4C1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854AF-D93C-47CB-9BCD-55AE169068B6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9334C-23A3-4109-B167-67BB822C8C12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19240" y="812880"/>
            <a:ext cx="5243400" cy="3932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71D77-EBFB-46B7-B2BC-420C4BBD15AA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19240" y="812880"/>
            <a:ext cx="5243400" cy="3932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204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2AFF9-C8FD-4CDF-8FF0-D578C474B387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06640" y="812880"/>
            <a:ext cx="5284800" cy="39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596ED-41F8-4E88-9319-816B23C538BB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05C29-C810-43EA-A3E0-0730108D452B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06640" y="812880"/>
            <a:ext cx="52704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2A0D1-CFE3-4B64-B94A-29F32CA5CB86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06640" y="812880"/>
            <a:ext cx="5276520" cy="394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0F7E5-4AD2-4105-AD12-B5AD26E71C93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35A74-F137-4EAB-841C-E3D58ACEDCEF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6B3E1-8213-44C4-9354-5281CA44A4F5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A2481-B4BB-461A-980F-4E9E2695C1DD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106640" y="812880"/>
            <a:ext cx="52704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B8918-6ADB-4A68-9367-2FA3620140B9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106640" y="812880"/>
            <a:ext cx="52704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106-47C8-414F-B9FA-21E1426D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8BF-2627-4CEE-8D16-7F8127F9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C37-0EA8-4A22-81A8-0462F320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78D-A2E2-4639-8978-CABBDEE4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B1DA-1AF1-40C8-BF50-CD5ED81B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B2F9-B833-4E9B-87DF-4DCF5BF9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0B32-27F2-4808-AD04-B9F62CF3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9023-904D-4062-A8EC-B704BB4D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3F7C-FE26-4C12-A260-F158C5EF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CBEA-FF32-49D6-8CAA-52FBE2AA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8CD4-2221-47F3-88A7-6870545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F7A-FD0B-45DB-9717-BF174CED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C6F4-0639-4F3F-810F-ECA20803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8B95-BC1E-42A3-A244-BCE2F48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5BC6-BCA2-4A9D-BA55-A2E4BDE2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A6CC-188D-4265-A80F-B342E4DA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936D-5E71-452E-971F-92ECD4F5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864-E35B-4969-9D5C-08332BC6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1D2-B176-414C-BFFB-97876C89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FC0-00FF-4E6B-BAA0-C731869B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969-C330-41F0-AE51-1CE37E67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3A5-010D-4880-AD13-F6547D21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3B5-AAE2-42DE-AE42-94F55EDE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F17-C4EE-4A30-A1B7-81067B4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54AE69-76E9-4663-A697-47326E538140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A81725-1FE5-48C8-A532-DACD18CF89D7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9C4B2-9B40-40D6-A14C-C411D661928D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aradigmas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C4BFB-3B73-42EB-B6BD-1D0BEC63DE29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396720" y="36036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E6F5A-6714-44D0-B583-B336C34DC6C7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49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El rol de los paradigmas dentro de una organización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879280" y="829800"/>
            <a:ext cx="6659640" cy="70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Viñas San Pedro S.A. ha sido la empresa productora de vinos de alta calidad más reconocida de Chile en los últimos 10 año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Actualmente y gracias a los TLC exportar vinos a Asia es un excelente negocio, ya que es un mercado nuevo e incipient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Su Gerente General, Don Gustavo Albano (nieto del fundador de la empresa), ha guiado el rumbo de Viñas San Pedro durante los últimos 45 años con muy buenos resultados pero sólo a nivel nacional, es por ello, que el Directorio ha solicitado un nuevo Gerente General (con mayores competencias) para guiar a la empresa en esta etapa de internacionaliz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En la última sesión de Directorio, Don Gustavo rechazó la idea de aumentar la producción con el fin de exportar a Asia, ya que Vinos San Pedro tiene una reconocida tradición artesanal en su elaboración. Todos los empleados han sido los nietos de los primeros vitivinícolas de la zona y entre ellos reina un clima de amistad el cual, Don Gustavo, no quiere llegar a perde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imes New Roman"/>
              </a:rPr>
              <a:t>¿Cuáles son los paradigmas empresariales que usted logra observar en esta situación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imes New Roman"/>
              </a:rPr>
              <a:t>¿Cómo describiría la personalidad de Don Gustavo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imes New Roman"/>
              </a:rPr>
              <a:t>Frente a tal situación, ¿Qué le propondría usted a la empresa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304920" y="1800360"/>
            <a:ext cx="22143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5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0D98C-6D52-490C-96B9-8D37B8189539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49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Análisis de Paradigmas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4720" y="1767960"/>
            <a:ext cx="899496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los mismos grupos conformados para el trabajo del CTS1 deben juntarse y descr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-68256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Paradigmas que se divisan en nuestra Facult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-68256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Paradigmas que se ven en la Juventud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-68256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Paradigmas a nivel de nuestro País (económico y soci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cada uno de estos paradigmas, la idea es poder rescatar posibles oportunidades que se vislumbran en estos ámb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5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1D02A-EADE-4747-A4D9-47BBEFF74970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1979280"/>
            <a:ext cx="90108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400" spc="-1" strike="noStrike">
                <a:solidFill>
                  <a:srgbClr val="ff0000"/>
                </a:solidFill>
                <a:latin typeface="Times New Roman"/>
              </a:rPr>
              <a:t>Muchas gracias..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00720" y="216072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A94D7-E107-476D-9A91-5C29833FFA5B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539640" y="1217520"/>
            <a:ext cx="8999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Qué se te viene a la mente con las siguientes imágenes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3998880" y="3600360"/>
            <a:ext cx="5541840" cy="360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360360" y="4680000"/>
            <a:ext cx="3240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bastián Piñ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140360" y="3060720"/>
            <a:ext cx="3240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C - Ingenie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8640720" y="2700360"/>
            <a:ext cx="123192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FC2B8-213C-408A-850B-5D3CE7DB4926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504720" y="93600"/>
            <a:ext cx="8996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Los monos y el agua fría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20760" y="900000"/>
            <a:ext cx="5078160" cy="361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4500720" y="4660920"/>
            <a:ext cx="4500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152BB-0868-49B3-B952-80DCB8AD64C2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504720" y="49320"/>
            <a:ext cx="90028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400" spc="-1" strike="noStrike">
                <a:solidFill>
                  <a:srgbClr val="ff0000"/>
                </a:solidFill>
                <a:latin typeface="Times New Roman"/>
              </a:rPr>
              <a:t>¿Qué ves en este dibuj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03280" y="1736640"/>
            <a:ext cx="2724120" cy="3448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60360" y="5645160"/>
            <a:ext cx="900288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“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Si quieres cambiar al mundo, cámbiate a ti mismo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Mahatma Gandh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19640" y="1800360"/>
            <a:ext cx="66592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: “yo veo una viejecit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B: ”yo veo una linda jove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: “yo veo a una viejecita y a una linda jove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: “yo no veo ni lo uno ni lo otro!!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8BCA8-1A66-4AEC-AA91-BEB7D0853BD5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167760"/>
            <a:ext cx="9001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Desafío: </a:t>
            </a:r>
            <a:br>
              <a:rPr sz="3400"/>
            </a:br>
            <a:br>
              <a:rPr sz="3500"/>
            </a:br>
            <a:r>
              <a:rPr b="0" lang="es-CL" sz="3500" spc="-1" strike="noStrike">
                <a:solidFill>
                  <a:srgbClr val="666666"/>
                </a:solidFill>
                <a:latin typeface="Times New Roman"/>
              </a:rPr>
              <a:t>Puedes unir los nueve puntos usando una línea recta, sin pasar dos veces por el mimos lugar, ni levantar el lápiz...</a:t>
            </a:r>
            <a:endParaRPr b="0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387520" y="2125800"/>
            <a:ext cx="530388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B3A66-338F-4CA2-8275-4B76595B9D1A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360" y="93240"/>
            <a:ext cx="9001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Solución: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114720" y="2556000"/>
            <a:ext cx="3851280" cy="4068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539640" y="1079640"/>
            <a:ext cx="899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4c4c4c"/>
                </a:solidFill>
                <a:latin typeface="Arial"/>
              </a:rPr>
              <a:t>...Había que romper el paradigma del límete formado por el cuadro de puntos y unirlos a todos ellos de la siguiente manera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1F636-F7E9-419F-898D-0FBD230ECF28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504720" y="93600"/>
            <a:ext cx="900108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Pero... los paradigmas son buenos o malos?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287280" y="1152360"/>
            <a:ext cx="864072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Los paradigmas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son buenos ni malos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 Si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son útiles o inútiles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lograr cierto cometido.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PERO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si las condiciones del entorno cambian y el individuo no lo percibe,entonces ocurre una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parálisis paradigmática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y les aseguramos que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ese individuo se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extinguirá!!!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6119640" y="4140360"/>
            <a:ext cx="324036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3E505-EA30-40D9-AD3B-C33E535153A4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6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Parálisis Paradigmática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3060720" cy="30607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"/>
          <p:cNvSpPr/>
          <p:nvPr/>
        </p:nvSpPr>
        <p:spPr>
          <a:xfrm>
            <a:off x="4140360" y="1800360"/>
            <a:ext cx="1260360" cy="1800000"/>
          </a:xfrm>
          <a:prstGeom prst="rightArrow">
            <a:avLst>
              <a:gd name="adj1" fmla="val 48139"/>
              <a:gd name="adj2" fmla="val 571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5632560" y="1335240"/>
            <a:ext cx="3368520" cy="2444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3"/>
          <a:stretch/>
        </p:blipFill>
        <p:spPr>
          <a:xfrm>
            <a:off x="900000" y="4289400"/>
            <a:ext cx="2880000" cy="25495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4319640" y="4500720"/>
            <a:ext cx="1260360" cy="1800000"/>
          </a:xfrm>
          <a:prstGeom prst="rightArrow">
            <a:avLst>
              <a:gd name="adj1" fmla="val 48139"/>
              <a:gd name="adj2" fmla="val 571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4"/>
          <a:stretch/>
        </p:blipFill>
        <p:spPr>
          <a:xfrm>
            <a:off x="5759280" y="4319640"/>
            <a:ext cx="1713240" cy="234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5"/>
          <a:stretch/>
        </p:blipFill>
        <p:spPr>
          <a:xfrm>
            <a:off x="7199280" y="4319640"/>
            <a:ext cx="1739880" cy="13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2144B-B92E-44A9-9474-A4B06AED2D8E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4859280" y="900000"/>
            <a:ext cx="3781440" cy="3060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720" y="93240"/>
            <a:ext cx="89964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Parálisis Paradigmática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179280" y="1260360"/>
            <a:ext cx="4500720" cy="306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6119640" y="4319640"/>
            <a:ext cx="324036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 rot="2280000">
            <a:off x="4360680" y="3311640"/>
            <a:ext cx="1439640" cy="1800000"/>
          </a:xfrm>
          <a:prstGeom prst="rightArrow">
            <a:avLst>
              <a:gd name="adj1" fmla="val 48019"/>
              <a:gd name="adj2" fmla="val 612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1440000" y="4859280"/>
            <a:ext cx="3419280" cy="20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Ricardo San Martín Z</cp:lastModifiedBy>
  <dcterms:modified xsi:type="dcterms:W3CDTF">2009-08-10T00:39:54Z</dcterms:modified>
  <cp:revision>8</cp:revision>
  <dc:subject/>
  <dc:title>Diapositiva 1</dc:title>
</cp:coreProperties>
</file>