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2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3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3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4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4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4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26716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5970600" cy="47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7"/>
          </p:nvPr>
        </p:nvSpPr>
        <p:spPr>
          <a:xfrm>
            <a:off x="428004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1BA72-CE02-4671-A450-39DC94C8F8F0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B246F-1949-43FA-84EA-1CD87661B509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3576E-6680-4ADC-AA42-955D07ED3F37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1106640" y="812880"/>
            <a:ext cx="5275080" cy="39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810EA-8B10-421F-9935-8F0B68C85DA2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19240" y="812880"/>
            <a:ext cx="5243400" cy="39322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0FA76-3325-46C3-9EB8-4FCEEFFBFEED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19240" y="812880"/>
            <a:ext cx="5243400" cy="39322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597204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28FF9-7C14-4D38-BC3D-973585DB4A33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1106640" y="812880"/>
            <a:ext cx="5284800" cy="394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C8387-070D-47D2-9ED9-B2E20D686B16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1106640" y="812880"/>
            <a:ext cx="5271840" cy="39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31C814-D12D-42BD-BE95-F614EB20C0B4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1106640" y="812880"/>
            <a:ext cx="527040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F6C57-FA76-4608-BD45-3EF94B4F5171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1106640" y="812880"/>
            <a:ext cx="5276520" cy="394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E2455-9EA0-4F69-8573-E5F3873EDFC0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1106640" y="812880"/>
            <a:ext cx="5275080" cy="39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03B91-9A17-4088-A455-197EDE57D56D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"/>
          <p:cNvSpPr/>
          <p:nvPr/>
        </p:nvSpPr>
        <p:spPr>
          <a:xfrm>
            <a:off x="1106640" y="812880"/>
            <a:ext cx="5275080" cy="39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95A0C-A6F7-4C8F-9D79-CCEC7D77B5F1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"/>
          <p:cNvSpPr/>
          <p:nvPr/>
        </p:nvSpPr>
        <p:spPr>
          <a:xfrm>
            <a:off x="1106640" y="812880"/>
            <a:ext cx="5275080" cy="39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4EF4F-E857-43AB-BCC8-06B65160ACF2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1106640" y="812880"/>
            <a:ext cx="527040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8E2B7-C43F-44AB-A432-8C0A58C8CFE6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1106640" y="812880"/>
            <a:ext cx="527040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2036-F28C-4673-9A54-18E8DD8E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B1C8-F419-4A68-ADBA-66EA96AF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DB02-203D-4546-92B6-0A02389B2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75E7-E425-4A79-8700-BE891DA70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71E0-68E4-4C45-8DF5-2F33BA94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62E8-27B6-4E4F-AE7B-2FA87031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5560-0B0E-442C-9B13-B3947153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5910-6D45-4DA7-AE0C-3E7585AD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D53C-FFC4-4C80-8BE7-8E834590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558A-0E6F-4C73-B3CA-91FC0697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23DB-1F6B-4972-9490-0834027C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3309-30C3-4D8A-9D27-DD5C9B57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0456-D9DA-4C07-BC1C-2C1271A3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35C2-4E4E-4875-9195-4A0001DA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0623-2330-451A-8814-27AC7E54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36EA-5577-4845-8289-C6A03DBE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099E-06BC-4924-87C1-A0C18A0AF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D8E5-23F5-44DB-B78C-ADBF367C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5B79-1F8C-4287-A471-BF892755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2A91-F309-4723-A13D-FE462B20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048C-B742-4A6D-87CC-1C9D6B22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A6F1-CC02-4787-9C06-86EAB38D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F255-44AE-47B1-BE42-E1EF228A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56C7-CB35-4379-8D3D-55460CE3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2716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A32ADE8-7932-4EF2-86A4-53B9EA176035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9720360" y="181080"/>
            <a:ext cx="1440" cy="7378560"/>
          </a:xfrm>
          <a:prstGeom prst="line">
            <a:avLst/>
          </a:prstGeom>
          <a:ln w="720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81440" y="17784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6053040" y="708120"/>
            <a:ext cx="2766960" cy="7318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8999640" y="181080"/>
            <a:ext cx="900000" cy="7378560"/>
          </a:xfrm>
          <a:prstGeom prst="rect">
            <a:avLst/>
          </a:prstGeom>
          <a:solidFill>
            <a:srgbClr val="b3b3b3">
              <a:alpha val="50000"/>
            </a:srgbClr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640360" y="8098920"/>
            <a:ext cx="2622600" cy="10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84400" indent="-2844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84400" indent="-2844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84400" indent="-2844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84400" indent="-2844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84400" indent="-2844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84400" indent="-2844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87A1C0E-60A6-4D47-AF62-C2B0FF493291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0" y="108000"/>
            <a:ext cx="10080720" cy="1440"/>
          </a:xfrm>
          <a:prstGeom prst="line">
            <a:avLst/>
          </a:prstGeom>
          <a:ln w="21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360360" y="1465200"/>
            <a:ext cx="5878440" cy="3575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3959280" y="3060720"/>
            <a:ext cx="5940360" cy="1979640"/>
          </a:xfrm>
          <a:prstGeom prst="rect">
            <a:avLst/>
          </a:prstGeom>
          <a:solidFill>
            <a:srgbClr val="e6e6ff">
              <a:alpha val="20000"/>
            </a:srgbClr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6300720" y="5221440"/>
            <a:ext cx="3238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400" spc="-1" strike="noStrike">
                <a:solidFill>
                  <a:srgbClr val="4c4c4c"/>
                </a:solidFill>
                <a:latin typeface="Times New Roman"/>
              </a:rPr>
              <a:t>IN3001-Otoño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3 Marcador de número de diapositiva"/>
          <p:cNvSpPr/>
          <p:nvPr/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99022E-BC85-46DA-801A-30D6A81CE0D2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4284720" y="3024360"/>
            <a:ext cx="550872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512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Clase Auxiliar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Paradigmas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10 Rectángulo"/>
          <p:cNvSpPr/>
          <p:nvPr/>
        </p:nvSpPr>
        <p:spPr>
          <a:xfrm>
            <a:off x="6254640" y="5351400"/>
            <a:ext cx="2643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3001 Primavera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Marcador de número de diapositiva"/>
          <p:cNvSpPr/>
          <p:nvPr/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96006-8C22-4F3F-8460-9FB556F5630F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1" descr=""/>
          <p:cNvPicPr/>
          <p:nvPr/>
        </p:nvPicPr>
        <p:blipFill>
          <a:blip r:embed="rId1"/>
          <a:stretch/>
        </p:blipFill>
        <p:spPr>
          <a:xfrm>
            <a:off x="396720" y="36036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4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F9BE5-E5CE-435B-BC4D-049176D0FB32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4720" y="49320"/>
            <a:ext cx="8994960" cy="11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Times New Roman"/>
              </a:rPr>
              <a:t>El rol de los paradigmas dentro de una organización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2879280" y="829800"/>
            <a:ext cx="6659640" cy="70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1900" spc="-1" strike="noStrike">
                <a:solidFill>
                  <a:srgbClr val="000000"/>
                </a:solidFill>
                <a:latin typeface="Times New Roman"/>
              </a:rPr>
              <a:t>Viñas San Pedro S.A. ha sido la empresa productora de vinos de alta calidad más reconocida de Chile en los últimos 10 años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900" spc="-1" strike="noStrike">
                <a:solidFill>
                  <a:srgbClr val="000000"/>
                </a:solidFill>
                <a:latin typeface="Times New Roman"/>
              </a:rPr>
              <a:t>Actualmente y gracias a los TLC exportar vinos a Asia es un excelente negocio, ya que es un mercado nuevo e incipiente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1900" spc="-1" strike="noStrike">
                <a:solidFill>
                  <a:srgbClr val="000000"/>
                </a:solidFill>
                <a:latin typeface="Times New Roman"/>
              </a:rPr>
              <a:t>Su Gerente General, Don Gustavo Albano (nieto del fundador de la empresa), ha guiado el rumbo de Viñas San Pedro durante los últimos 45 años con muy buenos resultados pero sólo a nivel nacional, es por ello, que el Directorio ha solicitado un nuevo Gerente General (con mayores competencias) para guiar a la empresa en esta etapa de internacionalización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900" spc="-1" strike="noStrike">
                <a:solidFill>
                  <a:srgbClr val="000000"/>
                </a:solidFill>
                <a:latin typeface="Times New Roman"/>
              </a:rPr>
              <a:t>En la última sesión de Directorio, Don Gustavo rechazó la idea de aumentar la producción con el fin de exportar a Asia, ya que Vinos San Pedro tiene una reconocida tradición artesanal en su elaboración. Todos los empleados han sido los nietos de los primeros vitivinícolas de la zona y entre ellos reina un clima de amistad el cual, Don Gustavo, no quiere llegar a perder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Times New Roman"/>
              </a:rPr>
              <a:t>¿Cuáles son los paradigmas empresariales que usted logra observar en esta situación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Times New Roman"/>
              </a:rPr>
              <a:t>¿Cómo describiría la personalidad de Don Gustavo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Times New Roman"/>
              </a:rPr>
              <a:t>Frente a tal situación, ¿Qué le propondría usted a la empresa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304920" y="1800360"/>
            <a:ext cx="2214360" cy="38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5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3ABE8-AB44-484B-97B5-DD8A9C4E1506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4720" y="49320"/>
            <a:ext cx="8994960" cy="11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Análisis de Paradigmas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4720" y="1767960"/>
            <a:ext cx="899496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682920" algn="just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n los mismos grupos conformados para el trabajo del CTS1 deben juntarse y describ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4320" indent="-68256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Los Paradigmas que se divisan en nuestra Facult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4320" indent="-68256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Los Paradigmas que se ven en la Juventud 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4320" indent="-68256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Los Paradigmas a nivel de nuestro País (económico y socia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4320" indent="0" algn="just">
              <a:lnSpc>
                <a:spcPct val="74000"/>
              </a:lnSpc>
              <a:spcAft>
                <a:spcPts val="1137"/>
              </a:spcAft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4320" indent="0" algn="just">
              <a:lnSpc>
                <a:spcPct val="74000"/>
              </a:lnSpc>
              <a:spcAft>
                <a:spcPts val="1137"/>
              </a:spcAft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ara cada uno de estos paradigmas, la idea es poder rescatar posibles oportunidades que se vislumbran en estos ámb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4320" indent="0" algn="just">
              <a:lnSpc>
                <a:spcPct val="74000"/>
              </a:lnSpc>
              <a:spcAft>
                <a:spcPts val="1137"/>
              </a:spcAft>
              <a:buNone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4320" indent="0" algn="just">
              <a:lnSpc>
                <a:spcPct val="74000"/>
              </a:lnSpc>
              <a:spcAft>
                <a:spcPts val="1137"/>
              </a:spcAft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5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47513-2E04-4BD4-BBA1-C1A2F9E5DC7E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640" y="1979280"/>
            <a:ext cx="9010800" cy="11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400" spc="-1" strike="noStrike">
                <a:solidFill>
                  <a:srgbClr val="ff0000"/>
                </a:solidFill>
                <a:latin typeface="Times New Roman"/>
              </a:rPr>
              <a:t>Muchas gracias...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4500720" y="2160720"/>
            <a:ext cx="3619440" cy="36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4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A9A82-4535-4A35-B704-F8F5289B941A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4360" y="93600"/>
            <a:ext cx="899820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Motivación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539640" y="1217520"/>
            <a:ext cx="8999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¿Qué se te viene a la mente con las siguientes imágenes?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360360" y="1979640"/>
            <a:ext cx="3060720" cy="2519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3998880" y="3600360"/>
            <a:ext cx="5541840" cy="36007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360360" y="4680000"/>
            <a:ext cx="3240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bastián Piñ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4140360" y="3060720"/>
            <a:ext cx="3240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C - Ingenier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3"/>
          <a:stretch/>
        </p:blipFill>
        <p:spPr>
          <a:xfrm>
            <a:off x="8640720" y="2700360"/>
            <a:ext cx="123192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3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2D701-DDF5-4019-86A2-9A776D415A66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"/>
          <p:cNvSpPr/>
          <p:nvPr/>
        </p:nvSpPr>
        <p:spPr>
          <a:xfrm>
            <a:off x="504720" y="93600"/>
            <a:ext cx="89964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Los monos y el agua fría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320760" y="900000"/>
            <a:ext cx="5078160" cy="3619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2"/>
          <a:stretch/>
        </p:blipFill>
        <p:spPr>
          <a:xfrm>
            <a:off x="4500720" y="4660920"/>
            <a:ext cx="4500360" cy="25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C358D-F70E-499C-84D6-F3638BA5838B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"/>
          <p:cNvSpPr/>
          <p:nvPr/>
        </p:nvSpPr>
        <p:spPr>
          <a:xfrm>
            <a:off x="504720" y="49320"/>
            <a:ext cx="900288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400" spc="-1" strike="noStrike">
                <a:solidFill>
                  <a:srgbClr val="ff0000"/>
                </a:solidFill>
                <a:latin typeface="Times New Roman"/>
              </a:rPr>
              <a:t>¿Qué ves en este dibujo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503280" y="1736640"/>
            <a:ext cx="2724120" cy="34480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360360" y="5645160"/>
            <a:ext cx="9002880" cy="13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500" spc="-1" strike="noStrike">
                <a:solidFill>
                  <a:srgbClr val="ff0000"/>
                </a:solidFill>
                <a:latin typeface="Times New Roman"/>
                <a:ea typeface="Arial"/>
              </a:rPr>
              <a:t>“</a:t>
            </a:r>
            <a:r>
              <a:rPr b="0" lang="es-CO" sz="2500" spc="-1" strike="noStrike">
                <a:solidFill>
                  <a:srgbClr val="ff0000"/>
                </a:solidFill>
                <a:latin typeface="Times New Roman"/>
                <a:ea typeface="Arial"/>
              </a:rPr>
              <a:t>Si quieres cambiar al mundo, cámbiate a ti mismo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500" spc="-1" strike="noStrike">
                <a:solidFill>
                  <a:srgbClr val="ff0000"/>
                </a:solidFill>
                <a:latin typeface="Times New Roman"/>
                <a:ea typeface="Arial"/>
              </a:rPr>
              <a:t>	</a:t>
            </a:r>
            <a:r>
              <a:rPr b="0" lang="es-CO" sz="2500" spc="-1" strike="noStrike">
                <a:solidFill>
                  <a:srgbClr val="ff0000"/>
                </a:solidFill>
                <a:latin typeface="Times New Roman"/>
                <a:ea typeface="Arial"/>
              </a:rPr>
              <a:t>	</a:t>
            </a:r>
            <a:r>
              <a:rPr b="0" lang="es-CO" sz="2500" spc="-1" strike="noStrike">
                <a:solidFill>
                  <a:srgbClr val="ff0000"/>
                </a:solidFill>
                <a:latin typeface="Times New Roman"/>
                <a:ea typeface="Arial"/>
              </a:rPr>
              <a:t>	</a:t>
            </a:r>
            <a:r>
              <a:rPr b="0" lang="es-CO" sz="2500" spc="-1" strike="noStrike">
                <a:solidFill>
                  <a:srgbClr val="ff0000"/>
                </a:solidFill>
                <a:latin typeface="Times New Roman"/>
                <a:ea typeface="Arial"/>
              </a:rPr>
              <a:t>	</a:t>
            </a:r>
            <a:r>
              <a:rPr b="0" lang="es-CO" sz="2500" spc="-1" strike="noStrike">
                <a:solidFill>
                  <a:srgbClr val="ff0000"/>
                </a:solidFill>
                <a:latin typeface="Times New Roman"/>
                <a:ea typeface="Arial"/>
              </a:rPr>
              <a:t>	</a:t>
            </a:r>
            <a:r>
              <a:rPr b="0" lang="es-CO" sz="2500" spc="-1" strike="noStrike">
                <a:solidFill>
                  <a:srgbClr val="ff0000"/>
                </a:solidFill>
                <a:latin typeface="Times New Roman"/>
                <a:ea typeface="Arial"/>
              </a:rPr>
              <a:t>	</a:t>
            </a:r>
            <a:r>
              <a:rPr b="0" lang="es-CO" sz="2500" spc="-1" strike="noStrike">
                <a:solidFill>
                  <a:srgbClr val="ff0000"/>
                </a:solidFill>
                <a:latin typeface="Times New Roman"/>
                <a:ea typeface="Arial"/>
              </a:rPr>
              <a:t>	</a:t>
            </a:r>
            <a:r>
              <a:rPr b="0" lang="es-CO" sz="2500" spc="-1" strike="noStrike">
                <a:solidFill>
                  <a:srgbClr val="ff0000"/>
                </a:solidFill>
                <a:latin typeface="Times New Roman"/>
                <a:ea typeface="Arial"/>
              </a:rPr>
              <a:t>	</a:t>
            </a:r>
            <a:r>
              <a:rPr b="0" lang="es-CO" sz="2500" spc="-1" strike="noStrike">
                <a:solidFill>
                  <a:srgbClr val="ff0000"/>
                </a:solidFill>
                <a:latin typeface="Times New Roman"/>
                <a:ea typeface="Arial"/>
              </a:rPr>
              <a:t>	</a:t>
            </a:r>
            <a:r>
              <a:rPr b="0" lang="es-CO" sz="2500" spc="-1" strike="noStrike">
                <a:solidFill>
                  <a:srgbClr val="ff0000"/>
                </a:solidFill>
                <a:latin typeface="Times New Roman"/>
                <a:ea typeface="Arial"/>
              </a:rPr>
              <a:t>	</a:t>
            </a:r>
            <a:r>
              <a:rPr b="0" lang="es-CO" sz="2500" spc="-1" strike="noStrike">
                <a:solidFill>
                  <a:srgbClr val="ff0000"/>
                </a:solidFill>
                <a:latin typeface="Times New Roman"/>
                <a:ea typeface="Arial"/>
              </a:rPr>
              <a:t>	</a:t>
            </a:r>
            <a:r>
              <a:rPr b="0" lang="es-CO" sz="2500" spc="-1" strike="noStrike">
                <a:solidFill>
                  <a:srgbClr val="ff0000"/>
                </a:solidFill>
                <a:latin typeface="Times New Roman"/>
                <a:ea typeface="Arial"/>
              </a:rPr>
              <a:t>	</a:t>
            </a:r>
            <a:r>
              <a:rPr b="0" lang="es-CO" sz="2500" spc="-1" strike="noStrike">
                <a:solidFill>
                  <a:srgbClr val="ff0000"/>
                </a:solidFill>
                <a:latin typeface="Times New Roman"/>
                <a:ea typeface="Arial"/>
              </a:rPr>
              <a:t>Mahatma Gandhi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419640" y="1800360"/>
            <a:ext cx="665928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A: “yo veo una viejecit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B: ”yo veo una linda joven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C: “yo veo a una viejecita y a una linda joven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D: “yo no veo ni lo uno ni lo otro!!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4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69A51-921A-4555-8A89-3888A31A50A5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4360" y="167760"/>
            <a:ext cx="9001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Desafío: </a:t>
            </a:r>
            <a:br>
              <a:rPr sz="3400"/>
            </a:br>
            <a:br>
              <a:rPr sz="3500"/>
            </a:br>
            <a:r>
              <a:rPr b="0" lang="es-CL" sz="3500" spc="-1" strike="noStrike">
                <a:solidFill>
                  <a:srgbClr val="666666"/>
                </a:solidFill>
                <a:latin typeface="Times New Roman"/>
              </a:rPr>
              <a:t>Puedes unir los nueve puntos usando una línea recta, sin pasar dos veces por el mimos lugar, ni levantar el lápiz...</a:t>
            </a:r>
            <a:endParaRPr b="0" lang="en-US" sz="35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2387520" y="2125800"/>
            <a:ext cx="5303880" cy="43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4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42C41-8A0B-4985-9146-91CEC3FCA3F3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4360" y="93240"/>
            <a:ext cx="9001080" cy="11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Solución: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3114720" y="2556000"/>
            <a:ext cx="3851280" cy="40687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539640" y="1079640"/>
            <a:ext cx="8999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500" spc="-1" strike="noStrike">
                <a:solidFill>
                  <a:srgbClr val="4c4c4c"/>
                </a:solidFill>
                <a:latin typeface="Arial"/>
              </a:rPr>
              <a:t>...Había que romper el paradigma del límete formado por el cuadro de puntos y unirlos a todos ellos de la siguiente manera..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3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63253-BBC4-4C43-9AB8-CBB34339DEDC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504720" y="93600"/>
            <a:ext cx="900108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Pero... los paradigmas son buenos o malos?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287280" y="1152360"/>
            <a:ext cx="864072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Los paradigmas </a:t>
            </a:r>
            <a:r>
              <a:rPr b="0" lang="es-CL" sz="25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 son buenos ni malos..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... Si </a:t>
            </a:r>
            <a:r>
              <a:rPr b="0" lang="es-CL" sz="2500" spc="-1" strike="noStrike">
                <a:solidFill>
                  <a:srgbClr val="ff0000"/>
                </a:solidFill>
                <a:latin typeface="Arial"/>
              </a:rPr>
              <a:t>son útiles o inútiles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lograr cierto cometido.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s-CL" sz="2500" spc="-1" strike="noStrike">
                <a:solidFill>
                  <a:srgbClr val="ff0000"/>
                </a:solidFill>
                <a:latin typeface="Arial"/>
              </a:rPr>
              <a:t>PERO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 si las condiciones del entorno cambian y el individuo no lo percibe,entonces ocurre una </a:t>
            </a:r>
            <a:r>
              <a:rPr b="0" lang="es-CL" sz="2500" spc="-1" strike="noStrike">
                <a:solidFill>
                  <a:srgbClr val="ff0000"/>
                </a:solidFill>
                <a:latin typeface="Arial"/>
              </a:rPr>
              <a:t>parálisis paradigmática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...y les aseguramos que..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...ese individuo se </a:t>
            </a:r>
            <a:r>
              <a:rPr b="0" lang="es-CL" sz="2500" spc="-1" strike="noStrike">
                <a:solidFill>
                  <a:srgbClr val="ff0000"/>
                </a:solidFill>
                <a:latin typeface="Arial"/>
              </a:rPr>
              <a:t>extinguirá!!!!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6119640" y="4140360"/>
            <a:ext cx="3240360" cy="29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4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CCBC5-3A55-4B6F-9721-A99F9A04D386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4720" y="49320"/>
            <a:ext cx="899640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Parálisis Paradigmática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720720" y="1079640"/>
            <a:ext cx="3060720" cy="306072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3"/>
          <p:cNvSpPr/>
          <p:nvPr/>
        </p:nvSpPr>
        <p:spPr>
          <a:xfrm>
            <a:off x="4140360" y="1800360"/>
            <a:ext cx="1260360" cy="1800000"/>
          </a:xfrm>
          <a:prstGeom prst="rightArrow">
            <a:avLst>
              <a:gd name="adj1" fmla="val 48139"/>
              <a:gd name="adj2" fmla="val 5710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2"/>
          <a:stretch/>
        </p:blipFill>
        <p:spPr>
          <a:xfrm>
            <a:off x="5632560" y="1335240"/>
            <a:ext cx="3368520" cy="2444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3"/>
          <a:stretch/>
        </p:blipFill>
        <p:spPr>
          <a:xfrm>
            <a:off x="900000" y="4289400"/>
            <a:ext cx="2880000" cy="254952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6"/>
          <p:cNvSpPr/>
          <p:nvPr/>
        </p:nvSpPr>
        <p:spPr>
          <a:xfrm>
            <a:off x="4319640" y="4500720"/>
            <a:ext cx="1260360" cy="1800000"/>
          </a:xfrm>
          <a:prstGeom prst="rightArrow">
            <a:avLst>
              <a:gd name="adj1" fmla="val 48139"/>
              <a:gd name="adj2" fmla="val 5710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4"/>
          <a:stretch/>
        </p:blipFill>
        <p:spPr>
          <a:xfrm>
            <a:off x="5759280" y="4319640"/>
            <a:ext cx="1713240" cy="2340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"/>
          <p:cNvPicPr/>
          <p:nvPr/>
        </p:nvPicPr>
        <p:blipFill>
          <a:blip r:embed="rId5"/>
          <a:stretch/>
        </p:blipFill>
        <p:spPr>
          <a:xfrm>
            <a:off x="7199280" y="4319640"/>
            <a:ext cx="1739880" cy="130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4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CA380-64FE-4263-845B-31EB88ADAAA5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1" descr=""/>
          <p:cNvPicPr/>
          <p:nvPr/>
        </p:nvPicPr>
        <p:blipFill>
          <a:blip r:embed="rId1"/>
          <a:stretch/>
        </p:blipFill>
        <p:spPr>
          <a:xfrm>
            <a:off x="4859280" y="900000"/>
            <a:ext cx="3781440" cy="30607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4720" y="93240"/>
            <a:ext cx="89964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Parálisis Paradigmática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2"/>
          <a:stretch/>
        </p:blipFill>
        <p:spPr>
          <a:xfrm>
            <a:off x="179280" y="1260360"/>
            <a:ext cx="4500720" cy="3060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"/>
          <p:cNvPicPr/>
          <p:nvPr/>
        </p:nvPicPr>
        <p:blipFill>
          <a:blip r:embed="rId3"/>
          <a:stretch/>
        </p:blipFill>
        <p:spPr>
          <a:xfrm>
            <a:off x="6119640" y="4319640"/>
            <a:ext cx="3240360" cy="259092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5"/>
          <p:cNvSpPr/>
          <p:nvPr/>
        </p:nvSpPr>
        <p:spPr>
          <a:xfrm rot="2280000">
            <a:off x="4360680" y="3311640"/>
            <a:ext cx="1439640" cy="1800000"/>
          </a:xfrm>
          <a:prstGeom prst="rightArrow">
            <a:avLst>
              <a:gd name="adj1" fmla="val 48019"/>
              <a:gd name="adj2" fmla="val 6121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6" descr=""/>
          <p:cNvPicPr/>
          <p:nvPr/>
        </p:nvPicPr>
        <p:blipFill>
          <a:blip r:embed="rId4"/>
          <a:stretch/>
        </p:blipFill>
        <p:spPr>
          <a:xfrm>
            <a:off x="1440000" y="4859280"/>
            <a:ext cx="3419280" cy="203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mela</dc:creator>
  <dc:description/>
  <dc:language>en-US</dc:language>
  <cp:lastModifiedBy>Ricardo San Martín Z</cp:lastModifiedBy>
  <dcterms:modified xsi:type="dcterms:W3CDTF">2009-08-10T00:39:54Z</dcterms:modified>
  <cp:revision>8</cp:revision>
  <dc:subject/>
  <dc:title>Diapositiva 1</dc:title>
</cp:coreProperties>
</file>