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7FB5-C9BB-4814-8580-943F3492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C3B5-5DA2-4DAF-AC3A-F1B28EB6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964-B6E1-42ED-942E-FF94A162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AC80-2F8D-453B-A764-C251A01A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C6E-50E8-41FC-AFCD-FC407689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6845-72F0-49D8-B0C1-D35327C7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785-3D77-474A-B5D9-5DAA42AD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56E7-866A-4F9C-9842-3D6A9D6D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9C53-87A2-4C5A-8F74-D4473521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E31-D3ED-4A6B-B7C9-AB68721A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2A2-8CFE-4CEF-8758-CA2B53A0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F084-DF82-4223-8A02-C3352069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E5E1-0C94-4598-AB56-4BF69F697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s Imágenes Satelitales y sus Capac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916280"/>
            <a:ext cx="8280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ara comprender las capacidades que puede tener una imagen satelital, es necesario conocer dos datos importa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a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aremos los detalles referentes a 4 tipos de imágenes satelitales, ampliamente utilizadas hoy en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Land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Quick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105080" cy="390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22800" y="1628640"/>
            <a:ext cx="3409920" cy="388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03280" y="981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Imagen IKONOS                                    Imagen QuickBi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8560" y="595008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¿ A que minas corresponde cada imag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ND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8 mts. multiespectral / 14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7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73281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268280"/>
            <a:ext cx="8424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Landsat podemos trabajar a escala 1:100.000 con comodidad, llegando incluso a poder trabajar 1:50.000 utilizando la banda pancro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Oxidos de Fe (Hematita / Jaros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ada escena Landsat abarca un área de 180 x 180 km lo que permite tener una visión distrital/regional de cualquier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1504800"/>
            <a:ext cx="5113440" cy="494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Landsat P001R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15 (VNIR), 30 (SWIR) y 90 (TIR) mts. multi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14 bandas multiespectrales / 1 banda estereoscó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84360" y="3319560"/>
            <a:ext cx="43149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268280"/>
            <a:ext cx="8424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Aster podemos trabajar a escala 1:50.000, 1:100.000 y 1:250.000, según el rango en el que trabaj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 de alta y baja temperatura (Alunita, Kaolinita, Il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Minerales Fe3+ y Fe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Carbonatos y alteración propi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Silic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Gra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estudios detallados se puede llegar a identificar más minerales o asociaciones minerales. Cada escena Aster abarca un área de 60 x 60 km lo que permite tener una visión local/distrital de un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832720" cy="491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KONOS &amp; QUICK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133720"/>
            <a:ext cx="72741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4 mts. multiespectral / 1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Quick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.44 mts multiespectral / 0.61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s bandas multiespectrales de ambos sensores s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Azul, Verde, Rojo e Infrarrojo Cer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268280"/>
            <a:ext cx="84247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IKONOS podemos trabajar a escala 1:8.000 (multiespectral) y 1:2.000 (pancromática), mientras con las imágenes QuickBIrd podemos trabajar a escala 1:5.000 (multiespectral) y 1:1.500 (pancromá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Óxidos de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 ventaja de estas imágenes es su resolución espacial, lo que nos permite trabajar a una escala mucho más detallada para ordenamiento territorial, detección de cambios, mapeo local y distrit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Basta entonces imaginar lo que podríamos detectar con imágenes de alta resolución espacial y espectral. Hoy en día la mayoría de estas imágenes se obtiene desde sensores aerotransportados lo que las hace bastante c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2:24:35Z</dcterms:created>
  <dc:creator>José Manuel Lattus</dc:creator>
  <dc:description/>
  <dc:language>en-US</dc:language>
  <cp:lastModifiedBy>José Manuel Lattus Sanhueza</cp:lastModifiedBy>
  <dcterms:modified xsi:type="dcterms:W3CDTF">2008-03-27T15:09:46Z</dcterms:modified>
  <cp:revision>8</cp:revision>
  <dc:subject/>
  <dc:title>Diapositiva 1</dc:title>
</cp:coreProperties>
</file>