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312-C24A-4DEF-8614-9157A41B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975-2C01-46D2-BA4A-F155251D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F86-BE07-4BD0-A1BD-7E88AC30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883-82BB-4131-909B-FE4B500B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C7F-BD3F-411E-9CBD-7F5A681C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62E-2DF2-4D3C-9596-65C9EA13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859-BB30-4551-B5D0-76B3BD46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3AD-246D-45F2-BA3D-9CD5C20E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86A-5E0C-44BE-AF38-946ADDE8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61D-70A5-4711-8855-4A13215D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D77-E47F-470D-BB5D-C8A91A44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245-12A3-449D-B129-3D30431A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B7D9-01D9-4357-B61C-7111C1081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José Manuel Lattus Sanhueza</cp:lastModifiedBy>
  <dcterms:modified xsi:type="dcterms:W3CDTF">2008-03-27T15:09:46Z</dcterms:modified>
  <cp:revision>8</cp:revision>
  <dc:subject/>
  <dc:title>Diapositiva 1</dc:title>
</cp:coreProperties>
</file>