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5A4-9717-4857-9475-A60789FE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2D6-C129-4E80-ADC7-1E4CEE4B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F15-C60B-4E05-A0C4-A985D23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EA4-A4C6-45C2-B494-20920E78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B5A-3041-4CF9-AE44-7582BB60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C46-53B6-4DD4-894C-5ACA0E76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62E-44BB-4CF2-B93B-6BDB53B3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AD4-D921-449B-83C1-DD1C259C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880-8300-4D0F-AE5D-C412433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7EB-3E47-4EB5-A81A-60951E4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978-6890-4F50-9957-8C860F9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E1A-EC37-4CDA-87F5-5E573478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6D9-5DF1-4EBB-A249-05B79C8F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052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s Imágenes Satelitales y sus Capac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916280"/>
            <a:ext cx="8280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ara comprender las capacidades que puede tener una imagen satelital, es necesario conocer dos datos importa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a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Resolución 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aremos los detalles referentes a 4 tipos de imágenes satelitales, ampliamente utilizadas hoy en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Land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Quick 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105080" cy="390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22800" y="1628640"/>
            <a:ext cx="3409920" cy="388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03280" y="981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Imagen IKONOS                                    Imagen QuickB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8560" y="59500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¿ A que minas corresponde cada image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AND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8 mts. multiespectral / 14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7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32816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268280"/>
            <a:ext cx="8424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Landsat podemos trabajar a escala 1:100.000 con comodidad, llegando incluso a poder trabajar 1:50.000 utilizando la banda pancro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Oxidos de Fe (Hematita / Jaros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ada escena Landsat abarca un área de 180 x 180 km lo que permite tener una visión distrital/regional de cualquier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1504800"/>
            <a:ext cx="5113440" cy="494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Landsat P001R0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33720"/>
            <a:ext cx="72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15 (VNIR), 30 (SWIR) y 90 (TIR) mts. multiespec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14 bandas multiespectrales / 1 banda estereoscóp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84360" y="3319560"/>
            <a:ext cx="431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268280"/>
            <a:ext cx="8424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Aster podemos trabajar a escala 1:50.000, 1:100.000 y 1:250.000, según el rango en el que trabaje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rcillas de alta y baja temperatura (Alunita, Kaolinita, I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Minerales Fe3+ y Fe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Carbonatos y alteración propi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Silic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Gra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estudios detallados se puede llegar a identificar más minerales o asociaciones minerales. Cada escena Aster abarca un área de 60 x 60 km lo que permite tener una visión local/distrital de un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32720" cy="491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58920" y="94464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scena 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119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IKONOS &amp; QUICK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133720"/>
            <a:ext cx="72741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KO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4 mts. multiespectral / 1 mts.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Quick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acial: 2.44 mts multiespectral / 0.61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Resolución espectral: 4 bandas multiespectrales / 1 banda pancr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s bandas multiespectrales de ambos sensores s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Azul, Verde, Rojo e Infrarrojo Cer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268280"/>
            <a:ext cx="8424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n las imágenes IKONOS podemos trabajar a escala 1:8.000 (multiespectral) y 1:2.000 (pancromática), mientras con las imágenes QuickBIrd podemos trabajar a escala 1:5.000 (multiespectral) y 1:1.500 (pancro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Por la información espectral que este sensor tiene podemos identific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Veg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Óxidos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Nieve / Glaci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- 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La ventaja de estas imágenes es su resolución espacial, lo que nos permite trabajar a una escala mucho más detallada para ordenamiento territorial, detección de cambios, mapeo local y distrital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Basta entonces imaginar lo que podríamos detectar con imágenes de alta resolución espacial y espectral. Hoy en día la mayoría de estas imágenes se obtiene desde sensores aerotransportados lo que las hace bastante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2:24:35Z</dcterms:created>
  <dc:creator>José Manuel Lattus</dc:creator>
  <dc:description/>
  <dc:language>en-US</dc:language>
  <cp:lastModifiedBy>José Manuel Lattus Sanhueza</cp:lastModifiedBy>
  <dcterms:modified xsi:type="dcterms:W3CDTF">2008-03-27T15:09:46Z</dcterms:modified>
  <cp:revision>8</cp:revision>
  <dc:subject/>
  <dc:title>Diapositiva 1</dc:title>
</cp:coreProperties>
</file>