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135-33C9-4F4C-A8D8-F4A107AD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3B4F-343D-4C67-955A-0029D24D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3808-4F25-49C6-B4F3-79D35054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DCF-B974-4FD8-899E-BE1534A7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136-9874-4AA2-AEE7-CE9A7FCF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021-590C-4D65-A4FF-EEC29B00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241-B2BA-44DE-82D6-93109A0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F33-01E5-42C0-B88B-24DAFAB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F7D6-7287-49A6-BC4F-DBDE5F1F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7662-FDA8-4837-B3DF-4FCA1AE1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165-BE22-464A-88F6-BB2E6B4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AB91-9083-4DD4-9CB9-E2763E8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794B-9649-44A8-8E78-2EFD7966E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e5e5e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89752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igura 2.4 Sección estratigráfica generalizada de la franja en e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85800" y="954000"/>
            <a:ext cx="8221680" cy="4791240"/>
            <a:chOff x="685800" y="954000"/>
            <a:chExt cx="8221680" cy="47912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85800" y="954000"/>
              <a:ext cx="8221680" cy="47912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968400" y="5576760"/>
              <a:ext cx="445284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7560" y="1065240"/>
              <a:ext cx="514440" cy="431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50760" y="4162320"/>
              <a:ext cx="368280" cy="90828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55800" y="3322800"/>
              <a:ext cx="368280" cy="83484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54000" y="4164120"/>
              <a:ext cx="365040" cy="89064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55800" y="5057640"/>
              <a:ext cx="365040" cy="230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57240" y="1171440"/>
              <a:ext cx="361800" cy="3333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54000" y="3322800"/>
              <a:ext cx="365040" cy="83484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7240" y="1509840"/>
              <a:ext cx="361800" cy="180792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50760" y="505764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950760" y="41623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950760" y="33228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950760" y="309096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950760" y="15066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950760" y="178272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28080" y="5045040"/>
              <a:ext cx="42012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1600" y="451476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2760" y="3625920"/>
              <a:ext cx="448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01440" y="3138480"/>
              <a:ext cx="4795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al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2367000"/>
              <a:ext cx="395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21960" y="1563840"/>
              <a:ext cx="4658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1320" y="1281240"/>
              <a:ext cx="420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953640" y="1231920"/>
              <a:ext cx="37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58680" y="1092240"/>
              <a:ext cx="363600" cy="77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5600" y="1047600"/>
              <a:ext cx="5083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50760" y="1170000"/>
              <a:ext cx="3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2960" y="1111320"/>
              <a:ext cx="423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7240" y="1092240"/>
              <a:ext cx="365040" cy="4197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46960" y="3519360"/>
              <a:ext cx="365400" cy="112680"/>
            </a:xfrm>
            <a:prstGeom prst="rect">
              <a:avLst/>
            </a:prstGeom>
            <a:solidFill>
              <a:srgbClr val="1ec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44080" y="3635280"/>
              <a:ext cx="366480" cy="95400"/>
            </a:xfrm>
            <a:prstGeom prst="rect">
              <a:avLst/>
            </a:prstGeom>
            <a:solidFill>
              <a:srgbClr val="7bb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46960" y="3016080"/>
              <a:ext cx="363600" cy="185760"/>
            </a:xfrm>
            <a:prstGeom prst="rect">
              <a:avLst/>
            </a:prstGeom>
            <a:solidFill>
              <a:srgbClr val="ff9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46960" y="3335400"/>
              <a:ext cx="365400" cy="187200"/>
            </a:xfrm>
            <a:prstGeom prst="rect">
              <a:avLst/>
            </a:prstGeom>
            <a:solidFill>
              <a:srgbClr val="73fa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46960" y="3201840"/>
              <a:ext cx="363600" cy="135000"/>
            </a:xfrm>
            <a:prstGeom prst="rect">
              <a:avLst/>
            </a:prstGeom>
            <a:solidFill>
              <a:srgbClr val="ffc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346600" y="311292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45520" y="2949480"/>
              <a:ext cx="363600" cy="65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8346600" y="3201840"/>
              <a:ext cx="365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8348760" y="33368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345520" y="352260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345520" y="3632040"/>
              <a:ext cx="365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46600" y="3598920"/>
              <a:ext cx="3866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Jurás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8344080" y="301464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080" y="2948040"/>
              <a:ext cx="366480" cy="78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8344080" y="3273480"/>
              <a:ext cx="366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29680" y="3484440"/>
              <a:ext cx="4078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Inf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31120" y="3321000"/>
              <a:ext cx="407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Cretácic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67400" y="3224160"/>
              <a:ext cx="517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Eoceno Medi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24640" y="315900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Olig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35440" y="3076560"/>
              <a:ext cx="38196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M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30040" y="2976480"/>
              <a:ext cx="3880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i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2680" y="2901960"/>
              <a:ext cx="4597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leistoceno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42960" y="5345280"/>
              <a:ext cx="7024680" cy="23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 rot="5400000">
            <a:off x="221760" y="3398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0T00:16:08Z</dcterms:created>
  <dc:creator>Pablo Mella S.</dc:creator>
  <dc:description/>
  <dc:language>en-US</dc:language>
  <cp:lastModifiedBy>-32768</cp:lastModifiedBy>
  <cp:lastPrinted>2001-01-16T19:59:24Z</cp:lastPrinted>
  <dcterms:modified xsi:type="dcterms:W3CDTF">2009-06-04T19:09:28Z</dcterms:modified>
  <cp:revision>94</cp:revision>
  <dc:subject/>
  <dc:title>Sin título de diapositiva</dc:title>
</cp:coreProperties>
</file>