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3E6-2CE6-4AA6-9AF8-CE4474C45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D198-C528-4F73-A1AA-DDABED51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703-CEF8-4AAF-B2C7-2BC9CEE72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7D4-0372-469D-9F1D-05004970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EAD-3600-4328-9B71-A959734D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54D-AFF0-4922-9946-7EACE90B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141A-A8EF-489D-88CE-976CDF72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3BF-EF49-49E8-8986-A527F46D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E260-04F6-4E7C-B7F7-BE9DB815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322-837F-4C3E-A60E-F0E4EAA2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ED1-8ADC-4EBF-88BE-1E2F74F5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E182-FF0A-41A0-AD60-18E7A98B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5e5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79D5-C914-4B0C-8465-F359AFFA0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5e5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89752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igura 2.4 Sección estratigráfica generalizada de la franja en est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5800" y="954000"/>
            <a:ext cx="8221680" cy="4791240"/>
            <a:chOff x="685800" y="954000"/>
            <a:chExt cx="8221680" cy="47912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85800" y="954000"/>
              <a:ext cx="8221680" cy="47912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44" name=""/>
            <p:cNvSpPr/>
            <p:nvPr/>
          </p:nvSpPr>
          <p:spPr>
            <a:xfrm>
              <a:off x="968400" y="5576760"/>
              <a:ext cx="445284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7560" y="1065240"/>
              <a:ext cx="514440" cy="43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50760" y="4162320"/>
              <a:ext cx="368280" cy="90828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55800" y="3322800"/>
              <a:ext cx="368280" cy="8348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54000" y="4164120"/>
              <a:ext cx="365040" cy="890640"/>
            </a:xfrm>
            <a:prstGeom prst="rect">
              <a:avLst/>
            </a:prstGeom>
            <a:solidFill>
              <a:srgbClr val="1ec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55800" y="5057640"/>
              <a:ext cx="365040" cy="230400"/>
            </a:xfrm>
            <a:prstGeom prst="rect">
              <a:avLst/>
            </a:prstGeom>
            <a:solidFill>
              <a:srgbClr val="7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57240" y="1171440"/>
              <a:ext cx="361800" cy="333360"/>
            </a:xfrm>
            <a:prstGeom prst="rect">
              <a:avLst/>
            </a:prstGeom>
            <a:solidFill>
              <a:srgbClr val="ff9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54000" y="3322800"/>
              <a:ext cx="365040" cy="834840"/>
            </a:xfrm>
            <a:prstGeom prst="rect">
              <a:avLst/>
            </a:prstGeom>
            <a:solidFill>
              <a:srgbClr val="73f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57240" y="1509840"/>
              <a:ext cx="361800" cy="1807920"/>
            </a:xfrm>
            <a:prstGeom prst="rect">
              <a:avLst/>
            </a:prstGeom>
            <a:solidFill>
              <a:srgbClr val="ff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950760" y="505764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950760" y="416232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950760" y="33228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950760" y="309096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950760" y="15066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950760" y="178272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28080" y="5045040"/>
              <a:ext cx="4201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Jurás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21600" y="4514760"/>
              <a:ext cx="448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f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2760" y="3625920"/>
              <a:ext cx="448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01440" y="3138480"/>
              <a:ext cx="479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ale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42840" y="2367000"/>
              <a:ext cx="3956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21960" y="1563840"/>
              <a:ext cx="46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lig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1320" y="1281240"/>
              <a:ext cx="420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i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953640" y="123192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58680" y="1092240"/>
              <a:ext cx="363600" cy="7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5600" y="1047600"/>
              <a:ext cx="5083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leist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950760" y="11700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2960" y="1111320"/>
              <a:ext cx="423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li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57240" y="1092240"/>
              <a:ext cx="365040" cy="4197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46960" y="3519360"/>
              <a:ext cx="365400" cy="112680"/>
            </a:xfrm>
            <a:prstGeom prst="rect">
              <a:avLst/>
            </a:prstGeom>
            <a:solidFill>
              <a:srgbClr val="1ec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44080" y="3635280"/>
              <a:ext cx="366480" cy="95400"/>
            </a:xfrm>
            <a:prstGeom prst="rect">
              <a:avLst/>
            </a:prstGeom>
            <a:solidFill>
              <a:srgbClr val="7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6960" y="3016080"/>
              <a:ext cx="363600" cy="185760"/>
            </a:xfrm>
            <a:prstGeom prst="rect">
              <a:avLst/>
            </a:prstGeom>
            <a:solidFill>
              <a:srgbClr val="ff9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46960" y="3335400"/>
              <a:ext cx="365400" cy="187200"/>
            </a:xfrm>
            <a:prstGeom prst="rect">
              <a:avLst/>
            </a:prstGeom>
            <a:solidFill>
              <a:srgbClr val="73f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46960" y="3201840"/>
              <a:ext cx="363600" cy="135000"/>
            </a:xfrm>
            <a:prstGeom prst="rect">
              <a:avLst/>
            </a:prstGeom>
            <a:solidFill>
              <a:srgbClr val="ff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346600" y="3112920"/>
              <a:ext cx="36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45520" y="2949480"/>
              <a:ext cx="363600" cy="65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8346600" y="3201840"/>
              <a:ext cx="36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48760" y="333684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345520" y="352260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345520" y="363204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46600" y="3598920"/>
              <a:ext cx="3866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Jurás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8344080" y="3014640"/>
              <a:ext cx="366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44080" y="2948040"/>
              <a:ext cx="366480" cy="78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8344080" y="3273480"/>
              <a:ext cx="366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29680" y="3484440"/>
              <a:ext cx="4078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f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31120" y="33210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67400" y="3224160"/>
              <a:ext cx="51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Eoceno Medi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24640" y="3159000"/>
              <a:ext cx="42444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Olig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35440" y="3076560"/>
              <a:ext cx="3819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Mi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30040" y="2976480"/>
              <a:ext cx="3880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i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02680" y="2901960"/>
              <a:ext cx="4597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eist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42960" y="5345280"/>
              <a:ext cx="7024680" cy="23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5400000">
            <a:off x="221760" y="33984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00:16:08Z</dcterms:created>
  <dc:creator>Pablo Mella S.</dc:creator>
  <dc:description/>
  <dc:language>en-US</dc:language>
  <cp:lastModifiedBy>-32768</cp:lastModifiedBy>
  <cp:lastPrinted>2001-01-16T19:59:24Z</cp:lastPrinted>
  <dcterms:modified xsi:type="dcterms:W3CDTF">2009-06-04T19:09:28Z</dcterms:modified>
  <cp:revision>94</cp:revision>
  <dc:subject/>
  <dc:title>Sin título de diapositiva</dc:title>
</cp:coreProperties>
</file>