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54F-0C61-409A-AB6F-0E71C0AC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7EB-1AEE-4030-9E61-01B25E6C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C05-555F-4B44-8C79-4F15946C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9D4-3DB6-4C96-A6EC-1DDFECFB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C04-514D-442A-A197-B8FA130B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050-026F-4430-9C5A-33168579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2A9-0C4A-46F6-89E5-5687C366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138-38F7-4CF0-8A9E-D6D15074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1B0-BC67-4B9B-BFCB-BE3D6876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7AA-1998-4217-A07F-493A73F6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926-2602-4D6A-A244-4A1F82D5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315-D7F0-4415-AF58-124FBA3A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e5e5e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4264-3584-449B-9DE7-433953227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e5e5e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89752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igura 2.4 Sección estratigráfica generalizada de la franja en est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85800" y="954000"/>
            <a:ext cx="8221680" cy="4791240"/>
            <a:chOff x="685800" y="954000"/>
            <a:chExt cx="8221680" cy="47912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685800" y="954000"/>
              <a:ext cx="8221680" cy="479124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44" name=""/>
            <p:cNvSpPr/>
            <p:nvPr/>
          </p:nvSpPr>
          <p:spPr>
            <a:xfrm>
              <a:off x="968400" y="5576760"/>
              <a:ext cx="445284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17560" y="1065240"/>
              <a:ext cx="514440" cy="43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50760" y="4162320"/>
              <a:ext cx="368280" cy="90828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55800" y="3322800"/>
              <a:ext cx="368280" cy="8348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54000" y="4164120"/>
              <a:ext cx="365040" cy="890640"/>
            </a:xfrm>
            <a:prstGeom prst="rect">
              <a:avLst/>
            </a:prstGeom>
            <a:solidFill>
              <a:srgbClr val="1ec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55800" y="5057640"/>
              <a:ext cx="365040" cy="230400"/>
            </a:xfrm>
            <a:prstGeom prst="rect">
              <a:avLst/>
            </a:prstGeom>
            <a:solidFill>
              <a:srgbClr val="7b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57240" y="1171440"/>
              <a:ext cx="361800" cy="333360"/>
            </a:xfrm>
            <a:prstGeom prst="rect">
              <a:avLst/>
            </a:prstGeom>
            <a:solidFill>
              <a:srgbClr val="ff9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54000" y="3322800"/>
              <a:ext cx="365040" cy="834840"/>
            </a:xfrm>
            <a:prstGeom prst="rect">
              <a:avLst/>
            </a:prstGeom>
            <a:solidFill>
              <a:srgbClr val="73f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57240" y="1509840"/>
              <a:ext cx="361800" cy="1807920"/>
            </a:xfrm>
            <a:prstGeom prst="rect">
              <a:avLst/>
            </a:prstGeom>
            <a:solidFill>
              <a:srgbClr val="ff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950760" y="505764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950760" y="416232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950760" y="33228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950760" y="309096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950760" y="15066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950760" y="178272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28080" y="5045040"/>
              <a:ext cx="42012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Jurás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21600" y="4514760"/>
              <a:ext cx="448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f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2760" y="3625920"/>
              <a:ext cx="448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01440" y="3138480"/>
              <a:ext cx="479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ale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42840" y="2367000"/>
              <a:ext cx="3956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21960" y="1563840"/>
              <a:ext cx="46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lig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1320" y="1281240"/>
              <a:ext cx="4201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i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953640" y="1231920"/>
              <a:ext cx="3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58680" y="1092240"/>
              <a:ext cx="363600" cy="77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5600" y="1047600"/>
              <a:ext cx="5083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leist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950760" y="11700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12960" y="1111320"/>
              <a:ext cx="423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li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57240" y="1092240"/>
              <a:ext cx="365040" cy="4197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46960" y="3519360"/>
              <a:ext cx="365400" cy="112680"/>
            </a:xfrm>
            <a:prstGeom prst="rect">
              <a:avLst/>
            </a:prstGeom>
            <a:solidFill>
              <a:srgbClr val="1ec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44080" y="3635280"/>
              <a:ext cx="366480" cy="95400"/>
            </a:xfrm>
            <a:prstGeom prst="rect">
              <a:avLst/>
            </a:prstGeom>
            <a:solidFill>
              <a:srgbClr val="7b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6960" y="3016080"/>
              <a:ext cx="363600" cy="185760"/>
            </a:xfrm>
            <a:prstGeom prst="rect">
              <a:avLst/>
            </a:prstGeom>
            <a:solidFill>
              <a:srgbClr val="ff9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46960" y="3335400"/>
              <a:ext cx="365400" cy="187200"/>
            </a:xfrm>
            <a:prstGeom prst="rect">
              <a:avLst/>
            </a:prstGeom>
            <a:solidFill>
              <a:srgbClr val="73f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46960" y="3201840"/>
              <a:ext cx="363600" cy="135000"/>
            </a:xfrm>
            <a:prstGeom prst="rect">
              <a:avLst/>
            </a:prstGeom>
            <a:solidFill>
              <a:srgbClr val="ff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346600" y="3112920"/>
              <a:ext cx="365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45520" y="2949480"/>
              <a:ext cx="363600" cy="65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8346600" y="3201840"/>
              <a:ext cx="365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48760" y="333684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345520" y="352260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345520" y="363204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46600" y="3598920"/>
              <a:ext cx="38664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Jurás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8344080" y="3014640"/>
              <a:ext cx="366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44080" y="2948040"/>
              <a:ext cx="366480" cy="78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8344080" y="3273480"/>
              <a:ext cx="366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29680" y="3484440"/>
              <a:ext cx="4078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Inf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31120" y="33210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67400" y="3224160"/>
              <a:ext cx="517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Eoceno Medi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24640" y="3159000"/>
              <a:ext cx="42444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Olig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35440" y="3076560"/>
              <a:ext cx="3819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Mi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30040" y="2976480"/>
              <a:ext cx="3880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i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02680" y="2901960"/>
              <a:ext cx="45972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eist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42960" y="5345280"/>
              <a:ext cx="7024680" cy="23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rot="5400000">
            <a:off x="221760" y="33984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00:16:08Z</dcterms:created>
  <dc:creator>Pablo Mella S.</dc:creator>
  <dc:description/>
  <dc:language>en-US</dc:language>
  <cp:lastModifiedBy>-32768</cp:lastModifiedBy>
  <cp:lastPrinted>2001-01-16T19:59:24Z</cp:lastPrinted>
  <dcterms:modified xsi:type="dcterms:W3CDTF">2009-06-04T19:09:28Z</dcterms:modified>
  <cp:revision>94</cp:revision>
  <dc:subject/>
  <dc:title>Sin título de diapositiva</dc:title>
</cp:coreProperties>
</file>