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media/image1.gif" ContentType="image/gif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C38-394C-4369-A773-B8B25C6C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CDD-1496-47CA-89CD-C2C56E6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2EE-99D9-4E23-B10C-478097C8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543-70BB-4662-836D-8D0887E4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B53-20C2-44AB-97A2-15D237F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5F3-B93F-46F3-81A8-04DD575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91A-A846-4BA9-A718-BE8B832D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3DA-727A-45E7-BFC1-FF8C5577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09A-3704-485E-9B92-FD527CE5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564-D1AA-454D-B9D2-C88792E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2BD-CB3F-40AC-A9AD-9599EBE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9E7-A507-4912-9861-4516A07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F494-99B4-46FB-95ED-C7C8ECD8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767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yes de conservación y circulación atmosf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calas y ppo. de super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692080" cy="241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30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0800000">
            <a:off x="1834920" y="3428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2362320"/>
            <a:ext cx="1371600" cy="2743200"/>
            <a:chOff x="1371600" y="2362320"/>
            <a:chExt cx="1371600" cy="2743200"/>
          </a:xfrm>
        </p:grpSpPr>
        <p:sp>
          <p:nvSpPr>
            <p:cNvPr id="143" name=""/>
            <p:cNvSpPr/>
            <p:nvPr/>
          </p:nvSpPr>
          <p:spPr>
            <a:xfrm>
              <a:off x="1371600" y="3276720"/>
              <a:ext cx="1371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42670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7400" y="2362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652200" y="1981080"/>
            <a:ext cx="49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atmósfera no se ca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erza de gravedad (hacia abajo)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da por el gradiente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esión  (hacia arr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33920" y="3581280"/>
                <a:ext cx="44193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164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880" y="2022480"/>
            <a:ext cx="3214800" cy="4374360"/>
            <a:chOff x="137880" y="2022480"/>
            <a:chExt cx="3214800" cy="4374360"/>
          </a:xfrm>
        </p:grpSpPr>
        <p:sp>
          <p:nvSpPr>
            <p:cNvPr id="150" name=""/>
            <p:cNvSpPr/>
            <p:nvPr/>
          </p:nvSpPr>
          <p:spPr>
            <a:xfrm>
              <a:off x="865080" y="2543040"/>
              <a:ext cx="1263600" cy="3259440"/>
            </a:xfrm>
            <a:custGeom>
              <a:avLst/>
              <a:gdLst/>
              <a:ahLst/>
              <a:rect l="l" t="t" r="r" b="b"/>
              <a:pathLst>
                <a:path w="796" h="2053">
                  <a:moveTo>
                    <a:pt x="0" y="0"/>
                  </a:moveTo>
                  <a:cubicBezTo>
                    <a:pt x="3" y="73"/>
                    <a:pt x="2" y="147"/>
                    <a:pt x="10" y="220"/>
                  </a:cubicBezTo>
                  <a:cubicBezTo>
                    <a:pt x="14" y="256"/>
                    <a:pt x="34" y="289"/>
                    <a:pt x="41" y="325"/>
                  </a:cubicBezTo>
                  <a:cubicBezTo>
                    <a:pt x="58" y="409"/>
                    <a:pt x="73" y="473"/>
                    <a:pt x="94" y="555"/>
                  </a:cubicBezTo>
                  <a:cubicBezTo>
                    <a:pt x="112" y="627"/>
                    <a:pt x="117" y="703"/>
                    <a:pt x="136" y="775"/>
                  </a:cubicBezTo>
                  <a:cubicBezTo>
                    <a:pt x="145" y="807"/>
                    <a:pt x="167" y="870"/>
                    <a:pt x="167" y="870"/>
                  </a:cubicBezTo>
                  <a:cubicBezTo>
                    <a:pt x="179" y="947"/>
                    <a:pt x="201" y="1024"/>
                    <a:pt x="220" y="1100"/>
                  </a:cubicBezTo>
                  <a:cubicBezTo>
                    <a:pt x="230" y="1139"/>
                    <a:pt x="251" y="1215"/>
                    <a:pt x="251" y="1215"/>
                  </a:cubicBezTo>
                  <a:cubicBezTo>
                    <a:pt x="258" y="1276"/>
                    <a:pt x="269" y="1355"/>
                    <a:pt x="293" y="1414"/>
                  </a:cubicBezTo>
                  <a:cubicBezTo>
                    <a:pt x="314" y="1467"/>
                    <a:pt x="353" y="1536"/>
                    <a:pt x="387" y="1582"/>
                  </a:cubicBezTo>
                  <a:cubicBezTo>
                    <a:pt x="396" y="1594"/>
                    <a:pt x="410" y="1601"/>
                    <a:pt x="418" y="1613"/>
                  </a:cubicBezTo>
                  <a:cubicBezTo>
                    <a:pt x="452" y="1667"/>
                    <a:pt x="481" y="1734"/>
                    <a:pt x="513" y="1791"/>
                  </a:cubicBezTo>
                  <a:cubicBezTo>
                    <a:pt x="568" y="1889"/>
                    <a:pt x="485" y="1764"/>
                    <a:pt x="586" y="1906"/>
                  </a:cubicBezTo>
                  <a:cubicBezTo>
                    <a:pt x="593" y="1916"/>
                    <a:pt x="596" y="1932"/>
                    <a:pt x="607" y="1938"/>
                  </a:cubicBezTo>
                  <a:cubicBezTo>
                    <a:pt x="622" y="1947"/>
                    <a:pt x="642" y="1945"/>
                    <a:pt x="659" y="1948"/>
                  </a:cubicBezTo>
                  <a:cubicBezTo>
                    <a:pt x="687" y="1965"/>
                    <a:pt x="722" y="1975"/>
                    <a:pt x="743" y="2001"/>
                  </a:cubicBezTo>
                  <a:cubicBezTo>
                    <a:pt x="750" y="2010"/>
                    <a:pt x="746" y="2024"/>
                    <a:pt x="754" y="2032"/>
                  </a:cubicBezTo>
                  <a:cubicBezTo>
                    <a:pt x="765" y="2043"/>
                    <a:pt x="796" y="2053"/>
                    <a:pt x="796" y="20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1337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5867280"/>
              <a:ext cx="266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80" y="2022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7960" y="5937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457200"/>
                <a:ext cx="3733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p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R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57800" y="228600"/>
                <a:ext cx="3505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758880" y="1947960"/>
            <a:ext cx="7700760" cy="2757240"/>
            <a:chOff x="758880" y="1947960"/>
            <a:chExt cx="7700760" cy="2757240"/>
          </a:xfrm>
        </p:grpSpPr>
        <p:sp>
          <p:nvSpPr>
            <p:cNvPr id="158" name=""/>
            <p:cNvSpPr/>
            <p:nvPr/>
          </p:nvSpPr>
          <p:spPr>
            <a:xfrm rot="16170600">
              <a:off x="4225680" y="-1482840"/>
              <a:ext cx="766800" cy="7694640"/>
            </a:xfrm>
            <a:custGeom>
              <a:avLst/>
              <a:gdLst>
                <a:gd name="textAreaLeft" fmla="*/ 489960 w 766800"/>
                <a:gd name="textAreaRight" fmla="*/ 767160 w 766800"/>
                <a:gd name="textAreaTop" fmla="*/ 200520 h 7694640"/>
                <a:gd name="textAreaBottom" fmla="*/ 7494120 h 76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209680" y="2895480"/>
                  <a:ext cx="4497480" cy="18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RT</m:t>
                          </m:r>
                        </m:den>
                      </m:f>
                      <m:r>
                        <m:t xml:space="preserve">∂</m:t>
                      </m:r>
                      <m:r>
                        <m:rPr>
                          <m:lit/>
                          <m:nor/>
                        </m:rPr>
                        <m:t xml:space="preserve">z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0" y="4869000"/>
            <a:ext cx="70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 da una excelente aproximación de la variación vertical de la presión. Excepto en situaciones con movimientos verticales intensos, por ejemplo, nubes convectivas (cúmulonimbus, C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43280" y="2637000"/>
            <a:ext cx="6300720" cy="4221000"/>
            <a:chOff x="2843280" y="2637000"/>
            <a:chExt cx="6300720" cy="42210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77080" y="4543560"/>
              <a:ext cx="226692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843280" y="2637000"/>
              <a:ext cx="2808360" cy="21603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cala sinó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3080" y="3994200"/>
                <a:ext cx="355680" cy="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457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6560" y="2924280"/>
            <a:ext cx="39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~10m/s; W~1 cm/s;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D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17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roximación geostró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cala sinóp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0920" y="1989000"/>
                <a:ext cx="8569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U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ρ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8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5280" y="501336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oximación geostr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198108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3124080"/>
                <a:ext cx="2783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fu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" y="4267080"/>
                <a:ext cx="278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∇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3657600"/>
            <a:ext cx="3352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5105520"/>
            <a:ext cx="3353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1440" y="2587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9000" y="5438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24480" y="3733560"/>
            <a:ext cx="0" cy="5331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267080"/>
            <a:ext cx="13716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52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9320" y="4419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8280" y="53532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&lt;0,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410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e en ausencia de fricción y curvatura con un 10-15% d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 escala sinóptica son buenas aproxima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2520" y="2276640"/>
            <a:ext cx="6457320" cy="1145880"/>
            <a:chOff x="-2520" y="2276640"/>
            <a:chExt cx="6457320" cy="11458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4427640" y="2276640"/>
                  <a:ext cx="2027160" cy="11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-2520" y="2565360"/>
              <a:ext cx="37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hidrostá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-2880" y="3933720"/>
            <a:ext cx="9146880" cy="2590560"/>
            <a:chOff x="-2880" y="3933720"/>
            <a:chExt cx="9146880" cy="2590560"/>
          </a:xfrm>
        </p:grpSpPr>
        <p:sp>
          <p:nvSpPr>
            <p:cNvPr id="193" name=""/>
            <p:cNvSpPr/>
            <p:nvPr/>
          </p:nvSpPr>
          <p:spPr>
            <a:xfrm>
              <a:off x="-2880" y="3933720"/>
              <a:ext cx="35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geostróf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57600" y="4221000"/>
              <a:ext cx="5486400" cy="2303280"/>
              <a:chOff x="3657600" y="4221000"/>
              <a:chExt cx="548640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3657600" y="4221000"/>
                    <a:ext cx="54864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-fv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3657600" y="5300280"/>
                    <a:ext cx="27828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fu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907920"/>
            <a:ext cx="9143640" cy="1959480"/>
            <a:chOff x="0" y="907920"/>
            <a:chExt cx="9143640" cy="1959480"/>
          </a:xfrm>
        </p:grpSpPr>
        <p:graphicFrame>
          <p:nvGraphicFramePr>
            <p:cNvPr id="198" name=""/>
            <p:cNvGraphicFramePr/>
            <p:nvPr/>
          </p:nvGraphicFramePr>
          <p:xfrm>
            <a:off x="0" y="907920"/>
            <a:ext cx="8511480" cy="185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07920"/>
                      <a:ext cx="8511480" cy="18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5177880" y="1311120"/>
              <a:ext cx="3965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t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anti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9143640" cy="1838880"/>
            <a:chOff x="0" y="3581280"/>
            <a:chExt cx="9143640" cy="1838880"/>
          </a:xfrm>
        </p:grpSpPr>
        <p:graphicFrame>
          <p:nvGraphicFramePr>
            <p:cNvPr id="202" name=""/>
            <p:cNvGraphicFramePr/>
            <p:nvPr/>
          </p:nvGraphicFramePr>
          <p:xfrm>
            <a:off x="0" y="3581280"/>
            <a:ext cx="9074520" cy="166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81280"/>
                      <a:ext cx="90745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520240" y="3863880"/>
              <a:ext cx="3623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j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61440" y="95400"/>
            <a:ext cx="48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ciones de meso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" y="22860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sa marina y ter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0" y="41148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le-Mont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87336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920880" cy="9205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181320" y="2514240"/>
            <a:ext cx="2438280" cy="1086120"/>
            <a:chOff x="3181320" y="2514240"/>
            <a:chExt cx="2438280" cy="1086120"/>
          </a:xfrm>
        </p:grpSpPr>
        <p:sp>
          <p:nvSpPr>
            <p:cNvPr id="211" name=""/>
            <p:cNvSpPr/>
            <p:nvPr/>
          </p:nvSpPr>
          <p:spPr>
            <a:xfrm>
              <a:off x="3181320" y="3470400"/>
              <a:ext cx="2438280" cy="12996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876920" y="2514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5760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2520" y="3276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00800" y="2437920"/>
            <a:ext cx="2438280" cy="1045080"/>
            <a:chOff x="6400800" y="2437920"/>
            <a:chExt cx="2438280" cy="1045080"/>
          </a:xfrm>
        </p:grpSpPr>
        <p:sp>
          <p:nvSpPr>
            <p:cNvPr id="217" name=""/>
            <p:cNvSpPr/>
            <p:nvPr/>
          </p:nvSpPr>
          <p:spPr>
            <a:xfrm>
              <a:off x="6400800" y="3352680"/>
              <a:ext cx="2438280" cy="13032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712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2438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2666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781680" y="3200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19680" y="3887640"/>
            <a:ext cx="1812960" cy="1525680"/>
            <a:chOff x="3919680" y="3887640"/>
            <a:chExt cx="1812960" cy="1525680"/>
          </a:xfrm>
        </p:grpSpPr>
        <p:sp>
          <p:nvSpPr>
            <p:cNvPr id="223" name=""/>
            <p:cNvSpPr/>
            <p:nvPr/>
          </p:nvSpPr>
          <p:spPr>
            <a:xfrm>
              <a:off x="4343400" y="4191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0" y="4419720"/>
              <a:ext cx="4572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9680" y="3887640"/>
              <a:ext cx="1812960" cy="152568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88000" y="4005360"/>
            <a:ext cx="1812960" cy="1525320"/>
            <a:chOff x="6588000" y="4005360"/>
            <a:chExt cx="1812960" cy="1525320"/>
          </a:xfrm>
        </p:grpSpPr>
        <p:sp>
          <p:nvSpPr>
            <p:cNvPr id="228" name=""/>
            <p:cNvSpPr/>
            <p:nvPr/>
          </p:nvSpPr>
          <p:spPr>
            <a:xfrm>
              <a:off x="7011720" y="4308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40320" y="430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240320" y="4536720"/>
              <a:ext cx="4572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4005360"/>
              <a:ext cx="1812960" cy="152532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94120" y="2205000"/>
            <a:ext cx="6149880" cy="3851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3220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bilidad atmosf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0400" y="18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220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2320" y="289548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7120" y="373392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5320" y="365760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0120" y="289548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4343400"/>
            <a:ext cx="773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aire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á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stá por debajo del 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cáli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meno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se tiene una condición e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 contrario, la condición es ine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63400" y="771480"/>
            <a:ext cx="2130840" cy="2102040"/>
            <a:chOff x="2363400" y="771480"/>
            <a:chExt cx="2130840" cy="2102040"/>
          </a:xfrm>
        </p:grpSpPr>
        <p:sp>
          <p:nvSpPr>
            <p:cNvPr id="245" name=""/>
            <p:cNvSpPr/>
            <p:nvPr/>
          </p:nvSpPr>
          <p:spPr>
            <a:xfrm flipV="1" rot="2221800">
              <a:off x="2636640" y="1103040"/>
              <a:ext cx="158400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640" y="234936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5120" y="1890720"/>
            <a:ext cx="2136600" cy="2117160"/>
            <a:chOff x="6855120" y="1890720"/>
            <a:chExt cx="2136600" cy="2117160"/>
          </a:xfrm>
        </p:grpSpPr>
        <p:sp>
          <p:nvSpPr>
            <p:cNvPr id="248" name=""/>
            <p:cNvSpPr/>
            <p:nvPr/>
          </p:nvSpPr>
          <p:spPr>
            <a:xfrm flipV="1" rot="13172400">
              <a:off x="7131600" y="2229480"/>
              <a:ext cx="158328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67640" y="198900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33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la atmósfera rige la segunda ley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o siendo un sistema en rotación, se corrige por Coriolis y por centrífu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 además se conservan la masa y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71800" y="1905120"/>
                <a:ext cx="2108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16040" y="4267080"/>
                <a:ext cx="5126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4383000" y="2514600"/>
            <a:ext cx="4372200" cy="3203640"/>
            <a:chOff x="4383000" y="2514600"/>
            <a:chExt cx="4372200" cy="320364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383000" y="4572000"/>
                  <a:ext cx="437220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Γ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º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221440" y="2514600"/>
                  <a:ext cx="33778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h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gdz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6400800" y="3352680"/>
              <a:ext cx="762120" cy="6098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fluído estratificado, una parcela de aire que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cambia calor con su entorno cambiará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eratura por expansión o compresión adiabá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800" y="2224080"/>
            <a:ext cx="4814640" cy="4635360"/>
            <a:chOff x="1800" y="2224080"/>
            <a:chExt cx="4814640" cy="4635360"/>
          </a:xfrm>
        </p:grpSpPr>
        <p:sp>
          <p:nvSpPr>
            <p:cNvPr id="256" name=""/>
            <p:cNvSpPr/>
            <p:nvPr/>
          </p:nvSpPr>
          <p:spPr>
            <a:xfrm>
              <a:off x="3048120" y="30481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360" y="45720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compre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800" y="2224080"/>
              <a:ext cx="4814640" cy="4635360"/>
              <a:chOff x="1800" y="2224080"/>
              <a:chExt cx="4814640" cy="4635360"/>
            </a:xfrm>
          </p:grpSpPr>
          <p:sp>
            <p:nvSpPr>
              <p:cNvPr id="259" name=""/>
              <p:cNvSpPr/>
              <p:nvPr/>
            </p:nvSpPr>
            <p:spPr>
              <a:xfrm>
                <a:off x="1082880" y="238608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2880" y="604368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88360" y="6338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0" y="2224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301840" y="2690640"/>
                <a:ext cx="1524240" cy="33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743200" y="2285640"/>
              <a:ext cx="228600" cy="3353040"/>
              <a:chOff x="2743200" y="2285640"/>
              <a:chExt cx="228600" cy="33530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895480" y="228564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3886200"/>
                <a:ext cx="22860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480" y="4343400"/>
                <a:ext cx="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9000" y="228600"/>
            <a:ext cx="4814640" cy="4635360"/>
            <a:chOff x="459000" y="228600"/>
            <a:chExt cx="4814640" cy="4635360"/>
          </a:xfrm>
        </p:grpSpPr>
        <p:sp>
          <p:nvSpPr>
            <p:cNvPr id="269" name=""/>
            <p:cNvSpPr/>
            <p:nvPr/>
          </p:nvSpPr>
          <p:spPr>
            <a:xfrm>
              <a:off x="1540080" y="390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0080" y="40482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560" y="4343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000" y="228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759040" y="695160"/>
              <a:ext cx="1524240" cy="3353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429000" y="762120"/>
            <a:ext cx="304920" cy="3200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8762400" cy="5991480"/>
            <a:chOff x="380880" y="380880"/>
            <a:chExt cx="8762400" cy="5991480"/>
          </a:xfrm>
        </p:grpSpPr>
        <p:sp>
          <p:nvSpPr>
            <p:cNvPr id="276" name=""/>
            <p:cNvSpPr/>
            <p:nvPr/>
          </p:nvSpPr>
          <p:spPr>
            <a:xfrm>
              <a:off x="380880" y="4572000"/>
              <a:ext cx="8534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Si al ascender (descender) la parcela de aire está más </a:t>
              </a:r>
              <a:r>
                <a:rPr b="0" lang="es-ES_tradnl" sz="2800" spc="-1" strike="noStrike">
                  <a:solidFill>
                    <a:srgbClr val="cc0000"/>
                  </a:solidFill>
                  <a:latin typeface="Times New Roman"/>
                </a:rPr>
                <a:t>cálid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frí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) que su entorno podrá, por empuje térmico, seguir ascendiendo (descendiendo). De lo contrario tenderá a descender (ascender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733920" y="380880"/>
              <a:ext cx="5176440" cy="947160"/>
              <a:chOff x="3733920" y="380880"/>
              <a:chExt cx="5176440" cy="947160"/>
            </a:xfrm>
          </p:grpSpPr>
          <p:sp>
            <p:nvSpPr>
              <p:cNvPr id="278" name=""/>
              <p:cNvSpPr/>
              <p:nvPr/>
            </p:nvSpPr>
            <p:spPr>
              <a:xfrm>
                <a:off x="5104080" y="380880"/>
                <a:ext cx="380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Mov. verticales inhibi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9" name=""/>
              <p:cNvCxnSpPr>
                <a:stCxn id="274" idx="0"/>
                <a:endCxn id="278" idx="1"/>
              </p:cNvCxnSpPr>
              <p:nvPr/>
            </p:nvCxnSpPr>
            <p:spPr>
              <a:xfrm flipH="1" rot="16200000">
                <a:off x="4354560" y="101880"/>
                <a:ext cx="130680" cy="1372320"/>
              </a:xfrm>
              <a:prstGeom prst="curvedConnector5">
                <a:avLst>
                  <a:gd name="adj1" fmla="val -146132"/>
                  <a:gd name="adj2" fmla="val 24980"/>
                  <a:gd name="adj3" fmla="val -146132"/>
                </a:avLst>
              </a:prstGeom>
              <a:ln w="9360">
                <a:solidFill>
                  <a:srgbClr val="3333cc"/>
                </a:solidFill>
                <a:miter/>
              </a:ln>
            </p:spPr>
          </p:cxnSp>
        </p:grpSp>
        <p:grpSp>
          <p:nvGrpSpPr>
            <p:cNvPr id="280" name=""/>
            <p:cNvGrpSpPr/>
            <p:nvPr/>
          </p:nvGrpSpPr>
          <p:grpSpPr>
            <a:xfrm>
              <a:off x="4876200" y="3314160"/>
              <a:ext cx="4267080" cy="1062000"/>
              <a:chOff x="4876200" y="3314160"/>
              <a:chExt cx="4267080" cy="1062000"/>
            </a:xfrm>
          </p:grpSpPr>
          <p:sp>
            <p:nvSpPr>
              <p:cNvPr id="281" name=""/>
              <p:cNvSpPr/>
              <p:nvPr/>
            </p:nvSpPr>
            <p:spPr>
              <a:xfrm>
                <a:off x="5163120" y="3429000"/>
                <a:ext cx="398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In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Mov. verticales reforza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" name=""/>
              <p:cNvCxnSpPr>
                <a:stCxn id="281" idx="1"/>
                <a:endCxn id="283" idx="0"/>
              </p:cNvCxnSpPr>
              <p:nvPr/>
            </p:nvCxnSpPr>
            <p:spPr>
              <a:xfrm rot="10800000">
                <a:off x="4876200" y="3314160"/>
                <a:ext cx="286200" cy="587880"/>
              </a:xfrm>
              <a:prstGeom prst="curvedConnector2">
                <a:avLst/>
              </a:prstGeom>
              <a:ln w="9360">
                <a:solidFill>
                  <a:srgbClr val="cc3300"/>
                </a:solidFill>
                <a:miter/>
              </a:ln>
            </p:spPr>
          </p:cxnSp>
        </p:grpSp>
      </p:grpSp>
      <p:sp>
        <p:nvSpPr>
          <p:cNvPr id="284" name=""/>
          <p:cNvSpPr/>
          <p:nvPr/>
        </p:nvSpPr>
        <p:spPr>
          <a:xfrm>
            <a:off x="2133720" y="1447920"/>
            <a:ext cx="2743200" cy="18288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22840" y="197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tro/Perfil adiab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3" idx="0"/>
            <a:endCxn id="285" idx="1"/>
          </p:cNvCxnSpPr>
          <p:nvPr/>
        </p:nvCxnSpPr>
        <p:spPr>
          <a:xfrm flipH="1" rot="16200000">
            <a:off x="3408120" y="17280"/>
            <a:ext cx="1566000" cy="2864520"/>
          </a:xfrm>
          <a:prstGeom prst="curvedConnector5">
            <a:avLst>
              <a:gd name="adj1" fmla="val -12761"/>
              <a:gd name="adj2" fmla="val 38298"/>
              <a:gd name="adj3" fmla="val -127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3492360" y="227664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1699920"/>
            <a:ext cx="215640" cy="5763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2565360"/>
            <a:ext cx="216000" cy="504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838080"/>
          <a:ext cx="9144000" cy="53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040" y="0"/>
            <a:ext cx="88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iendo de las condiciones atmosféric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ectu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1: estructura atmosférica, ppos de cir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3: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7: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bro disponible en biblioteca DG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7840" y="546588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ospheric Sciences, An Introductory Survey” (second edition, with Peter V. Hobbs) Academic Press / Elsevier, 483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s fuerzas reales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diente de pr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vi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ce, fricción o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67280" y="1981080"/>
                <a:ext cx="25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Δp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3809880"/>
                <a:ext cx="4690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934320" y="53341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934320" y="58672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562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Meteorológ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3200400" cy="3047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200" y="342900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361960"/>
            <a:ext cx="914400" cy="6094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81480" y="2284200"/>
            <a:ext cx="457200" cy="6872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07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266760" cy="476280"/>
          </a:xfrm>
          <a:custGeom>
            <a:avLst/>
            <a:gdLst/>
            <a:ahLst/>
            <a:rect l="l" t="t" r="r" b="b"/>
            <a:pathLst>
              <a:path w="168" h="300">
                <a:moveTo>
                  <a:pt x="168" y="300"/>
                </a:moveTo>
                <a:cubicBezTo>
                  <a:pt x="157" y="198"/>
                  <a:pt x="150" y="149"/>
                  <a:pt x="84" y="72"/>
                </a:cubicBezTo>
                <a:cubicBezTo>
                  <a:pt x="69" y="55"/>
                  <a:pt x="53" y="39"/>
                  <a:pt x="36" y="24"/>
                </a:cubicBezTo>
                <a:cubicBezTo>
                  <a:pt x="25" y="15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6480" y="32115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2360" y="268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743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67080" y="297180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562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0574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295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7800" y="3505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3962520"/>
            <a:ext cx="5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06920" y="1628640"/>
            <a:ext cx="2898720" cy="1755360"/>
            <a:chOff x="5506920" y="1628640"/>
            <a:chExt cx="2898720" cy="1755360"/>
          </a:xfrm>
        </p:grpSpPr>
        <p:sp>
          <p:nvSpPr>
            <p:cNvPr id="82" name=""/>
            <p:cNvSpPr/>
            <p:nvPr/>
          </p:nvSpPr>
          <p:spPr>
            <a:xfrm>
              <a:off x="5506920" y="1628640"/>
              <a:ext cx="15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merid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8000" y="29242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7640" y="20606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centrífu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480" y="2590920"/>
            <a:ext cx="48758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981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76720" y="2438280"/>
            <a:ext cx="289548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2895120"/>
            <a:ext cx="22860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43040" y="327672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48320" y="3276720"/>
            <a:ext cx="380880" cy="68580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4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77040" y="2171880"/>
            <a:ext cx="125748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05320"/>
            <a:ext cx="914400" cy="58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699" y="4865"/>
                </a:moveTo>
                <a:lnTo>
                  <a:pt x="-1800" y="426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029200"/>
                <a:ext cx="65196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>
            <a:off x="3276720" y="3276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67400" y="1962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886200"/>
            <a:ext cx="120600" cy="590400"/>
          </a:xfrm>
          <a:custGeom>
            <a:avLst/>
            <a:gdLst/>
            <a:ahLst/>
            <a:rect l="l" t="t" r="r" b="b"/>
            <a:pathLst>
              <a:path w="76" h="372">
                <a:moveTo>
                  <a:pt x="48" y="372"/>
                </a:moveTo>
                <a:cubicBezTo>
                  <a:pt x="76" y="288"/>
                  <a:pt x="76" y="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5360" y="39625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8000" y="4941720"/>
            <a:ext cx="2303640" cy="1366920"/>
          </a:xfrm>
          <a:prstGeom prst="rect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941720"/>
            <a:ext cx="934920" cy="1366920"/>
          </a:xfrm>
          <a:prstGeom prst="rect">
            <a:avLst/>
          </a:prstGeom>
          <a:solidFill>
            <a:srgbClr val="3333cc">
              <a:alpha val="20000"/>
            </a:srgbClr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941720"/>
            <a:ext cx="934920" cy="1366920"/>
          </a:xfrm>
          <a:prstGeom prst="rect">
            <a:avLst/>
          </a:prstGeom>
          <a:solidFill>
            <a:srgbClr val="ff00ff">
              <a:alpha val="2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de Cori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1080" y="37339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9880" y="184464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derecha 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520" y="54864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izquierda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5411600">
            <a:off x="3493080" y="39736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812000">
            <a:off x="4255200" y="405000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581600">
            <a:off x="4076280" y="2705040"/>
            <a:ext cx="1524240" cy="53352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291400">
            <a:off x="3466800" y="2781360"/>
            <a:ext cx="1523880" cy="5331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1052640"/>
                <a:ext cx="525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059280" y="1125360"/>
            <a:ext cx="129672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claro, la energí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95520" y="2378160"/>
                <a:ext cx="556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 un volumen de aire, la energía interna cambia si hay transformación entre energía térmica y mecánica y/o por efectos de radiación, conducción o transf. de calor la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Y la mas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68360" y="1539720"/>
                <a:ext cx="403236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6212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103480" cy="3124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00" y="62578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. de continuidad para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80880"/>
                <a:ext cx="883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v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vsin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w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1295280"/>
                <a:ext cx="7086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u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2286000"/>
                <a:ext cx="708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aura Gallardo Klenner</cp:lastModifiedBy>
  <dcterms:modified xsi:type="dcterms:W3CDTF">2009-09-08T18:26:12Z</dcterms:modified>
  <cp:revision>72</cp:revision>
  <dc:subject/>
  <dc:title>GF515 Modelación atmosférica orientada a la dispersión de contaminantes</dc:title>
</cp:coreProperties>
</file>