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6.png" ContentType="image/png"/>
  <Override PartName="/ppt/media/image15.wmf" ContentType="image/x-wmf"/>
  <Override PartName="/ppt/media/image5.png" ContentType="image/png"/>
  <Override PartName="/ppt/media/image2.gif" ContentType="image/gif"/>
  <Override PartName="/ppt/media/image10.wmf" ContentType="image/x-wmf"/>
  <Override PartName="/ppt/media/image13.jpeg" ContentType="image/jpeg"/>
  <Override PartName="/ppt/media/image6.jpeg" ContentType="image/jpeg"/>
  <Override PartName="/ppt/media/image7.wmf" ContentType="image/x-wmf"/>
  <Override PartName="/ppt/media/image1.gif" ContentType="image/gif"/>
  <Override PartName="/ppt/media/image4.png" ContentType="image/png"/>
  <Override PartName="/ppt/media/image12.wmf" ContentType="image/x-wmf"/>
  <Override PartName="/ppt/media/image8.png" ContentType="image/png"/>
  <Override PartName="/ppt/media/image14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00F-916B-4DC4-A647-7845199B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9212-BBF9-437B-8B2D-6F327526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52B-C910-4044-A01B-5181F401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B15-848C-428A-914F-FE81B0FA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44E-F3C4-4D7D-B903-AC5CB61F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DCB-AEF2-4F63-A304-16745C3E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C67-BFFE-480F-BB34-8B7F5D13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5C7-51D3-4117-9B39-24ED2802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63B-AA6E-4D5D-A81D-C18DBCCE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09B-7806-4B88-9C96-97DDFF64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544-A987-459E-BD87-4F6896AF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9095-AB03-4464-9B42-9A8AC64B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66FB-92F7-43E6-9B0D-DE5C93B5E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07672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yes de conservación y circulación atmosf</a:t>
            </a: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Escalas y ppo. de super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2692080" cy="2419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F 30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0800000">
            <a:off x="1834920" y="342864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alance hidrost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71600" y="2362320"/>
            <a:ext cx="1371600" cy="2743200"/>
            <a:chOff x="1371600" y="2362320"/>
            <a:chExt cx="1371600" cy="2743200"/>
          </a:xfrm>
        </p:grpSpPr>
        <p:sp>
          <p:nvSpPr>
            <p:cNvPr id="143" name=""/>
            <p:cNvSpPr/>
            <p:nvPr/>
          </p:nvSpPr>
          <p:spPr>
            <a:xfrm>
              <a:off x="1371600" y="3276720"/>
              <a:ext cx="1371600" cy="990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57400" y="42670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057400" y="23623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652200" y="1981080"/>
            <a:ext cx="497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 atmósfera no se cae.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erza de gravedad (hacia abajo) 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nsada por el gradiente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presión  (hacia arri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733920" y="3581280"/>
                <a:ext cx="441936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251640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7880" y="2022480"/>
            <a:ext cx="3214800" cy="4374360"/>
            <a:chOff x="137880" y="2022480"/>
            <a:chExt cx="3214800" cy="4374360"/>
          </a:xfrm>
        </p:grpSpPr>
        <p:sp>
          <p:nvSpPr>
            <p:cNvPr id="150" name=""/>
            <p:cNvSpPr/>
            <p:nvPr/>
          </p:nvSpPr>
          <p:spPr>
            <a:xfrm>
              <a:off x="865080" y="2543040"/>
              <a:ext cx="1263600" cy="3259440"/>
            </a:xfrm>
            <a:custGeom>
              <a:avLst/>
              <a:gdLst/>
              <a:ahLst/>
              <a:rect l="l" t="t" r="r" b="b"/>
              <a:pathLst>
                <a:path w="796" h="2053">
                  <a:moveTo>
                    <a:pt x="0" y="0"/>
                  </a:moveTo>
                  <a:cubicBezTo>
                    <a:pt x="3" y="73"/>
                    <a:pt x="2" y="147"/>
                    <a:pt x="10" y="220"/>
                  </a:cubicBezTo>
                  <a:cubicBezTo>
                    <a:pt x="14" y="256"/>
                    <a:pt x="34" y="289"/>
                    <a:pt x="41" y="325"/>
                  </a:cubicBezTo>
                  <a:cubicBezTo>
                    <a:pt x="58" y="409"/>
                    <a:pt x="73" y="473"/>
                    <a:pt x="94" y="555"/>
                  </a:cubicBezTo>
                  <a:cubicBezTo>
                    <a:pt x="112" y="627"/>
                    <a:pt x="117" y="703"/>
                    <a:pt x="136" y="775"/>
                  </a:cubicBezTo>
                  <a:cubicBezTo>
                    <a:pt x="145" y="807"/>
                    <a:pt x="167" y="870"/>
                    <a:pt x="167" y="870"/>
                  </a:cubicBezTo>
                  <a:cubicBezTo>
                    <a:pt x="179" y="947"/>
                    <a:pt x="201" y="1024"/>
                    <a:pt x="220" y="1100"/>
                  </a:cubicBezTo>
                  <a:cubicBezTo>
                    <a:pt x="230" y="1139"/>
                    <a:pt x="251" y="1215"/>
                    <a:pt x="251" y="1215"/>
                  </a:cubicBezTo>
                  <a:cubicBezTo>
                    <a:pt x="258" y="1276"/>
                    <a:pt x="269" y="1355"/>
                    <a:pt x="293" y="1414"/>
                  </a:cubicBezTo>
                  <a:cubicBezTo>
                    <a:pt x="314" y="1467"/>
                    <a:pt x="353" y="1536"/>
                    <a:pt x="387" y="1582"/>
                  </a:cubicBezTo>
                  <a:cubicBezTo>
                    <a:pt x="396" y="1594"/>
                    <a:pt x="410" y="1601"/>
                    <a:pt x="418" y="1613"/>
                  </a:cubicBezTo>
                  <a:cubicBezTo>
                    <a:pt x="452" y="1667"/>
                    <a:pt x="481" y="1734"/>
                    <a:pt x="513" y="1791"/>
                  </a:cubicBezTo>
                  <a:cubicBezTo>
                    <a:pt x="568" y="1889"/>
                    <a:pt x="485" y="1764"/>
                    <a:pt x="586" y="1906"/>
                  </a:cubicBezTo>
                  <a:cubicBezTo>
                    <a:pt x="593" y="1916"/>
                    <a:pt x="596" y="1932"/>
                    <a:pt x="607" y="1938"/>
                  </a:cubicBezTo>
                  <a:cubicBezTo>
                    <a:pt x="622" y="1947"/>
                    <a:pt x="642" y="1945"/>
                    <a:pt x="659" y="1948"/>
                  </a:cubicBezTo>
                  <a:cubicBezTo>
                    <a:pt x="687" y="1965"/>
                    <a:pt x="722" y="1975"/>
                    <a:pt x="743" y="2001"/>
                  </a:cubicBezTo>
                  <a:cubicBezTo>
                    <a:pt x="750" y="2010"/>
                    <a:pt x="746" y="2024"/>
                    <a:pt x="754" y="2032"/>
                  </a:cubicBezTo>
                  <a:cubicBezTo>
                    <a:pt x="765" y="2043"/>
                    <a:pt x="796" y="2053"/>
                    <a:pt x="796" y="20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2133720"/>
              <a:ext cx="0" cy="37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" y="5867280"/>
              <a:ext cx="2666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880" y="2022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67960" y="5937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8600" y="457200"/>
                <a:ext cx="37339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p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R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257800" y="228600"/>
                <a:ext cx="35053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g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7" name=""/>
          <p:cNvGrpSpPr/>
          <p:nvPr/>
        </p:nvGrpSpPr>
        <p:grpSpPr>
          <a:xfrm>
            <a:off x="758880" y="1947960"/>
            <a:ext cx="7700760" cy="2757240"/>
            <a:chOff x="758880" y="1947960"/>
            <a:chExt cx="7700760" cy="2757240"/>
          </a:xfrm>
        </p:grpSpPr>
        <p:sp>
          <p:nvSpPr>
            <p:cNvPr id="158" name=""/>
            <p:cNvSpPr/>
            <p:nvPr/>
          </p:nvSpPr>
          <p:spPr>
            <a:xfrm rot="16170600">
              <a:off x="4225680" y="-1482840"/>
              <a:ext cx="766800" cy="7694640"/>
            </a:xfrm>
            <a:custGeom>
              <a:avLst/>
              <a:gdLst>
                <a:gd name="textAreaLeft" fmla="*/ 489960 w 766800"/>
                <a:gd name="textAreaRight" fmla="*/ 767160 w 766800"/>
                <a:gd name="textAreaTop" fmla="*/ 200520 h 7694640"/>
                <a:gd name="textAreaBottom" fmla="*/ 7494120 h 769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209680" y="2895480"/>
                  <a:ext cx="4497480" cy="18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g</m:t>
                          </m:r>
                        </m:num>
                        <m:den>
                          <m:r>
                            <m:t xml:space="preserve">RT</m:t>
                          </m:r>
                        </m:den>
                      </m:f>
                      <m:r>
                        <m:t xml:space="preserve">∂</m:t>
                      </m:r>
                      <m:r>
                        <m:rPr>
                          <m:lit/>
                          <m:nor/>
                        </m:rPr>
                        <m:t xml:space="preserve">z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0" name=""/>
          <p:cNvSpPr/>
          <p:nvPr/>
        </p:nvSpPr>
        <p:spPr>
          <a:xfrm>
            <a:off x="0" y="4869000"/>
            <a:ext cx="70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o da una excelente aproximación de la variación vertical de la presión. Excepto en situaciones con movimientos verticales intensos, por ejemplo, nubes convectivas (cúmulonimbus, C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843280" y="2637000"/>
            <a:ext cx="6300720" cy="4221000"/>
            <a:chOff x="2843280" y="2637000"/>
            <a:chExt cx="6300720" cy="422100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6877080" y="4543560"/>
              <a:ext cx="2266920" cy="23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843280" y="2637000"/>
              <a:ext cx="2808360" cy="21603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cala sinóp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13080" y="3994200"/>
                <a:ext cx="355680" cy="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5148360" cy="4570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146560" y="2924280"/>
            <a:ext cx="39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~10m/s; W~1 cm/s;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~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m; D~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m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/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~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s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450200" y="0"/>
            <a:ext cx="1693800" cy="179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roximación geostrófica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scala sinóp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50920" y="1989000"/>
                <a:ext cx="8569080" cy="30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vtan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vsin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w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U</m:t>
                                </m:r>
                              </m:den>
                            </m:f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U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ρ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f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W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4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5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8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6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835280" y="5013360"/>
                <a:ext cx="5486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-f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roximación geostróf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0880" y="1981080"/>
                <a:ext cx="5486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-f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0880" y="3124080"/>
                <a:ext cx="27831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fu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7200" y="4267080"/>
                <a:ext cx="2782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f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x</m:t>
                    </m:r>
                    <m:r>
                      <m:t xml:space="preserve">∇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876920" y="3657600"/>
            <a:ext cx="3352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5105520"/>
            <a:ext cx="33530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01440" y="25876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99000" y="54388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324480" y="3733560"/>
            <a:ext cx="0" cy="5331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4267080"/>
            <a:ext cx="0" cy="6098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4267080"/>
            <a:ext cx="1371600" cy="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3524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49320" y="441972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-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08280" y="535320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&lt;0,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4100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le en ausencia de fricción y curvatura con un 10-15% d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A escala sinóptica son buenas aproximacion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-2520" y="2276640"/>
            <a:ext cx="6457320" cy="1145880"/>
            <a:chOff x="-2520" y="2276640"/>
            <a:chExt cx="6457320" cy="1145880"/>
          </a:xfrm>
        </p:grpSpPr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4427640" y="2276640"/>
                  <a:ext cx="2027160" cy="11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ρ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1" name=""/>
            <p:cNvSpPr/>
            <p:nvPr/>
          </p:nvSpPr>
          <p:spPr>
            <a:xfrm>
              <a:off x="-2520" y="2565360"/>
              <a:ext cx="374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00"/>
                  </a:solidFill>
                  <a:latin typeface="Times New Roman"/>
                </a:rPr>
                <a:t>Balance hidrostátic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-2880" y="3933720"/>
            <a:ext cx="9146880" cy="2590560"/>
            <a:chOff x="-2880" y="3933720"/>
            <a:chExt cx="9146880" cy="2590560"/>
          </a:xfrm>
        </p:grpSpPr>
        <p:sp>
          <p:nvSpPr>
            <p:cNvPr id="193" name=""/>
            <p:cNvSpPr/>
            <p:nvPr/>
          </p:nvSpPr>
          <p:spPr>
            <a:xfrm>
              <a:off x="-2880" y="3933720"/>
              <a:ext cx="35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00"/>
                  </a:solidFill>
                  <a:latin typeface="Times New Roman"/>
                </a:rPr>
                <a:t>Balance geostrófic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657600" y="4221000"/>
              <a:ext cx="5486400" cy="2303280"/>
              <a:chOff x="3657600" y="4221000"/>
              <a:chExt cx="5486400" cy="2303280"/>
            </a:xfrm>
          </p:grpSpPr>
          <mc:AlternateContent>
            <mc:Choice xmlns:a14="http://schemas.microsoft.com/office/drawing/2010/main" Requires="a14">
              <p:sp>
                <p:nvSpPr>
                  <p:cNvPr id="195" name=""/>
                  <p:cNvSpPr txBox="1"/>
                  <p:nvPr/>
                </p:nvSpPr>
                <p:spPr>
                  <a:xfrm>
                    <a:off x="3657600" y="4221000"/>
                    <a:ext cx="5486400" cy="122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-fv</m:t>
                        </m:r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6" name=""/>
                  <p:cNvSpPr txBox="1"/>
                  <p:nvPr/>
                </p:nvSpPr>
                <p:spPr>
                  <a:xfrm>
                    <a:off x="3657600" y="5300280"/>
                    <a:ext cx="2782800" cy="122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fu</m:t>
                        </m:r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907920"/>
            <a:ext cx="9143640" cy="1959480"/>
            <a:chOff x="0" y="907920"/>
            <a:chExt cx="9143640" cy="1959480"/>
          </a:xfrm>
        </p:grpSpPr>
        <p:graphicFrame>
          <p:nvGraphicFramePr>
            <p:cNvPr id="198" name=""/>
            <p:cNvGraphicFramePr/>
            <p:nvPr/>
          </p:nvGraphicFramePr>
          <p:xfrm>
            <a:off x="0" y="907920"/>
            <a:ext cx="8511480" cy="1852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907920"/>
                      <a:ext cx="8511480" cy="185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5177880" y="1311120"/>
              <a:ext cx="39657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lta (H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irculación anticiclónic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0" y="3581280"/>
            <a:ext cx="9143640" cy="1838880"/>
            <a:chOff x="0" y="3581280"/>
            <a:chExt cx="9143640" cy="1838880"/>
          </a:xfrm>
        </p:grpSpPr>
        <p:graphicFrame>
          <p:nvGraphicFramePr>
            <p:cNvPr id="202" name=""/>
            <p:cNvGraphicFramePr/>
            <p:nvPr/>
          </p:nvGraphicFramePr>
          <p:xfrm>
            <a:off x="0" y="3581280"/>
            <a:ext cx="9074520" cy="16621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81280"/>
                      <a:ext cx="9074520" cy="16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5520240" y="3863880"/>
              <a:ext cx="3623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aja (H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irculación ciclónic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61440" y="95400"/>
            <a:ext cx="48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ciones de mesoesc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0" y="228600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sa marina y ter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80" y="4114800"/>
            <a:ext cx="23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le-Montañ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352680" y="1066680"/>
            <a:ext cx="873360" cy="1295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010280" y="1219320"/>
            <a:ext cx="920880" cy="92052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3181320" y="2514240"/>
            <a:ext cx="2438280" cy="1086120"/>
            <a:chOff x="3181320" y="2514240"/>
            <a:chExt cx="2438280" cy="1086120"/>
          </a:xfrm>
        </p:grpSpPr>
        <p:sp>
          <p:nvSpPr>
            <p:cNvPr id="211" name=""/>
            <p:cNvSpPr/>
            <p:nvPr/>
          </p:nvSpPr>
          <p:spPr>
            <a:xfrm>
              <a:off x="3181320" y="3470400"/>
              <a:ext cx="2438280" cy="129960"/>
            </a:xfrm>
            <a:custGeom>
              <a:avLst/>
              <a:gdLst/>
              <a:ahLst/>
              <a:rect l="l" t="t" r="r" b="b"/>
              <a:pathLst>
                <a:path w="1536" h="82">
                  <a:moveTo>
                    <a:pt x="0" y="34"/>
                  </a:moveTo>
                  <a:cubicBezTo>
                    <a:pt x="103" y="0"/>
                    <a:pt x="144" y="10"/>
                    <a:pt x="252" y="46"/>
                  </a:cubicBezTo>
                  <a:cubicBezTo>
                    <a:pt x="310" y="27"/>
                    <a:pt x="324" y="50"/>
                    <a:pt x="372" y="82"/>
                  </a:cubicBezTo>
                  <a:cubicBezTo>
                    <a:pt x="800" y="29"/>
                    <a:pt x="890" y="46"/>
                    <a:pt x="1536" y="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876920" y="251424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657600" y="251460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57600" y="2666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62520" y="32767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400800" y="2437920"/>
            <a:ext cx="2438280" cy="1045080"/>
            <a:chOff x="6400800" y="2437920"/>
            <a:chExt cx="2438280" cy="1045080"/>
          </a:xfrm>
        </p:grpSpPr>
        <p:sp>
          <p:nvSpPr>
            <p:cNvPr id="217" name=""/>
            <p:cNvSpPr/>
            <p:nvPr/>
          </p:nvSpPr>
          <p:spPr>
            <a:xfrm>
              <a:off x="6400800" y="3352680"/>
              <a:ext cx="2438280" cy="130320"/>
            </a:xfrm>
            <a:custGeom>
              <a:avLst/>
              <a:gdLst/>
              <a:ahLst/>
              <a:rect l="l" t="t" r="r" b="b"/>
              <a:pathLst>
                <a:path w="1536" h="82">
                  <a:moveTo>
                    <a:pt x="0" y="34"/>
                  </a:moveTo>
                  <a:cubicBezTo>
                    <a:pt x="103" y="0"/>
                    <a:pt x="144" y="10"/>
                    <a:pt x="252" y="46"/>
                  </a:cubicBezTo>
                  <a:cubicBezTo>
                    <a:pt x="310" y="27"/>
                    <a:pt x="324" y="50"/>
                    <a:pt x="372" y="82"/>
                  </a:cubicBezTo>
                  <a:cubicBezTo>
                    <a:pt x="800" y="29"/>
                    <a:pt x="890" y="46"/>
                    <a:pt x="1536" y="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477120" y="24379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81680" y="24382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53280" y="2666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781680" y="3200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19680" y="3887640"/>
            <a:ext cx="1812960" cy="1525680"/>
            <a:chOff x="3919680" y="3887640"/>
            <a:chExt cx="1812960" cy="1525680"/>
          </a:xfrm>
        </p:grpSpPr>
        <p:sp>
          <p:nvSpPr>
            <p:cNvPr id="223" name=""/>
            <p:cNvSpPr/>
            <p:nvPr/>
          </p:nvSpPr>
          <p:spPr>
            <a:xfrm>
              <a:off x="4343400" y="41911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572000" y="4191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572000" y="4419720"/>
              <a:ext cx="45720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19680" y="3887640"/>
              <a:ext cx="1812960" cy="1525680"/>
            </a:xfrm>
            <a:custGeom>
              <a:avLst/>
              <a:gdLst/>
              <a:ahLst/>
              <a:rect l="l" t="t" r="r" b="b"/>
              <a:pathLst>
                <a:path w="1142" h="961">
                  <a:moveTo>
                    <a:pt x="0" y="961"/>
                  </a:moveTo>
                  <a:cubicBezTo>
                    <a:pt x="76" y="958"/>
                    <a:pt x="152" y="959"/>
                    <a:pt x="228" y="952"/>
                  </a:cubicBezTo>
                  <a:cubicBezTo>
                    <a:pt x="247" y="950"/>
                    <a:pt x="265" y="940"/>
                    <a:pt x="283" y="934"/>
                  </a:cubicBezTo>
                  <a:cubicBezTo>
                    <a:pt x="292" y="931"/>
                    <a:pt x="310" y="925"/>
                    <a:pt x="310" y="925"/>
                  </a:cubicBezTo>
                  <a:cubicBezTo>
                    <a:pt x="344" y="891"/>
                    <a:pt x="393" y="878"/>
                    <a:pt x="429" y="842"/>
                  </a:cubicBezTo>
                  <a:cubicBezTo>
                    <a:pt x="444" y="827"/>
                    <a:pt x="460" y="812"/>
                    <a:pt x="475" y="797"/>
                  </a:cubicBezTo>
                  <a:cubicBezTo>
                    <a:pt x="481" y="791"/>
                    <a:pt x="493" y="778"/>
                    <a:pt x="493" y="778"/>
                  </a:cubicBezTo>
                  <a:cubicBezTo>
                    <a:pt x="500" y="758"/>
                    <a:pt x="548" y="684"/>
                    <a:pt x="557" y="678"/>
                  </a:cubicBezTo>
                  <a:cubicBezTo>
                    <a:pt x="592" y="655"/>
                    <a:pt x="577" y="668"/>
                    <a:pt x="603" y="641"/>
                  </a:cubicBezTo>
                  <a:cubicBezTo>
                    <a:pt x="613" y="611"/>
                    <a:pt x="649" y="559"/>
                    <a:pt x="649" y="559"/>
                  </a:cubicBezTo>
                  <a:cubicBezTo>
                    <a:pt x="662" y="519"/>
                    <a:pt x="684" y="487"/>
                    <a:pt x="713" y="458"/>
                  </a:cubicBezTo>
                  <a:cubicBezTo>
                    <a:pt x="732" y="400"/>
                    <a:pt x="748" y="342"/>
                    <a:pt x="768" y="285"/>
                  </a:cubicBezTo>
                  <a:cubicBezTo>
                    <a:pt x="778" y="255"/>
                    <a:pt x="781" y="222"/>
                    <a:pt x="795" y="193"/>
                  </a:cubicBezTo>
                  <a:cubicBezTo>
                    <a:pt x="805" y="172"/>
                    <a:pt x="824" y="155"/>
                    <a:pt x="841" y="138"/>
                  </a:cubicBezTo>
                  <a:cubicBezTo>
                    <a:pt x="849" y="114"/>
                    <a:pt x="861" y="77"/>
                    <a:pt x="886" y="65"/>
                  </a:cubicBezTo>
                  <a:cubicBezTo>
                    <a:pt x="903" y="56"/>
                    <a:pt x="941" y="47"/>
                    <a:pt x="941" y="47"/>
                  </a:cubicBezTo>
                  <a:cubicBezTo>
                    <a:pt x="991" y="0"/>
                    <a:pt x="1079" y="10"/>
                    <a:pt x="1142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588000" y="4005360"/>
            <a:ext cx="1812960" cy="1525320"/>
            <a:chOff x="6588000" y="4005360"/>
            <a:chExt cx="1812960" cy="1525320"/>
          </a:xfrm>
        </p:grpSpPr>
        <p:sp>
          <p:nvSpPr>
            <p:cNvPr id="228" name=""/>
            <p:cNvSpPr/>
            <p:nvPr/>
          </p:nvSpPr>
          <p:spPr>
            <a:xfrm>
              <a:off x="7011720" y="430848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240320" y="4308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240320" y="4536720"/>
              <a:ext cx="45720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88000" y="4005360"/>
              <a:ext cx="1812960" cy="1525320"/>
            </a:xfrm>
            <a:custGeom>
              <a:avLst/>
              <a:gdLst/>
              <a:ahLst/>
              <a:rect l="l" t="t" r="r" b="b"/>
              <a:pathLst>
                <a:path w="1142" h="961">
                  <a:moveTo>
                    <a:pt x="0" y="961"/>
                  </a:moveTo>
                  <a:cubicBezTo>
                    <a:pt x="76" y="958"/>
                    <a:pt x="152" y="959"/>
                    <a:pt x="228" y="952"/>
                  </a:cubicBezTo>
                  <a:cubicBezTo>
                    <a:pt x="247" y="950"/>
                    <a:pt x="265" y="940"/>
                    <a:pt x="283" y="934"/>
                  </a:cubicBezTo>
                  <a:cubicBezTo>
                    <a:pt x="292" y="931"/>
                    <a:pt x="310" y="925"/>
                    <a:pt x="310" y="925"/>
                  </a:cubicBezTo>
                  <a:cubicBezTo>
                    <a:pt x="344" y="891"/>
                    <a:pt x="393" y="878"/>
                    <a:pt x="429" y="842"/>
                  </a:cubicBezTo>
                  <a:cubicBezTo>
                    <a:pt x="444" y="827"/>
                    <a:pt x="460" y="812"/>
                    <a:pt x="475" y="797"/>
                  </a:cubicBezTo>
                  <a:cubicBezTo>
                    <a:pt x="481" y="791"/>
                    <a:pt x="493" y="778"/>
                    <a:pt x="493" y="778"/>
                  </a:cubicBezTo>
                  <a:cubicBezTo>
                    <a:pt x="500" y="758"/>
                    <a:pt x="548" y="684"/>
                    <a:pt x="557" y="678"/>
                  </a:cubicBezTo>
                  <a:cubicBezTo>
                    <a:pt x="592" y="655"/>
                    <a:pt x="577" y="668"/>
                    <a:pt x="603" y="641"/>
                  </a:cubicBezTo>
                  <a:cubicBezTo>
                    <a:pt x="613" y="611"/>
                    <a:pt x="649" y="559"/>
                    <a:pt x="649" y="559"/>
                  </a:cubicBezTo>
                  <a:cubicBezTo>
                    <a:pt x="662" y="519"/>
                    <a:pt x="684" y="487"/>
                    <a:pt x="713" y="458"/>
                  </a:cubicBezTo>
                  <a:cubicBezTo>
                    <a:pt x="732" y="400"/>
                    <a:pt x="748" y="342"/>
                    <a:pt x="768" y="285"/>
                  </a:cubicBezTo>
                  <a:cubicBezTo>
                    <a:pt x="778" y="255"/>
                    <a:pt x="781" y="222"/>
                    <a:pt x="795" y="193"/>
                  </a:cubicBezTo>
                  <a:cubicBezTo>
                    <a:pt x="805" y="172"/>
                    <a:pt x="824" y="155"/>
                    <a:pt x="841" y="138"/>
                  </a:cubicBezTo>
                  <a:cubicBezTo>
                    <a:pt x="849" y="114"/>
                    <a:pt x="861" y="77"/>
                    <a:pt x="886" y="65"/>
                  </a:cubicBezTo>
                  <a:cubicBezTo>
                    <a:pt x="903" y="56"/>
                    <a:pt x="941" y="47"/>
                    <a:pt x="941" y="47"/>
                  </a:cubicBezTo>
                  <a:cubicBezTo>
                    <a:pt x="991" y="0"/>
                    <a:pt x="1079" y="10"/>
                    <a:pt x="1142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994120" y="2205000"/>
            <a:ext cx="6149880" cy="3851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4732200" cy="308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abilidad atmosfé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20400" y="182880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2200" y="18288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350532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350532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2320" y="2895480"/>
            <a:ext cx="11286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á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7120" y="3733920"/>
            <a:ext cx="11286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á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5320" y="3657600"/>
            <a:ext cx="7750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r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40120" y="2895480"/>
            <a:ext cx="7750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r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7320" y="4343400"/>
            <a:ext cx="773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el aire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frí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más dens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 está por debajo del a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</a:rPr>
              <a:t>cáli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800" spc="-1" strike="noStrike">
                <a:solidFill>
                  <a:srgbClr val="cc0000"/>
                </a:solidFill>
                <a:latin typeface="Times New Roman"/>
              </a:rPr>
              <a:t>menos dens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 se tiene una condición es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o contrario, la condición es ine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363400" y="771480"/>
            <a:ext cx="2130840" cy="2102040"/>
            <a:chOff x="2363400" y="771480"/>
            <a:chExt cx="2130840" cy="2102040"/>
          </a:xfrm>
        </p:grpSpPr>
        <p:sp>
          <p:nvSpPr>
            <p:cNvPr id="245" name=""/>
            <p:cNvSpPr/>
            <p:nvPr/>
          </p:nvSpPr>
          <p:spPr>
            <a:xfrm flipV="1" rot="2221800">
              <a:off x="2636640" y="1103040"/>
              <a:ext cx="1584000" cy="143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9640" y="2349360"/>
              <a:ext cx="215640" cy="216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855120" y="1890720"/>
            <a:ext cx="2136600" cy="2117160"/>
            <a:chOff x="6855120" y="1890720"/>
            <a:chExt cx="2136600" cy="2117160"/>
          </a:xfrm>
        </p:grpSpPr>
        <p:sp>
          <p:nvSpPr>
            <p:cNvPr id="248" name=""/>
            <p:cNvSpPr/>
            <p:nvPr/>
          </p:nvSpPr>
          <p:spPr>
            <a:xfrm flipV="1" rot="13172400">
              <a:off x="7131600" y="2229480"/>
              <a:ext cx="1583280" cy="143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67640" y="1989000"/>
              <a:ext cx="215640" cy="215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2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533520"/>
            <a:ext cx="77724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 la atmósfera rige la segunda ley de New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ro siendo un sistema en rotación, se corrige por Coriolis y por centrífug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Y además se conservan la masa y la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971800" y="1905120"/>
                <a:ext cx="21081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616040" y="4267080"/>
                <a:ext cx="5126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4383000" y="2514600"/>
            <a:ext cx="4372200" cy="3203640"/>
            <a:chOff x="4383000" y="2514600"/>
            <a:chExt cx="4372200" cy="3203640"/>
          </a:xfrm>
        </p:grpSpPr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4383000" y="4572000"/>
                  <a:ext cx="4372200" cy="11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g</m:t>
                          </m:r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Γ</m:t>
                      </m:r>
                      <m:r>
                        <m:t xml:space="preserve">≈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ºK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5221440" y="2514600"/>
                  <a:ext cx="337788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h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d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gdz</m:t>
                      </m:r>
                      <m:r>
                        <m:t xml:space="preserve">≈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6400800" y="3352680"/>
              <a:ext cx="762120" cy="6098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28600" y="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fluído estratificado, una parcela de aire que 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cambia calor con su entorno cambiará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mperatura por expansión o compresión adiabá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800" y="2224080"/>
            <a:ext cx="4814640" cy="4635360"/>
            <a:chOff x="1800" y="2224080"/>
            <a:chExt cx="4814640" cy="4635360"/>
          </a:xfrm>
        </p:grpSpPr>
        <p:sp>
          <p:nvSpPr>
            <p:cNvPr id="256" name=""/>
            <p:cNvSpPr/>
            <p:nvPr/>
          </p:nvSpPr>
          <p:spPr>
            <a:xfrm>
              <a:off x="3048120" y="3048120"/>
              <a:ext cx="16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000000"/>
                  </a:solidFill>
                  <a:latin typeface="Times New Roman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43360" y="4572000"/>
              <a:ext cx="184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000000"/>
                  </a:solidFill>
                  <a:latin typeface="Times New Roman"/>
                </a:rPr>
                <a:t>compres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800" y="2224080"/>
              <a:ext cx="4814640" cy="4635360"/>
              <a:chOff x="1800" y="2224080"/>
              <a:chExt cx="4814640" cy="4635360"/>
            </a:xfrm>
          </p:grpSpPr>
          <p:sp>
            <p:nvSpPr>
              <p:cNvPr id="259" name=""/>
              <p:cNvSpPr/>
              <p:nvPr/>
            </p:nvSpPr>
            <p:spPr>
              <a:xfrm>
                <a:off x="1082880" y="238608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082880" y="604368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88360" y="63388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00" y="222408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2301840" y="2690640"/>
                <a:ext cx="1524240" cy="335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743200" y="2285640"/>
              <a:ext cx="228600" cy="3353040"/>
              <a:chOff x="2743200" y="2285640"/>
              <a:chExt cx="228600" cy="335304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2895480" y="2285640"/>
                <a:ext cx="0" cy="1523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43200" y="3886200"/>
                <a:ext cx="22860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95480" y="4343400"/>
                <a:ext cx="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459000" y="228600"/>
            <a:ext cx="4814640" cy="4635360"/>
            <a:chOff x="459000" y="228600"/>
            <a:chExt cx="4814640" cy="4635360"/>
          </a:xfrm>
        </p:grpSpPr>
        <p:sp>
          <p:nvSpPr>
            <p:cNvPr id="269" name=""/>
            <p:cNvSpPr/>
            <p:nvPr/>
          </p:nvSpPr>
          <p:spPr>
            <a:xfrm>
              <a:off x="1540080" y="3906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40080" y="404820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45560" y="43434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9000" y="2286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2759040" y="695160"/>
              <a:ext cx="1524240" cy="33530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flipV="1">
            <a:off x="3429000" y="762120"/>
            <a:ext cx="304920" cy="32004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0880" y="380880"/>
            <a:ext cx="8762400" cy="5991480"/>
            <a:chOff x="380880" y="380880"/>
            <a:chExt cx="8762400" cy="5991480"/>
          </a:xfrm>
        </p:grpSpPr>
        <p:sp>
          <p:nvSpPr>
            <p:cNvPr id="276" name=""/>
            <p:cNvSpPr/>
            <p:nvPr/>
          </p:nvSpPr>
          <p:spPr>
            <a:xfrm>
              <a:off x="380880" y="4572000"/>
              <a:ext cx="8534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Si al ascender (descender) la parcela de aire está más </a:t>
              </a:r>
              <a:r>
                <a:rPr b="0" lang="es-ES_tradnl" sz="2800" spc="-1" strike="noStrike">
                  <a:solidFill>
                    <a:srgbClr val="cc0000"/>
                  </a:solidFill>
                  <a:latin typeface="Times New Roman"/>
                </a:rPr>
                <a:t>cálida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s-ES_tradnl" sz="2800" spc="-1" strike="noStrike">
                  <a:solidFill>
                    <a:srgbClr val="3333cc"/>
                  </a:solidFill>
                  <a:latin typeface="Times New Roman"/>
                </a:rPr>
                <a:t>fría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) que su entorno podrá, por empuje térmico, seguir ascendiendo (descendiendo). De lo contrario tenderá a descender (ascender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733920" y="380880"/>
              <a:ext cx="5176440" cy="947160"/>
              <a:chOff x="3733920" y="380880"/>
              <a:chExt cx="5176440" cy="947160"/>
            </a:xfrm>
          </p:grpSpPr>
          <p:sp>
            <p:nvSpPr>
              <p:cNvPr id="278" name=""/>
              <p:cNvSpPr/>
              <p:nvPr/>
            </p:nvSpPr>
            <p:spPr>
              <a:xfrm>
                <a:off x="5104080" y="380880"/>
                <a:ext cx="3806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3333cc"/>
                    </a:solidFill>
                    <a:latin typeface="Times New Roman"/>
                  </a:rPr>
                  <a:t>Est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3333cc"/>
                    </a:solidFill>
                    <a:latin typeface="Times New Roman"/>
                  </a:rPr>
                  <a:t>Mov. verticales inhibido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9" name=""/>
              <p:cNvCxnSpPr>
                <a:stCxn id="274" idx="0"/>
                <a:endCxn id="278" idx="1"/>
              </p:cNvCxnSpPr>
              <p:nvPr/>
            </p:nvCxnSpPr>
            <p:spPr>
              <a:xfrm flipH="1" rot="16200000">
                <a:off x="4354560" y="101880"/>
                <a:ext cx="130680" cy="1372320"/>
              </a:xfrm>
              <a:prstGeom prst="curvedConnector5">
                <a:avLst>
                  <a:gd name="adj1" fmla="val -146132"/>
                  <a:gd name="adj2" fmla="val 24980"/>
                  <a:gd name="adj3" fmla="val -146132"/>
                </a:avLst>
              </a:prstGeom>
              <a:ln w="9360">
                <a:solidFill>
                  <a:srgbClr val="3333cc"/>
                </a:solidFill>
                <a:miter/>
              </a:ln>
            </p:spPr>
          </p:cxnSp>
        </p:grpSp>
        <p:grpSp>
          <p:nvGrpSpPr>
            <p:cNvPr id="280" name=""/>
            <p:cNvGrpSpPr/>
            <p:nvPr/>
          </p:nvGrpSpPr>
          <p:grpSpPr>
            <a:xfrm>
              <a:off x="4876200" y="3314160"/>
              <a:ext cx="4267080" cy="1062000"/>
              <a:chOff x="4876200" y="3314160"/>
              <a:chExt cx="4267080" cy="1062000"/>
            </a:xfrm>
          </p:grpSpPr>
          <p:sp>
            <p:nvSpPr>
              <p:cNvPr id="281" name=""/>
              <p:cNvSpPr/>
              <p:nvPr/>
            </p:nvSpPr>
            <p:spPr>
              <a:xfrm>
                <a:off x="5163120" y="3429000"/>
                <a:ext cx="39801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cc3300"/>
                    </a:solidFill>
                    <a:latin typeface="Times New Roman"/>
                  </a:rPr>
                  <a:t>Inest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cc3300"/>
                    </a:solidFill>
                    <a:latin typeface="Times New Roman"/>
                  </a:rPr>
                  <a:t>Mov. verticales reforzado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2" name=""/>
              <p:cNvCxnSpPr>
                <a:stCxn id="281" idx="1"/>
                <a:endCxn id="283" idx="0"/>
              </p:cNvCxnSpPr>
              <p:nvPr/>
            </p:nvCxnSpPr>
            <p:spPr>
              <a:xfrm rot="10800000">
                <a:off x="4876200" y="3314160"/>
                <a:ext cx="286200" cy="587880"/>
              </a:xfrm>
              <a:prstGeom prst="curvedConnector2">
                <a:avLst/>
              </a:prstGeom>
              <a:ln w="9360">
                <a:solidFill>
                  <a:srgbClr val="cc3300"/>
                </a:solidFill>
                <a:miter/>
              </a:ln>
            </p:spPr>
          </p:cxnSp>
        </p:grpSp>
      </p:grpSp>
      <p:sp>
        <p:nvSpPr>
          <p:cNvPr id="284" name=""/>
          <p:cNvSpPr/>
          <p:nvPr/>
        </p:nvSpPr>
        <p:spPr>
          <a:xfrm>
            <a:off x="2133720" y="1447920"/>
            <a:ext cx="2743200" cy="18288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22840" y="197172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eutro/Perfil adiab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73" idx="0"/>
            <a:endCxn id="285" idx="1"/>
          </p:cNvCxnSpPr>
          <p:nvPr/>
        </p:nvCxnSpPr>
        <p:spPr>
          <a:xfrm flipH="1" rot="16200000">
            <a:off x="3408120" y="17280"/>
            <a:ext cx="1566000" cy="2864520"/>
          </a:xfrm>
          <a:prstGeom prst="curvedConnector5">
            <a:avLst>
              <a:gd name="adj1" fmla="val -12761"/>
              <a:gd name="adj2" fmla="val 38298"/>
              <a:gd name="adj3" fmla="val -1276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3492360" y="2276640"/>
            <a:ext cx="216000" cy="21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3276360" y="1699920"/>
            <a:ext cx="215640" cy="57636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2565360"/>
            <a:ext cx="216000" cy="5047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0" y="838080"/>
          <a:ext cx="9144000" cy="53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3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5040" y="0"/>
            <a:ext cx="88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iendo de las condiciones atmosférica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Lectur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563640" y="1628640"/>
            <a:ext cx="48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pítulo 1: estructura atmosférica, ppos de cir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pítulo 3: Est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pítulo 7: Diná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ibro disponible en biblioteca DG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1592280"/>
            <a:ext cx="3672000" cy="3672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47840" y="5465880"/>
            <a:ext cx="779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mospheric Sciences, An Introductory Survey” (second edition, with Peter V. Hobbs) Academic Press / Elsevier, 483 p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as fuerzas reales s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adiente de pre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avit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oce, fricción o ciza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867280" y="1981080"/>
                <a:ext cx="2514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ΔΔp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191120" y="3809880"/>
                <a:ext cx="46908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Δ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934320" y="53341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6324480"/>
            <a:ext cx="1524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14760" y="3346560"/>
                <a:ext cx="112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514760" y="3346560"/>
                <a:ext cx="112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514760" y="3346560"/>
                <a:ext cx="112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934320" y="58672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55627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Meteorológ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2362320"/>
            <a:ext cx="3200400" cy="30477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8098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200" y="342900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638680" y="2361960"/>
            <a:ext cx="914400" cy="60948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181480" y="2284200"/>
            <a:ext cx="457200" cy="6872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71960" y="20764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676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266760" cy="476280"/>
          </a:xfrm>
          <a:custGeom>
            <a:avLst/>
            <a:gdLst/>
            <a:ahLst/>
            <a:rect l="l" t="t" r="r" b="b"/>
            <a:pathLst>
              <a:path w="168" h="300">
                <a:moveTo>
                  <a:pt x="168" y="300"/>
                </a:moveTo>
                <a:cubicBezTo>
                  <a:pt x="157" y="198"/>
                  <a:pt x="150" y="149"/>
                  <a:pt x="84" y="72"/>
                </a:cubicBezTo>
                <a:cubicBezTo>
                  <a:pt x="69" y="55"/>
                  <a:pt x="53" y="39"/>
                  <a:pt x="36" y="24"/>
                </a:cubicBezTo>
                <a:cubicBezTo>
                  <a:pt x="25" y="15"/>
                  <a:pt x="0" y="0"/>
                  <a:pt x="0" y="0"/>
                </a:cubicBezTo>
              </a:path>
            </a:pathLst>
          </a:custGeom>
          <a:noFill/>
          <a:ln w="381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76480" y="32115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22360" y="2685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743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267080" y="2971800"/>
            <a:ext cx="137160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5562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2057400"/>
            <a:ext cx="762120" cy="228600"/>
          </a:xfrm>
          <a:custGeom>
            <a:avLst/>
            <a:gdLst>
              <a:gd name="textAreaLeft" fmla="*/ 133200 w 762120"/>
              <a:gd name="textAreaRight" fmla="*/ 552600 w 762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295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7800" y="350532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3962520"/>
            <a:ext cx="5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5506920" y="1628640"/>
            <a:ext cx="2898720" cy="1755360"/>
            <a:chOff x="5506920" y="1628640"/>
            <a:chExt cx="2898720" cy="1755360"/>
          </a:xfrm>
        </p:grpSpPr>
        <p:sp>
          <p:nvSpPr>
            <p:cNvPr id="82" name=""/>
            <p:cNvSpPr/>
            <p:nvPr/>
          </p:nvSpPr>
          <p:spPr>
            <a:xfrm>
              <a:off x="5506920" y="1628640"/>
              <a:ext cx="150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merid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28000" y="29242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z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07640" y="206064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vert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efecto centrífu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480" y="2590920"/>
            <a:ext cx="487584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198108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449568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276720" y="2438280"/>
            <a:ext cx="2895480" cy="198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276720" y="2895120"/>
            <a:ext cx="22860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343040" y="3276720"/>
            <a:ext cx="68580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209680"/>
            <a:ext cx="762120" cy="228600"/>
          </a:xfrm>
          <a:custGeom>
            <a:avLst/>
            <a:gdLst>
              <a:gd name="textAreaLeft" fmla="*/ 133200 w 762120"/>
              <a:gd name="textAreaRight" fmla="*/ 552600 w 762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3276720"/>
            <a:ext cx="8380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648320" y="3276720"/>
            <a:ext cx="380880" cy="685800"/>
          </a:xfrm>
          <a:prstGeom prst="line">
            <a:avLst/>
          </a:prstGeom>
          <a:ln w="572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664000"/>
            <a:ext cx="914400" cy="5814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77040" y="2171880"/>
            <a:ext cx="1257480" cy="5814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15238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3505320"/>
            <a:ext cx="914400" cy="58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699" y="4865"/>
                </a:moveTo>
                <a:lnTo>
                  <a:pt x="-1800" y="4261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19320" y="5029200"/>
                <a:ext cx="65196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 flipH="1">
            <a:off x="3276720" y="327672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67400" y="1962000"/>
            <a:ext cx="914400" cy="5814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886200"/>
            <a:ext cx="120600" cy="590400"/>
          </a:xfrm>
          <a:custGeom>
            <a:avLst/>
            <a:gdLst/>
            <a:ahLst/>
            <a:rect l="l" t="t" r="r" b="b"/>
            <a:pathLst>
              <a:path w="76" h="372">
                <a:moveTo>
                  <a:pt x="48" y="372"/>
                </a:moveTo>
                <a:cubicBezTo>
                  <a:pt x="76" y="288"/>
                  <a:pt x="76" y="7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5360" y="396252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08000" y="4941720"/>
            <a:ext cx="2303640" cy="1366920"/>
          </a:xfrm>
          <a:prstGeom prst="rect">
            <a:avLst/>
          </a:prstGeom>
          <a:solidFill>
            <a:srgbClr val="ff0000">
              <a:alpha val="2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4941720"/>
            <a:ext cx="934920" cy="1366920"/>
          </a:xfrm>
          <a:prstGeom prst="rect">
            <a:avLst/>
          </a:prstGeom>
          <a:solidFill>
            <a:srgbClr val="3333cc">
              <a:alpha val="20000"/>
            </a:srgbClr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941720"/>
            <a:ext cx="934920" cy="1366920"/>
          </a:xfrm>
          <a:prstGeom prst="rect">
            <a:avLst/>
          </a:prstGeom>
          <a:solidFill>
            <a:srgbClr val="ff00ff">
              <a:alpha val="20000"/>
            </a:srgbClr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efecto de Corio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87640" y="220500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81080" y="373392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69880" y="1844640"/>
            <a:ext cx="40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vío a la derecha 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520" y="5486400"/>
            <a:ext cx="42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vío a la izquierda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5411600">
            <a:off x="3493080" y="39736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4812000">
            <a:off x="4255200" y="405000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581600">
            <a:off x="4076280" y="2705040"/>
            <a:ext cx="1524240" cy="533520"/>
          </a:xfrm>
          <a:custGeom>
            <a:avLst/>
            <a:gdLst>
              <a:gd name="textAreaLeft" fmla="*/ 266760 w 1524240"/>
              <a:gd name="textAreaRight" fmla="*/ 1105200 w 15242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291400">
            <a:off x="3466800" y="2781360"/>
            <a:ext cx="1523880" cy="53316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68360" y="1052640"/>
                <a:ext cx="5256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059280" y="1125360"/>
            <a:ext cx="1296720" cy="86364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claro, la energía se conserv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595520" y="2378160"/>
                <a:ext cx="55641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dα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85800" y="411480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 un volumen de aire, la energía interna cambia si hay transformación entre energía térmica y mecánica y/o por efectos de radiación, conducción o transf. de calor la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Y la masa se conserv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68360" y="1539720"/>
                <a:ext cx="4032360" cy="19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ρ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76212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2103480" cy="3124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6800" y="62578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c. de continuidad para 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0" y="380880"/>
                <a:ext cx="8839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vta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w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vsin</m:t>
                    </m:r>
                    <m:r>
                      <m:t xml:space="preserve">ϕ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wcos</m:t>
                    </m:r>
                    <m:r>
                      <m:t xml:space="preserve">ϕ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0" y="1295280"/>
                <a:ext cx="7086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w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u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0" y="2286000"/>
                <a:ext cx="7088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0" y="3581280"/>
                <a:ext cx="52578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dα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1080" y="0"/>
            <a:ext cx="44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l mome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04812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0" y="4724280"/>
                <a:ext cx="1981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4267080"/>
            <a:ext cx="38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48320" y="4800600"/>
                <a:ext cx="4233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,v,w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8640" y="6056280"/>
                <a:ext cx="1290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ρ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-1440" y="5486400"/>
            <a:ext cx="51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Ecuación de estado para gas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238880" y="2971800"/>
            <a:ext cx="160020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093080" y="5805360"/>
                <a:ext cx="1582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10:34Z</dcterms:created>
  <dc:creator>***</dc:creator>
  <dc:description/>
  <dc:language>en-US</dc:language>
  <cp:lastModifiedBy>Laura Gallardo Klenner</cp:lastModifiedBy>
  <dcterms:modified xsi:type="dcterms:W3CDTF">2009-09-08T18:26:12Z</dcterms:modified>
  <cp:revision>72</cp:revision>
  <dc:subject/>
  <dc:title>GF515 Modelación atmosférica orientada a la dispersión de contaminantes</dc:title>
</cp:coreProperties>
</file>