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16F-3D98-4D7C-A5C0-993A47EA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1DA-77C8-436A-94E2-19D7918A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1EE-770F-49B5-B5EE-9FD55A01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C68-AC16-44FE-B765-9F8A0BE3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73F-BFF6-4AD7-B75F-B3D3ACA3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F8E-4755-4371-81F8-9C353CD6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DD9-81A1-41D8-9F12-1C58E4CF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E53-A445-48F1-A12D-04B0648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5D2-99CE-4455-97AC-F4758085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EC8-3317-4FFB-8B45-61759A4E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F22-C27F-42B8-93CB-DBEDD98C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C71-50E5-46E8-8761-31EA3666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B4D2-80A6-44ED-B702-23EF148C4A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snowball1"/>
          <p:cNvPicPr/>
          <p:nvPr/>
        </p:nvPicPr>
        <p:blipFill>
          <a:blip r:embed="rId1"/>
          <a:stretch/>
        </p:blipFill>
        <p:spPr>
          <a:xfrm>
            <a:off x="914400" y="1752480"/>
            <a:ext cx="356868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6898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3640" y="1413000"/>
            <a:ext cx="3899160" cy="50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isotope records and sediment deposits point to one or more events of an ice-covered Earth around 700 million years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solar radiation and low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ntration probably led to initiation of the events. Continental placement may also have been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up eventually led to the termination of the events and a temporary “hothouse” wor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Evidence for and possible consequences of 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0100hoffman7"/>
          <p:cNvPicPr/>
          <p:nvPr/>
        </p:nvPicPr>
        <p:blipFill>
          <a:blip r:embed="rId1"/>
          <a:stretch/>
        </p:blipFill>
        <p:spPr>
          <a:xfrm>
            <a:off x="457200" y="2514600"/>
            <a:ext cx="4343400" cy="309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0100hoffmangraph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ntinent distribution at 750 M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826920" y="960480"/>
            <a:ext cx="763272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Possible Snowball even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0" r="0" b="18599"/>
          <a:stretch/>
        </p:blipFill>
        <p:spPr>
          <a:xfrm>
            <a:off x="1692360" y="90792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745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1692360" y="6308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ctonics, silicate weathering and organic C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Berner2003"/>
          <p:cNvPicPr/>
          <p:nvPr/>
        </p:nvPicPr>
        <p:blipFill>
          <a:blip r:embed="rId1"/>
          <a:stretch/>
        </p:blipFill>
        <p:spPr>
          <a:xfrm>
            <a:off x="1476360" y="1484280"/>
            <a:ext cx="6254640" cy="3513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238480" y="5260680"/>
            <a:ext cx="48528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Ca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10"/>
          <p:cNvSpPr/>
          <p:nvPr/>
        </p:nvSpPr>
        <p:spPr>
          <a:xfrm>
            <a:off x="1547640" y="2095200"/>
            <a:ext cx="59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carbon burial, weathering and lithosphere outgas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from the DCESS model, available data and assu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dustrial, steady state 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5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9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7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1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63640" y="3284640"/>
          <a:ext cx="5670720" cy="2549520"/>
        </p:xfrm>
        <a:graphic>
          <a:graphicData uri="http://schemas.openxmlformats.org/drawingml/2006/table">
            <a:tbl>
              <a:tblPr/>
              <a:tblGrid>
                <a:gridCol w="2808360"/>
                <a:gridCol w="1062000"/>
                <a:gridCol w="180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c carbon bu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0*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728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carbon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*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15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icate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23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osphere outga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6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36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05"/>
          <p:cNvSpPr/>
          <p:nvPr/>
        </p:nvSpPr>
        <p:spPr>
          <a:xfrm>
            <a:off x="0" y="533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4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39"/>
              <p:cNvSpPr txBox="1"/>
              <p:nvPr/>
            </p:nvSpPr>
            <p:spPr>
              <a:xfrm>
                <a:off x="2627280" y="1341360"/>
                <a:ext cx="3816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ol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g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441"/>
          <p:cNvSpPr/>
          <p:nvPr/>
        </p:nvSpPr>
        <p:spPr>
          <a:xfrm>
            <a:off x="4067280" y="33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42"/>
          <p:cNvSpPr/>
          <p:nvPr/>
        </p:nvSpPr>
        <p:spPr>
          <a:xfrm>
            <a:off x="393840" y="404640"/>
            <a:ext cx="84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verall carbon sinks and sources balance in a steady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Weathering, lithosphere outgassing and climate evolution in the four box model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43000" y="1125360"/>
            <a:ext cx="7620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02852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 = K *{Aw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(TW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TC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1844640"/>
            <a:ext cx="800100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here W is the weathering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, K is a reference weathering rate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Tref is a reference temperature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, Aw, Ac and TWNI, TCNI are the area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mean temperature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 of the ice-free parts of the warm and cold sectors, respectively, and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ctivity factor (eg. bacterial), giving the increase (decrease) in activity for a 10ºC temperature increase (decrease)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 is taken as the modern mean temperature (15ºC),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aken to a standard value (2) and K is calculated assuming a modern balance of volcanic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assing, Volc (taken as 1.4 x 10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weathering.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simplified, time-dependent governing equation for p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may be written as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16000" y="5229360"/>
            <a:ext cx="69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(pC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/dt = (Volc(t)-W(t))/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here Va is the atmospheric gas content (1.733 x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moles/atm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Roberto</cp:lastModifiedBy>
  <dcterms:modified xsi:type="dcterms:W3CDTF">2009-10-29T17:39:36Z</dcterms:modified>
  <cp:revision>120</cp:revision>
  <dc:subject/>
  <dc:title>The Role of Deep-decoupling Oscillations in Glacial Climate Variability</dc:title>
</cp:coreProperties>
</file>