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FC9-CCE5-45BE-B6E5-7ABC9338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F5F3-D9DA-499B-8067-3DB799F9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B2D5-975A-4407-A5D7-A44079B2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0AF1-7454-457F-A78F-8217CFBC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09E9-92C6-44C5-9437-EF6ECDAC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77EC-2241-4729-983F-41C41989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C30D-FE72-4522-B594-F3A233E8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652D-AF17-41A8-A46A-E4CAF7DF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AC0-4DF5-4FF4-B9BC-760357BB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B945-A797-457B-84EA-965CA5A2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002A-22D1-4EE2-A390-B34CADEC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D0DE-69FB-46A6-A110-075E3869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11/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0B56-EA58-42BB-97EF-8A4C8BA4FD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Snowball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snowball1"/>
          <p:cNvPicPr/>
          <p:nvPr/>
        </p:nvPicPr>
        <p:blipFill>
          <a:blip r:embed="rId1"/>
          <a:stretch/>
        </p:blipFill>
        <p:spPr>
          <a:xfrm>
            <a:off x="914400" y="1752480"/>
            <a:ext cx="3568680" cy="43434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6689880" y="301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003640" y="1413000"/>
            <a:ext cx="3899160" cy="50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bon isotope records and sediment deposits point to one or more events of an ice-covered Earth around 700 million years 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solar radiation and low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centration probably led to initiation of the events. Continental placement may also have been import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ildup eventually led to the termination of the events and a temporary “hothouse” worl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Evidence for and possible consequences of Snowball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0100hoffman7"/>
          <p:cNvPicPr/>
          <p:nvPr/>
        </p:nvPicPr>
        <p:blipFill>
          <a:blip r:embed="rId1"/>
          <a:stretch/>
        </p:blipFill>
        <p:spPr>
          <a:xfrm>
            <a:off x="457200" y="2514600"/>
            <a:ext cx="4343400" cy="3098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0100hoffmangraph"/>
          <p:cNvPicPr/>
          <p:nvPr/>
        </p:nvPicPr>
        <p:blipFill>
          <a:blip r:embed="rId2"/>
          <a:stretch/>
        </p:blipFill>
        <p:spPr>
          <a:xfrm>
            <a:off x="5181480" y="2514600"/>
            <a:ext cx="3581640" cy="31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Continent distribution at 750 Ma B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826920" y="960480"/>
            <a:ext cx="7632720" cy="58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Possible Snowball event 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rcRect l="0" t="0" r="0" b="18599"/>
          <a:stretch/>
        </p:blipFill>
        <p:spPr>
          <a:xfrm>
            <a:off x="1692360" y="90792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57840" y="6095880"/>
            <a:ext cx="7452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 flipH="1">
            <a:off x="1692360" y="630864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ectonics, silicate weathering and organic C cyc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Berner2003"/>
          <p:cNvPicPr/>
          <p:nvPr/>
        </p:nvPicPr>
        <p:blipFill>
          <a:blip r:embed="rId1"/>
          <a:stretch/>
        </p:blipFill>
        <p:spPr>
          <a:xfrm>
            <a:off x="1476360" y="1484280"/>
            <a:ext cx="6254640" cy="35132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2238480" y="5260680"/>
            <a:ext cx="4852800" cy="11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Ca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aC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+ 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10"/>
          <p:cNvSpPr/>
          <p:nvPr/>
        </p:nvSpPr>
        <p:spPr>
          <a:xfrm>
            <a:off x="1547640" y="2095200"/>
            <a:ext cx="596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c carbon burial, weathering and lithosphere outgass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s from the DCESS model, available data and assum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industrial, steady state 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15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19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23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27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31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63640" y="3284640"/>
          <a:ext cx="5670720" cy="2549520"/>
        </p:xfrm>
        <a:graphic>
          <a:graphicData uri="http://schemas.openxmlformats.org/drawingml/2006/table">
            <a:tbl>
              <a:tblPr/>
              <a:tblGrid>
                <a:gridCol w="2808360"/>
                <a:gridCol w="1062000"/>
                <a:gridCol w="1800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mb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d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ic carbon bu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s-E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Or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20*10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lC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728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tC yr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c carbon weath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es-E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Or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5*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C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0415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tC yr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licate weath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es-E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37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C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0923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tC yr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hosphere outgas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6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C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1236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tC yr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405"/>
          <p:cNvSpPr/>
          <p:nvPr/>
        </p:nvSpPr>
        <p:spPr>
          <a:xfrm>
            <a:off x="0" y="533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40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39"/>
              <p:cNvSpPr txBox="1"/>
              <p:nvPr/>
            </p:nvSpPr>
            <p:spPr>
              <a:xfrm>
                <a:off x="2627280" y="1341360"/>
                <a:ext cx="38163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Volc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g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Text Box 441"/>
          <p:cNvSpPr/>
          <p:nvPr/>
        </p:nvSpPr>
        <p:spPr>
          <a:xfrm>
            <a:off x="4067280" y="33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42"/>
          <p:cNvSpPr/>
          <p:nvPr/>
        </p:nvSpPr>
        <p:spPr>
          <a:xfrm>
            <a:off x="393840" y="404640"/>
            <a:ext cx="84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Overall carbon sinks and sources balance in a steady st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Weathering, lithosphere outgassing and climate evolution in the four box model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143000" y="1125360"/>
            <a:ext cx="7620120" cy="8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102852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 = K *{Aw*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(TWNI-Tref)/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*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TCNI-Tref)/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39640" y="1844640"/>
            <a:ext cx="8001000" cy="36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where W is the weathering (moles 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-C s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), K is a reference weathering rate (moles 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-C m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) and Tref is a reference temperature (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), Aw, Ac and TWNI, TCNI are the areas (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) and mean temperatures (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) of the ice-free parts of the warm and cold sectors, respectively, and Q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activity factor (eg. bacterial), giving the increase (decrease) in activity for a 10ºC temperature increase (decrease)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f is taken as the modern mean temperature (15ºC), Q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aken to a standard value (2) and K is calculated assuming a modern balance of volcanic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tgassing, Volc (taken as 1.4 x 10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moles 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-C s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) and weathering.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a simplified, time-dependent governing equation for p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may be written as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116000" y="5229360"/>
            <a:ext cx="691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(pC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/dt = (Volc(t)-W(t))/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where Va is the atmospheric gas content (1.733 x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moles/atm)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3:50:50Z</dcterms:created>
  <dc:creator>MBK</dc:creator>
  <dc:description/>
  <dc:language>en-US</dc:language>
  <cp:lastModifiedBy>Roberto</cp:lastModifiedBy>
  <dcterms:modified xsi:type="dcterms:W3CDTF">2009-10-29T17:39:36Z</dcterms:modified>
  <cp:revision>120</cp:revision>
  <dc:subject/>
  <dc:title>The Role of Deep-decoupling Oscillations in Glacial Climate Variability</dc:title>
</cp:coreProperties>
</file>