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35D-0326-495E-9B55-D0FA3B86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04D-8D51-43E4-9862-9E19A73B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892-F204-4E01-A3B2-9B1A4445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F49-B0FF-4123-97A2-D3504DD9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1CC-3EF3-4518-A5D3-ACFDF64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AF5-0E87-4AEA-A990-1C3BB30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1B6-96DF-412B-B7FE-DFE90ED6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485-FD0E-4244-BF6A-49AA675A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E24-85A2-4400-8569-FC3FBBF2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7C1-6497-426B-922F-0EB31C3E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9FB-7ADC-42AA-A887-5F74C267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904-054A-4C33-A0CF-83C868E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5266-C969-4BF5-A3BC-1C4AB4C14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snowball1"/>
          <p:cNvPicPr/>
          <p:nvPr/>
        </p:nvPicPr>
        <p:blipFill>
          <a:blip r:embed="rId1"/>
          <a:stretch/>
        </p:blipFill>
        <p:spPr>
          <a:xfrm>
            <a:off x="914400" y="1752480"/>
            <a:ext cx="356868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898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03640" y="1413000"/>
            <a:ext cx="3899160" cy="50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isotope records and sediment deposits point to one or more events of an ice-covered Earth around 700 million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solar radiation and low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ntration probably led to initiation of the events. Continental placement may also have been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ildup eventually led to the termination of the events and a temporary “hothouse” wor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Evidence for and possible consequences of Snowball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0100hoffman7"/>
          <p:cNvPicPr/>
          <p:nvPr/>
        </p:nvPicPr>
        <p:blipFill>
          <a:blip r:embed="rId1"/>
          <a:stretch/>
        </p:blipFill>
        <p:spPr>
          <a:xfrm>
            <a:off x="457200" y="2514600"/>
            <a:ext cx="4343400" cy="309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0100hoffmangraph"/>
          <p:cNvPicPr/>
          <p:nvPr/>
        </p:nvPicPr>
        <p:blipFill>
          <a:blip r:embed="rId2"/>
          <a:stretch/>
        </p:blipFill>
        <p:spPr>
          <a:xfrm>
            <a:off x="5181480" y="2514600"/>
            <a:ext cx="358164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ntinent distribution at 750 M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826920" y="960480"/>
            <a:ext cx="7632720" cy="58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Possible Snowball even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0" b="18599"/>
          <a:stretch/>
        </p:blipFill>
        <p:spPr>
          <a:xfrm>
            <a:off x="1692360" y="90792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745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 flipH="1">
            <a:off x="1692360" y="6308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ctonics, silicate weathering and organic C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Berner2003"/>
          <p:cNvPicPr/>
          <p:nvPr/>
        </p:nvPicPr>
        <p:blipFill>
          <a:blip r:embed="rId1"/>
          <a:stretch/>
        </p:blipFill>
        <p:spPr>
          <a:xfrm>
            <a:off x="1476360" y="1484280"/>
            <a:ext cx="6254640" cy="3513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2238480" y="5260680"/>
            <a:ext cx="485280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a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Si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10"/>
          <p:cNvSpPr/>
          <p:nvPr/>
        </p:nvSpPr>
        <p:spPr>
          <a:xfrm>
            <a:off x="1547640" y="2095200"/>
            <a:ext cx="596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carbon burial, weathering and lithosphere outgas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from the DCESS model, available data and assu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industrial, steady state 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5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9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27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31"/>
          <p:cNvSpPr/>
          <p:nvPr/>
        </p:nvSpPr>
        <p:spPr>
          <a:xfrm>
            <a:off x="0" y="1525680"/>
            <a:ext cx="847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63640" y="3284640"/>
          <a:ext cx="5670720" cy="2549520"/>
        </p:xfrm>
        <a:graphic>
          <a:graphicData uri="http://schemas.openxmlformats.org/drawingml/2006/table">
            <a:tbl>
              <a:tblPr/>
              <a:tblGrid>
                <a:gridCol w="2808360"/>
                <a:gridCol w="1062000"/>
                <a:gridCol w="180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c carbon bu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0*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728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carbon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rg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5*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415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icate weath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s-E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3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0923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hosphere outga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6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C s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.1236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tC yr</a:t>
                      </a:r>
                      <a:r>
                        <a:rPr b="0" i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05"/>
          <p:cNvSpPr/>
          <p:nvPr/>
        </p:nvSpPr>
        <p:spPr>
          <a:xfrm>
            <a:off x="0" y="533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4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39"/>
              <p:cNvSpPr txBox="1"/>
              <p:nvPr/>
            </p:nvSpPr>
            <p:spPr>
              <a:xfrm>
                <a:off x="2627280" y="1341360"/>
                <a:ext cx="3816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ol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rg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441"/>
          <p:cNvSpPr/>
          <p:nvPr/>
        </p:nvSpPr>
        <p:spPr>
          <a:xfrm>
            <a:off x="406728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42"/>
          <p:cNvSpPr/>
          <p:nvPr/>
        </p:nvSpPr>
        <p:spPr>
          <a:xfrm>
            <a:off x="393840" y="404640"/>
            <a:ext cx="84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verall carbon sinks and sources balance in a steady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Weathering, lithosphere outgassing and climate evolution in the four box model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43000" y="1125360"/>
            <a:ext cx="7620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02852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 = K *{Aw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ourier New"/>
              </a:rPr>
              <a:t>(TW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TCNI-Tref)/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39640" y="1844640"/>
            <a:ext cx="800100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here W is the weathering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, K is a reference weathering rate (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Tref is a reference temperature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, Aw, Ac and TWNI, TCNI are the area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mean temperatures (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C) of the ice-free parts of the warm and cold sectors, respectively, and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activity factor (eg. bacterial), giving the increase (decrease) in activity for a 10ºC temperature increase (decrease)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f is taken as the modern mean temperature (15ºC), Q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ken to a standard value (2) and K is calculated assuming a modern balance of volcanic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gassing, Volc (taken as 1.4 x 10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moles 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-C s</a:t>
            </a:r>
            <a:r>
              <a:rPr b="0" lang="da-DK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) and weathering.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a simplified, time-dependent governing equation for p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may be written as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116000" y="5229360"/>
            <a:ext cx="69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(pC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/dt = (Volc(t)-W(t))/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here Va is the atmospheric gas content (1.733 x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moles/atm)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Roberto</cp:lastModifiedBy>
  <dcterms:modified xsi:type="dcterms:W3CDTF">2009-10-29T17:39:36Z</dcterms:modified>
  <cp:revision>120</cp:revision>
  <dc:subject/>
  <dc:title>The Role of Deep-decoupling Oscillations in Glacial Climate Variability</dc:title>
</cp:coreProperties>
</file>