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B9FC-1CDA-4040-BEFF-2E69AAE0C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41BA-A738-43B7-8782-201F6367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9587-BD7C-4F20-8084-1599DD438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CEAE-7742-4454-ACAC-C504D1766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0562-4533-4477-95B4-48643789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36C9-E439-49DB-BD1B-56C94BC7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4362-A90E-426F-BEC2-5C9DFC71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23AB-B9A1-47D7-9A1F-15A7F465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F32C-C1D3-4126-A46E-114950D8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4904-E950-4A34-94DF-2DC96CD4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2213-6A2A-40AC-B9A3-E3823F8A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D095-957A-42E9-B569-E0719188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11/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B92F-3060-4ADA-9194-D06EAE4960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Snowball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snowball1"/>
          <p:cNvPicPr/>
          <p:nvPr/>
        </p:nvPicPr>
        <p:blipFill>
          <a:blip r:embed="rId1"/>
          <a:stretch/>
        </p:blipFill>
        <p:spPr>
          <a:xfrm>
            <a:off x="914400" y="1752480"/>
            <a:ext cx="3568680" cy="43434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6689880" y="3013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5003640" y="1413000"/>
            <a:ext cx="3899160" cy="50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bon isotope records and sediment deposits point to one or more events of an ice-covered Earth around 700 million years 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solar radiation and low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centration probably led to initiation of the events. Continental placement may also have been importa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uildup eventually led to the termination of the events and a temporary “hothouse” worl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Evidence for and possible consequences of Snowball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0100hoffman7"/>
          <p:cNvPicPr/>
          <p:nvPr/>
        </p:nvPicPr>
        <p:blipFill>
          <a:blip r:embed="rId1"/>
          <a:stretch/>
        </p:blipFill>
        <p:spPr>
          <a:xfrm>
            <a:off x="457200" y="2514600"/>
            <a:ext cx="4343400" cy="3098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0100hoffmangraph"/>
          <p:cNvPicPr/>
          <p:nvPr/>
        </p:nvPicPr>
        <p:blipFill>
          <a:blip r:embed="rId2"/>
          <a:stretch/>
        </p:blipFill>
        <p:spPr>
          <a:xfrm>
            <a:off x="5181480" y="2514600"/>
            <a:ext cx="3581640" cy="31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Continent distribution at 750 Ma B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826920" y="960480"/>
            <a:ext cx="7632720" cy="58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Possible Snowball event seq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rcRect l="0" t="0" r="0" b="18599"/>
          <a:stretch/>
        </p:blipFill>
        <p:spPr>
          <a:xfrm>
            <a:off x="1692360" y="907920"/>
            <a:ext cx="5400720" cy="5400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57840" y="6095880"/>
            <a:ext cx="7452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 flipH="1">
            <a:off x="1692360" y="6308640"/>
            <a:ext cx="54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ectonics, silicate weathering and organic C cyc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Berner2003"/>
          <p:cNvPicPr/>
          <p:nvPr/>
        </p:nvPicPr>
        <p:blipFill>
          <a:blip r:embed="rId1"/>
          <a:stretch/>
        </p:blipFill>
        <p:spPr>
          <a:xfrm>
            <a:off x="1476360" y="1484280"/>
            <a:ext cx="6254640" cy="35132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7"/>
          <p:cNvSpPr/>
          <p:nvPr/>
        </p:nvSpPr>
        <p:spPr>
          <a:xfrm>
            <a:off x="2238480" y="5260680"/>
            <a:ext cx="4852800" cy="11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+ CaSi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CaC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+ Si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+ 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10"/>
          <p:cNvSpPr/>
          <p:nvPr/>
        </p:nvSpPr>
        <p:spPr>
          <a:xfrm>
            <a:off x="1547640" y="2095200"/>
            <a:ext cx="596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c carbon burial, weathering and lithosphere outgass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tes from the DCESS model, available data and assum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-industrial, steady state bal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15"/>
          <p:cNvSpPr/>
          <p:nvPr/>
        </p:nvSpPr>
        <p:spPr>
          <a:xfrm>
            <a:off x="0" y="1525680"/>
            <a:ext cx="847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19"/>
          <p:cNvSpPr/>
          <p:nvPr/>
        </p:nvSpPr>
        <p:spPr>
          <a:xfrm>
            <a:off x="0" y="1525680"/>
            <a:ext cx="847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23"/>
          <p:cNvSpPr/>
          <p:nvPr/>
        </p:nvSpPr>
        <p:spPr>
          <a:xfrm>
            <a:off x="0" y="1525680"/>
            <a:ext cx="847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27"/>
          <p:cNvSpPr/>
          <p:nvPr/>
        </p:nvSpPr>
        <p:spPr>
          <a:xfrm>
            <a:off x="0" y="1525680"/>
            <a:ext cx="847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31"/>
          <p:cNvSpPr/>
          <p:nvPr/>
        </p:nvSpPr>
        <p:spPr>
          <a:xfrm>
            <a:off x="0" y="1525680"/>
            <a:ext cx="847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763640" y="3284640"/>
          <a:ext cx="5670720" cy="2549520"/>
        </p:xfrm>
        <a:graphic>
          <a:graphicData uri="http://schemas.openxmlformats.org/drawingml/2006/table">
            <a:tbl>
              <a:tblPr/>
              <a:tblGrid>
                <a:gridCol w="2808360"/>
                <a:gridCol w="1062000"/>
                <a:gridCol w="1800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pe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mb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ated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anic carbon bu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s-E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Or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20*10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lC s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0728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tC yr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c carbon weath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lang="es-E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Or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95*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lC s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0415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tC yr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licate weath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lang="es-E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S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37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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lC s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0923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tC yr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thosphere outgass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6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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lC s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1236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tC yr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405"/>
          <p:cNvSpPr/>
          <p:nvPr/>
        </p:nvSpPr>
        <p:spPr>
          <a:xfrm>
            <a:off x="0" y="533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40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39"/>
              <p:cNvSpPr txBox="1"/>
              <p:nvPr/>
            </p:nvSpPr>
            <p:spPr>
              <a:xfrm>
                <a:off x="2627280" y="1341360"/>
                <a:ext cx="38163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Volc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l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rg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Text Box 441"/>
          <p:cNvSpPr/>
          <p:nvPr/>
        </p:nvSpPr>
        <p:spPr>
          <a:xfrm>
            <a:off x="4067280" y="33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42"/>
          <p:cNvSpPr/>
          <p:nvPr/>
        </p:nvSpPr>
        <p:spPr>
          <a:xfrm>
            <a:off x="393840" y="404640"/>
            <a:ext cx="84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Overall carbon sinks and sources balance in a steady st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Weathering, lithosphere outgassing and climate evolution in the four box model mod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143000" y="1125360"/>
            <a:ext cx="7620120" cy="8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102852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W = K *{Aw*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Courier New"/>
              </a:rPr>
              <a:t>(TWNI-Tref)/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*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TCNI-Tref)/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39640" y="1844640"/>
            <a:ext cx="8001000" cy="36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where W is the weathering (moles CO</a:t>
            </a:r>
            <a:r>
              <a:rPr b="0" lang="da-DK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-C s</a:t>
            </a:r>
            <a:r>
              <a:rPr b="0" lang="da-DK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), K is a reference weathering rate (moles CO</a:t>
            </a:r>
            <a:r>
              <a:rPr b="0" lang="da-DK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-C m</a:t>
            </a:r>
            <a:r>
              <a:rPr b="0" lang="da-DK" sz="18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da-DK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) and Tref is a reference temperature (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C), Aw, Ac and TWNI, TCNI are the areas (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da-DK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) and mean temperatures (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C) of the ice-free parts of the warm and cold sectors, respectively, and Q</a:t>
            </a:r>
            <a:r>
              <a:rPr b="0" lang="da-DK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n activity factor (eg. bacterial), giving the increase (decrease) in activity for a 10ºC temperature increase (decrease)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f is taken as the modern mean temperature (15ºC), Q</a:t>
            </a:r>
            <a:r>
              <a:rPr b="0" lang="da-DK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aken to a standard value (2) and K is calculated assuming a modern balance of volcanic 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da-DK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utgassing, Volc (taken as 1.4 x 10</a:t>
            </a:r>
            <a:r>
              <a:rPr b="0" lang="da-DK" sz="18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moles CO</a:t>
            </a:r>
            <a:r>
              <a:rPr b="0" lang="da-DK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-C s</a:t>
            </a:r>
            <a:r>
              <a:rPr b="0" lang="da-DK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) and weathering.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a simplified, time-dependent governing equation for p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da-DK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 may be written as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116000" y="5229360"/>
            <a:ext cx="6912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(pCO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/dt = (Volc(t)-W(t))/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where Va is the atmospheric gas content (1.733 x 10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moles/atm)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0T13:50:50Z</dcterms:created>
  <dc:creator>MBK</dc:creator>
  <dc:description/>
  <dc:language>en-US</dc:language>
  <cp:lastModifiedBy>Roberto</cp:lastModifiedBy>
  <dcterms:modified xsi:type="dcterms:W3CDTF">2009-10-29T17:39:36Z</dcterms:modified>
  <cp:revision>120</cp:revision>
  <dc:subject/>
  <dc:title>The Role of Deep-decoupling Oscillations in Glacial Climate Variability</dc:title>
</cp:coreProperties>
</file>