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40CF-ED46-4F50-9F30-C27CFF66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FE6-94C6-4CCF-A258-9BD84469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3A0-ECCA-46CB-9230-AF8FDA52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1BA-20D4-40D9-ACBD-B03B96BD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BB1-68C5-4BC4-A3AF-09B4FE7C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1E1-A138-4A1E-8986-1C5694A7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38A-7A38-490C-A1DE-EF4E020C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398-72F8-4614-9F9D-DB6E97A3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9F2-BA52-4532-A14C-C8FCFDD4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165-B0FB-4E79-BF3E-C81C6984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DAE-5CC4-488E-8E67-DC9DE9DC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FCF-8108-4343-B4A9-A9433EB3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11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7502-8AE4-434C-ABBB-7918584448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snowball1"/>
          <p:cNvPicPr/>
          <p:nvPr/>
        </p:nvPicPr>
        <p:blipFill>
          <a:blip r:embed="rId1"/>
          <a:stretch/>
        </p:blipFill>
        <p:spPr>
          <a:xfrm>
            <a:off x="914400" y="1752480"/>
            <a:ext cx="356868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68988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03640" y="1413000"/>
            <a:ext cx="3899160" cy="50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isotope records and sediment deposits point to one or more events of an ice-covered Earth around 700 million years 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solar radiation and low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ntration probably led to initiation of the events. Continental placement may also have been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ildup eventually led to the termination of the events and a temporary “hothouse” wor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Evidence for and possible consequences of 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0100hoffman7"/>
          <p:cNvPicPr/>
          <p:nvPr/>
        </p:nvPicPr>
        <p:blipFill>
          <a:blip r:embed="rId1"/>
          <a:stretch/>
        </p:blipFill>
        <p:spPr>
          <a:xfrm>
            <a:off x="457200" y="2514600"/>
            <a:ext cx="4343400" cy="309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0100hoffmangraph"/>
          <p:cNvPicPr/>
          <p:nvPr/>
        </p:nvPicPr>
        <p:blipFill>
          <a:blip r:embed="rId2"/>
          <a:stretch/>
        </p:blipFill>
        <p:spPr>
          <a:xfrm>
            <a:off x="5181480" y="2514600"/>
            <a:ext cx="358164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ontinent distribution at 750 Ma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826920" y="960480"/>
            <a:ext cx="763272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Possible Snowball even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0" t="0" r="0" b="18599"/>
          <a:stretch/>
        </p:blipFill>
        <p:spPr>
          <a:xfrm>
            <a:off x="1692360" y="90792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57840" y="6095880"/>
            <a:ext cx="745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 flipH="1">
            <a:off x="1692360" y="630864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ctonics, silicate weathering and organic C 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Berner2003"/>
          <p:cNvPicPr/>
          <p:nvPr/>
        </p:nvPicPr>
        <p:blipFill>
          <a:blip r:embed="rId1"/>
          <a:stretch/>
        </p:blipFill>
        <p:spPr>
          <a:xfrm>
            <a:off x="1476360" y="1484280"/>
            <a:ext cx="6254640" cy="3513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2238480" y="5260680"/>
            <a:ext cx="485280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Ca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10"/>
          <p:cNvSpPr/>
          <p:nvPr/>
        </p:nvSpPr>
        <p:spPr>
          <a:xfrm>
            <a:off x="1547640" y="2095200"/>
            <a:ext cx="596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carbon burial, weathering and lithosphere outgas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s from the DCESS model, available data and assu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industrial, steady state 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5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19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27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1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63640" y="3284640"/>
          <a:ext cx="5670720" cy="2549520"/>
        </p:xfrm>
        <a:graphic>
          <a:graphicData uri="http://schemas.openxmlformats.org/drawingml/2006/table">
            <a:tbl>
              <a:tblPr/>
              <a:tblGrid>
                <a:gridCol w="2808360"/>
                <a:gridCol w="1062000"/>
                <a:gridCol w="1800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c carbon bu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0*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728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carbon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5*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415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icate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37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923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hosphere outga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6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236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05"/>
          <p:cNvSpPr/>
          <p:nvPr/>
        </p:nvSpPr>
        <p:spPr>
          <a:xfrm>
            <a:off x="0" y="533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4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39"/>
              <p:cNvSpPr txBox="1"/>
              <p:nvPr/>
            </p:nvSpPr>
            <p:spPr>
              <a:xfrm>
                <a:off x="2627280" y="1341360"/>
                <a:ext cx="38163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olc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g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441"/>
          <p:cNvSpPr/>
          <p:nvPr/>
        </p:nvSpPr>
        <p:spPr>
          <a:xfrm>
            <a:off x="4067280" y="33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42"/>
          <p:cNvSpPr/>
          <p:nvPr/>
        </p:nvSpPr>
        <p:spPr>
          <a:xfrm>
            <a:off x="393840" y="404640"/>
            <a:ext cx="84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verall carbon sinks and sources balance in a steady 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Weathering, lithosphere outgassing and climate evolution in the four box model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43000" y="1125360"/>
            <a:ext cx="762012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102852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 = K *{Aw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(TW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TC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9640" y="1844640"/>
            <a:ext cx="800100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here W is the weathering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, K is a reference weathering rate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Tref is a reference temperature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, Aw, Ac and TWNI, TCNI are the area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mean temperature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 of the ice-free parts of the warm and cold sectors, respectively, and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activity factor (eg. bacterial), giving the increase (decrease) in activity for a 10ºC temperature increase (decrease)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f is taken as the modern mean temperature (15ºC),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aken to a standard value (2) and K is calculated assuming a modern balance of volcanic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gassing, Volc (taken as 1.4 x 10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weathering.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a simplified, time-dependent governing equation for p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may be written as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116000" y="5229360"/>
            <a:ext cx="69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(pC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/dt = (Volc(t)-W(t))/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where Va is the atmospheric gas content (1.733 x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moles/atm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50:50Z</dcterms:created>
  <dc:creator>MBK</dc:creator>
  <dc:description/>
  <dc:language>en-US</dc:language>
  <cp:lastModifiedBy>Roberto</cp:lastModifiedBy>
  <dcterms:modified xsi:type="dcterms:W3CDTF">2009-10-29T17:39:36Z</dcterms:modified>
  <cp:revision>120</cp:revision>
  <dc:subject/>
  <dc:title>The Role of Deep-decoupling Oscillations in Glacial Climate Variability</dc:title>
</cp:coreProperties>
</file>